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0F9-C108-4BE9-8A0E-9B3199AB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A78-970D-414A-9DDE-5308668A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62F-FB6B-405D-9E28-E6916E63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ABD-7FB3-4586-9DF5-5EF06D87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1D9-53E3-4192-8C39-F358837F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C07-FC74-4880-BF38-299E1092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F70-61FD-4E06-AA3E-3262D5A6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A2F-CEE0-425D-8C2D-121651AF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0E5-E997-4E44-A0FE-9D7E9754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D44-D4A1-420C-9610-945D59C4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A21-FC77-41FF-910A-7D89CC0D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AE3-E5B6-4417-A038-F487072C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2204-9AAE-4B34-BD2A-A5FCDB736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643800"/>
            <a:ext cx="755640" cy="21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5733720"/>
            <a:ext cx="48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简洁光盘</a:t>
            </a: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5662440"/>
            <a:ext cx="4824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629400"/>
            <a:ext cx="1306440" cy="23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9760" y="64533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5-01-08T07:15:55Z</dcterms:modified>
  <cp:revision>81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