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B78-7DA1-46BF-8648-A8943653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6FD-6EC1-41B2-B962-6B283B6E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8F7-B2AC-430C-A3F1-4C9FA139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549-76F4-4E86-B8E6-2A14FF74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4C05-824A-49F7-BDD6-E29FDF67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6704-6136-4DBB-88F6-54735A0D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CF08-41EF-4FD7-8222-C02E07FE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7661-F4E1-4210-B0E3-0AF48025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A17A-8EC6-4FF9-B873-015CAEC5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000" y="259920"/>
            <a:ext cx="73436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A660-6C7B-44F1-AB0C-582C8099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30A7-2DBD-4A0F-BCC4-404C1034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BC2-C518-4222-AFA8-1AEBD26F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5611-5D40-43EB-BE39-332F9E44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8845-695E-457A-A706-6A3458E1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176F-E609-4C27-878C-1CD10FC0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EA85-6CA9-454F-A595-B291D795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0BE4-CE39-443C-88E9-C7BA841F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EC9-33E4-4D4D-902C-8E4FEF91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20D-8755-4819-A466-A49B86FD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C7C-B146-42E1-8C68-9C434B9C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6000" y="259920"/>
            <a:ext cx="73436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AE7-1DA2-4990-BD0F-0A50CA01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675-40F8-44B9-87EC-110B1CB7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3A5-96E5-44BE-B1C1-4B059763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696-1355-4171-AB8C-12B7EF4A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AD93-6A25-44A8-9470-706B77AE5D4F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33A5-BACF-4E32-AA5D-DDE584E4DA27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0c0c0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20720" y="4421160"/>
            <a:ext cx="302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双击添加署名</a:t>
            </a:r>
            <a:r>
              <a:rPr b="1" lang="en-US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公司名</a:t>
            </a:r>
            <a:r>
              <a:rPr b="1" lang="en-US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日期</a:t>
            </a:r>
            <a:endParaRPr b="1" lang="en-US" sz="2400" spc="-1" strike="noStrike">
              <a:ln w="0">
                <a:noFill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" name=""/>
          <p:cNvSpPr/>
          <p:nvPr/>
        </p:nvSpPr>
        <p:spPr>
          <a:xfrm>
            <a:off x="-770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1120" y="1209600"/>
            <a:ext cx="7527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00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51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00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51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00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6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5645160" y="4005360"/>
            <a:ext cx="1738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Arial"/>
                <a:ea typeface="黑体"/>
              </a:rPr>
              <a:t>谢谢观赏！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黑体"/>
              </a:rPr>
              <a:t>Thanks!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b5713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b5713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b5713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/>
  <dc:description/>
  <dc:language>en-US</dc:language>
  <cp:lastModifiedBy>雨林木风</cp:lastModifiedBy>
  <dcterms:modified xsi:type="dcterms:W3CDTF">2015-01-07T14:14:57Z</dcterms:modified>
  <cp:revision>1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