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24B1-94F1-4B51-8DC4-A67044B85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8238-EDE7-48E3-B2C9-C65A8BADA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21A8-9CAC-4A72-B1E1-B5FB73173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9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55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600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9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55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46D3-96BE-4EA3-B4C8-99EC0DB40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5EDC-87FE-4237-88BF-581113D0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C59E-FDF2-4092-AB05-1502405D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964D1-3610-48B8-AA78-66363A9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3770-7C09-4FFB-982F-FA8C4A1E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9609B-573C-4533-97F5-4919424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77708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0B82-C4F7-4281-9205-2B34B1B7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D0964-7B82-4142-8872-73F5BF8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89F0-D946-4EEA-BAAE-A62F486E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E700-116C-4A5B-B90B-3C17DD5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17B5-25BD-494C-A2C9-7A0668A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B56FC-AF52-4267-86B7-771ED82E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4561-E3E7-44A1-A0F3-B1A36407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09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5560" y="113940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1600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209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5560" y="3727080"/>
            <a:ext cx="2480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2EB39-88FC-4535-A234-F7169C9D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735C-77AA-45A7-87A9-797E023D6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AA39-A3DA-4599-A4A8-2F75FD0AA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CC66-88A0-4EB6-A723-BC8E69105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777708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E77B-F42D-41ED-AEE6-B81AFAB52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461E-E1AD-4A9A-B9F3-2A5135022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760" y="372708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762E-F26B-4FFA-B3FF-E9DD5BBD0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600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760" y="1139400"/>
            <a:ext cx="3759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6000" y="3727080"/>
            <a:ext cx="7704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5FCA-9EFD-411A-A124-95770AB60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292720" y="6453360"/>
            <a:ext cx="3851280" cy="40464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0"/>
            <a:ext cx="1042920" cy="83664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26920"/>
            <a:ext cx="8820000" cy="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1042920" cy="595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16000" y="1139400"/>
            <a:ext cx="770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92d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962320" y="64638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7339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D81B-D965-4168-968D-AD9A72D99D8E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536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Click to edit the title text format</a:t>
            </a:r>
            <a:endParaRPr b="1" i="1" lang="en-US" sz="4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EAB-ACC6-4CEE-91F5-C14CC26C761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85080" y="18900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0076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83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102120"/>
            <a:ext cx="9139320" cy="86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3952800"/>
            <a:ext cx="914400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5394240"/>
            <a:ext cx="216000" cy="216000"/>
          </a:xfrm>
          <a:prstGeom prst="rect">
            <a:avLst/>
          </a:prstGeom>
          <a:solidFill>
            <a:srgbClr val="36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692d0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26560" y="5805360"/>
            <a:ext cx="48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536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金融分析</a:t>
            </a:r>
            <a:r>
              <a:rPr b="1" i="1" lang="zh-CN" sz="4400" spc="-1" strike="noStrike">
                <a:solidFill>
                  <a:srgbClr val="3b0076"/>
                </a:solidFill>
                <a:latin typeface="Verdana"/>
                <a:ea typeface="宋体"/>
              </a:rPr>
              <a:t>PPT</a:t>
            </a:r>
            <a:r>
              <a:rPr b="1" i="1" lang="en-US" sz="4400" spc="-1" strike="noStrike">
                <a:solidFill>
                  <a:srgbClr val="3b0076"/>
                </a:solidFill>
                <a:latin typeface="Verdana"/>
              </a:rPr>
              <a:t>模板</a:t>
            </a:r>
            <a:endParaRPr b="1" i="1" lang="en-US" sz="4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124000" y="3213000"/>
            <a:ext cx="482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692d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692d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132000" y="5300640"/>
            <a:ext cx="485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abcc4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b0076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abcc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0076"/>
              </a:solidFill>
              <a:latin typeface="Verdan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b0076"/>
                </a:solidFill>
                <a:latin typeface="Arial"/>
                <a:ea typeface="Gulim"/>
              </a:rPr>
              <a:t>Contents</a:t>
            </a:r>
            <a:endParaRPr b="1" i="1" lang="en-US" sz="32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65a"/>
              </a:gs>
              <a:gs pos="50000">
                <a:srgbClr val="5abcc4"/>
              </a:gs>
              <a:gs pos="100000">
                <a:srgbClr val="29565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35f"/>
              </a:gs>
              <a:gs pos="50000">
                <a:srgbClr val="3692d0"/>
              </a:gs>
              <a:gs pos="100000">
                <a:srgbClr val="18435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305f"/>
              </a:gs>
              <a:gs pos="50000">
                <a:srgbClr val="a26ad0"/>
              </a:gs>
              <a:gs pos="100000">
                <a:srgbClr val="4a305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3037"/>
              </a:gs>
              <a:gs pos="50000">
                <a:srgbClr val="3b6979"/>
              </a:gs>
              <a:gs pos="100000">
                <a:srgbClr val="1b303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 sty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472760"/>
            <a:ext cx="75502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92d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007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007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692d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0" lang="en-US" sz="2400" spc="-1" strike="noStrike">
                <a:solidFill>
                  <a:srgbClr val="3692d0"/>
                </a:solidFill>
                <a:latin typeface="Verdana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80960" y="2197080"/>
          <a:ext cx="7101000" cy="2971800"/>
        </p:xfrm>
        <a:graphic>
          <a:graphicData uri="http://schemas.openxmlformats.org/drawingml/2006/table">
            <a:tbl>
              <a:tblPr/>
              <a:tblGrid>
                <a:gridCol w="1419120"/>
                <a:gridCol w="1422360"/>
                <a:gridCol w="1417680"/>
                <a:gridCol w="1422360"/>
                <a:gridCol w="141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0076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bcc4"/>
                        </a:gs>
                        <a:gs pos="100000">
                          <a:srgbClr val="4b9ea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6979"/>
                        </a:gs>
                        <a:gs pos="100000">
                          <a:srgbClr val="31586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bcc4"/>
                        </a:gs>
                        <a:gs pos="100000">
                          <a:srgbClr val="4b9ea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6979"/>
                        </a:gs>
                        <a:gs pos="100000">
                          <a:srgbClr val="31586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00812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20239200">
            <a:off x="1593360" y="2106360"/>
            <a:ext cx="651996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240400">
            <a:off x="1733400" y="2315880"/>
            <a:ext cx="5926320" cy="268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1560" y="263988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2360" y="12682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b6979"/>
              </a:gs>
              <a:gs pos="100000">
                <a:srgbClr val="14242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17254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100000">
                <a:srgbClr val="1e404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3560" y="45450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0560" y="4087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a26ad0"/>
              </a:gs>
              <a:gs pos="100000">
                <a:srgbClr val="3925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81600" y="317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30520" y="2033280"/>
            <a:ext cx="198108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037"/>
              </a:gs>
              <a:gs pos="100000">
                <a:srgbClr val="3b697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3880" y="203328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0031"/>
              </a:gs>
              <a:gs pos="100000">
                <a:srgbClr val="3b007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3920" y="203328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305f"/>
              </a:gs>
              <a:gs pos="100000">
                <a:srgbClr val="a26ad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73920" y="2781360"/>
            <a:ext cx="2819160" cy="26668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a26ad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1600" y="2781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b007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9280" y="2781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b6979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04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40560" y="29955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88080" y="299556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7840" y="2995560"/>
            <a:ext cx="1616400" cy="2590920"/>
          </a:xfrm>
          <a:custGeom>
            <a:avLst/>
            <a:gdLst>
              <a:gd name="textAreaLeft" fmla="*/ 64800 w 1616400"/>
              <a:gd name="textAreaRight" fmla="*/ 1551600 w 161640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0">
                <a:moveTo>
                  <a:pt x="2969" y="0"/>
                </a:moveTo>
                <a:arcTo wR="2969" hR="2969" stAng="16200000" swAng="-5400000"/>
                <a:lnTo>
                  <a:pt x="0" y="31651"/>
                </a:lnTo>
                <a:arcTo wR="2969" hR="2969" stAng="10800000" swAng="-5400000"/>
                <a:lnTo>
                  <a:pt x="18631" y="34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82760" y="29955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0720" y="1501560"/>
            <a:ext cx="6436800" cy="1387800"/>
            <a:chOff x="1440720" y="1501560"/>
            <a:chExt cx="6436800" cy="1387800"/>
          </a:xfrm>
        </p:grpSpPr>
        <p:sp>
          <p:nvSpPr>
            <p:cNvPr id="126" name=""/>
            <p:cNvSpPr/>
            <p:nvPr/>
          </p:nvSpPr>
          <p:spPr>
            <a:xfrm rot="3418800">
              <a:off x="1651320" y="1726200"/>
              <a:ext cx="924120" cy="1003680"/>
            </a:xfrm>
            <a:prstGeom prst="rect">
              <a:avLst/>
            </a:prstGeom>
            <a:solidFill>
              <a:srgbClr val="3b6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15040" y="1898280"/>
              <a:ext cx="932040" cy="131760"/>
              <a:chOff x="2615040" y="1898280"/>
              <a:chExt cx="932040" cy="13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261504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04320" y="18993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596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8120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3418800">
              <a:off x="3372480" y="1660320"/>
              <a:ext cx="924120" cy="1003680"/>
            </a:xfrm>
            <a:prstGeom prst="rect">
              <a:avLst/>
            </a:prstGeom>
            <a:solidFill>
              <a:srgbClr val="3692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336200" y="1898280"/>
              <a:ext cx="932040" cy="131760"/>
              <a:chOff x="4336200" y="1898280"/>
              <a:chExt cx="932040" cy="131760"/>
            </a:xfrm>
          </p:grpSpPr>
          <p:sp>
            <p:nvSpPr>
              <p:cNvPr id="134" name=""/>
              <p:cNvSpPr/>
              <p:nvPr/>
            </p:nvSpPr>
            <p:spPr>
              <a:xfrm>
                <a:off x="433620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25480" y="18993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2712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0236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418800">
              <a:off x="5021280" y="1660320"/>
              <a:ext cx="924120" cy="1004040"/>
            </a:xfrm>
            <a:prstGeom prst="rect">
              <a:avLst/>
            </a:prstGeom>
            <a:solidFill>
              <a:srgbClr val="3b6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057360" y="1898280"/>
              <a:ext cx="1218600" cy="131760"/>
              <a:chOff x="6057360" y="1898280"/>
              <a:chExt cx="1218600" cy="13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057360" y="18982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74000" y="18993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91280" y="19004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89920" y="19414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3418800">
              <a:off x="6742440" y="1660320"/>
              <a:ext cx="924120" cy="1004040"/>
            </a:xfrm>
            <a:prstGeom prst="rect">
              <a:avLst/>
            </a:prstGeom>
            <a:solidFill>
              <a:srgbClr val="3692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36840" y="1984320"/>
            <a:ext cx="121572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87880" y="19098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11760" y="1909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0560" y="1909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hart Documents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490760"/>
            <a:ext cx="5832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0076"/>
                </a:solidFill>
                <a:latin typeface="Arial"/>
                <a:ea typeface="Gulim"/>
              </a:rPr>
              <a:t>Click to edit title</a:t>
            </a:r>
            <a:endParaRPr b="1" i="1" lang="en-US" sz="3600" spc="-1" strike="noStrike">
              <a:solidFill>
                <a:srgbClr val="3b007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4798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601600">
            <a:off x="1636560" y="236664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699920" y="2212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100000">
                <a:srgbClr val="38767c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01600">
            <a:off x="1557000" y="22226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01600">
            <a:off x="1609560" y="21902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36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rot="20602200">
            <a:off x="1586520" y="22215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601600">
            <a:off x="1630440" y="22104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20602200">
            <a:off x="1613880" y="22096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 rot="20601600">
            <a:off x="4681440" y="35258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 rot="20601600">
            <a:off x="4574880" y="32731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04160" y="1524240"/>
            <a:ext cx="6918480" cy="4356720"/>
            <a:chOff x="704160" y="1524240"/>
            <a:chExt cx="6918480" cy="4356720"/>
          </a:xfrm>
        </p:grpSpPr>
        <p:sp>
          <p:nvSpPr>
            <p:cNvPr id="163" name=""/>
            <p:cNvSpPr/>
            <p:nvPr/>
          </p:nvSpPr>
          <p:spPr>
            <a:xfrm rot="20712600">
              <a:off x="956880" y="229572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 rot="20712600">
              <a:off x="4360680" y="34938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rot="20712600">
              <a:off x="5736600" y="36619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 rot="20601600">
            <a:off x="6248160" y="356508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39200">
            <a:off x="1498320" y="211320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 rot="20601600">
            <a:off x="4933440" y="3476160"/>
            <a:ext cx="1359000" cy="159408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3154320" y="29188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abcc4"/>
              </a:gs>
              <a:gs pos="50000">
                <a:srgbClr val="d6edef"/>
              </a:gs>
              <a:gs pos="100000">
                <a:srgbClr val="5abc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3254400" y="317196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0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17476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631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62268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423216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44607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04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5:23:06Z</dcterms:created>
  <dc:creator/>
  <dc:description/>
  <dc:language>en-US</dc:language>
  <cp:lastModifiedBy>keke</cp:lastModifiedBy>
  <dcterms:modified xsi:type="dcterms:W3CDTF">2015-01-07T14:18:1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