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AD7-7711-4989-8E8A-416761AB2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6EF6-AF1D-4CAB-B72A-99AFF781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12E-B29B-46C9-824B-E9D58FA9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E7F-CEAE-4F86-BDAB-3245BB22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3B3E-B8D7-44D2-BB18-25A231C8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8AA1-5656-4A4F-AF0B-D2834231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4234-3E12-420A-8D6A-11327E09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D035-3F06-48DD-B679-22780838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E26E-A606-4FE5-BCE0-BFE75CBD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491D-28FF-482C-AEDA-257A9C73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8A46-6748-46C6-8EEF-92B3B5F5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A14F-505E-4645-AFB1-AC1E5ED6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7879-61C2-452F-9477-694368A1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C9D2-2231-46BE-806A-3FC8AB42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BD64-E01D-4DD6-A019-E94ECDCD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8B09-B74C-46A2-B9A5-E23CDA63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5989-3DBA-4914-B45A-EFCF329A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49D-2A36-46E9-9450-3A5D99D6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184-6A77-4D14-9DBA-26A138A6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B5F-983B-4550-83F7-93E18F21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7B7-281F-44D7-B8D1-A3D82CC4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C7B-8373-41FE-AB7D-B9118F3F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E43-FF17-4750-8E16-228A823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CF4-46E2-41AA-8333-5867DDB4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4427640"/>
            <a:ext cx="914400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6828-F010-4ADC-8F2A-A173030C6D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3"/>
          <a:stretch/>
        </p:blipFill>
        <p:spPr>
          <a:xfrm>
            <a:off x="5232240" y="1440"/>
            <a:ext cx="3911760" cy="97812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0"/>
            <a:ext cx="8028000" cy="980640"/>
            <a:chOff x="0" y="0"/>
            <a:chExt cx="8028000" cy="980640"/>
          </a:xfrm>
        </p:grpSpPr>
        <p:pic>
          <p:nvPicPr>
            <p:cNvPr id="45" name="矩形 7" descr=""/>
            <p:cNvPicPr/>
            <p:nvPr/>
          </p:nvPicPr>
          <p:blipFill>
            <a:blip r:embed="rId4"/>
            <a:stretch/>
          </p:blipFill>
          <p:spPr>
            <a:xfrm>
              <a:off x="0" y="1080"/>
              <a:ext cx="8028000" cy="9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8028000" cy="9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矩形 8"/>
          <p:cNvSpPr/>
          <p:nvPr/>
        </p:nvSpPr>
        <p:spPr>
          <a:xfrm>
            <a:off x="0" y="97956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CBC5-491A-4759-A7A0-80CBC7E1C7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金融贵金属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6553800" y="6093000"/>
            <a:ext cx="2297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黑体"/>
              </a:rPr>
              <a:t>PPT</a:t>
            </a:r>
            <a:r>
              <a:rPr b="1" lang="zh-CN" sz="1200" spc="-1" strike="noStrike">
                <a:solidFill>
                  <a:srgbClr val="ffffff"/>
                </a:solidFill>
                <a:latin typeface="Calibri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1313280" y="6237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99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5:34:02Z</dcterms:created>
  <dc:creator/>
  <dc:description/>
  <dc:language>en-US</dc:language>
  <cp:lastModifiedBy>zouendong</cp:lastModifiedBy>
  <dcterms:modified xsi:type="dcterms:W3CDTF">2015-01-07T14:19:5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