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DF9-4F6B-44D0-9043-9C191AC4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501-2294-4B90-9454-49C40EE9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EC7-D7F6-40F7-BA6C-B8AB8913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E30-2DD4-451E-B1ED-1D902ABD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B247-B140-4030-BE49-FB6FE1A4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5716-D496-4EB6-98B0-261B805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EB03-48AB-4A86-B242-F913004C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5571-34CB-4B77-A059-36FD670F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DEF7-55D0-4684-8DDA-797D03B6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16000" y="276120"/>
            <a:ext cx="75708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3F31-3F68-4E6A-9133-A7F01788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7709-0DC5-4112-815A-C85F9D1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05D-55FB-4FDB-8C37-009C176B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F62B-0F47-4B11-9780-37C653B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9EE0-C8CB-4AB8-B5C6-C168C4A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5EED-FFAE-45E6-9DF1-9F763979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A961-607D-497C-9890-7F97905C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59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55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1600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59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55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87FD-8AD3-4112-B92A-8BB07566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969E-24E4-4BA1-9E9D-0C25DEED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C046-DE74-43CF-9053-D974FF69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CF3D-0179-45DA-BCCC-7E7D71C7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0865-FDF1-4456-BD29-8AE9D293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997C-C788-414B-A96E-9E5C4DE0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E7D-850B-4970-B612-35B81E5E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16000" y="276120"/>
            <a:ext cx="75708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BF07-4C98-40BF-9237-DE139EEE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0A41-5397-401D-B331-1205755B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BCAF-08EC-4DE3-B11D-8512D19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B5D9-0BEA-483E-B145-D2585AE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9220-9A5A-44EA-94D0-D1EE440B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4009-1657-4E7C-A4BB-58CE3D3E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759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355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1600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759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355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1DE2-F1FA-4F4D-96AE-95437498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66C71-3D50-4A35-A6DF-42F877C9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D015-34C5-458F-AEED-8F851ADB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3D50-A908-4B21-8F6D-02F3E27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783-CE34-4BCF-A2BC-05FC17E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18FD-497D-477C-B547-A8E4D6F4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EA4E1-8365-45B0-8A07-3197724D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16000" y="276120"/>
            <a:ext cx="75708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0696-ED32-4132-9446-5FBC0B95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8B862-9242-4BAF-B866-12744CCF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2D8B2-C82B-4AD1-9A80-C5450F50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CF29-07C5-4D13-82C1-52D69AB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4035-F3AB-4513-A5B6-7E8891D5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88C1-3104-4D8C-BB5C-E9CC56F3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759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5560" y="177336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600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759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35560" y="4047840"/>
            <a:ext cx="24375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F0CC7-B9F6-416A-88DA-E1F80E8D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116-BE00-43B3-A053-92F8E62E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6120"/>
            <a:ext cx="75708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F44-F3B8-4A06-B1DF-CE2D1E8E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2CC-D829-4CCB-941E-4D91C00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404784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0EB-40E0-43BA-983A-F658F6D7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773360"/>
            <a:ext cx="369432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4047840"/>
            <a:ext cx="7570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847-BA44-46C2-9343-74D03129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B707-7CF4-41C8-ABE0-C44959767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5560" y="-20520"/>
            <a:ext cx="91332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360" y="765000"/>
            <a:ext cx="633744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ABA6-2833-48AC-A8FA-40E5EF2C9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25560" y="-20520"/>
            <a:ext cx="9133200" cy="6851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B04F-E4B3-4398-8279-54A19420D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2351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558520" y="549360"/>
            <a:ext cx="6131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17CC-134F-4621-9DB0-A4C496732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68360" y="765000"/>
            <a:ext cx="633744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融商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68360" y="184464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6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6120"/>
            <a:ext cx="757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5708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23516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58520" y="549360"/>
            <a:ext cx="6131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68360" y="765000"/>
            <a:ext cx="633744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84560" y="630864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7:14:14Z</dcterms:created>
  <dc:creator/>
  <dc:description/>
  <dc:language>en-US</dc:language>
  <cp:lastModifiedBy/>
  <dcterms:modified xsi:type="dcterms:W3CDTF">2015-01-08T06:59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