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B86-1693-411F-8432-295210FC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EAC-0151-4DCC-BE94-7800630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5D3-62A3-4B07-9EC0-DC99F7DE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C56-84D0-4684-903F-BC490975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399-7631-4B43-B46A-A81D9BF0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FA3-CE55-4797-9992-9CD21CAD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3F5-0E6B-4C73-A119-8A9D6D3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4FC-D9BC-4B66-BA87-3FBABAE2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777-C966-47CD-BCC3-8F526DA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E58-47D2-43AE-99AA-BAFF9A0F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44B-AECB-4876-A002-11921D4C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3B4-F189-4F31-A03E-8A99880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0880" y="6635880"/>
            <a:ext cx="841680" cy="21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07F-6009-4B3A-859D-C3182E67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439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简约蓝黑商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5445000"/>
            <a:ext cx="518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8800" y="630864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2:49Z</dcterms:modified>
  <cp:revision>77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