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24E7-7FC2-4D63-A9AC-C11897F1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6B5D-16F3-4C15-934F-0C0B3227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3792-5C21-4CA4-9605-187D842E4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ECC1-A9FE-4085-BDEA-851BA042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84A4-232F-46E0-A12B-33430603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A46B-1161-4579-8606-B9A6D782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C027-5ECC-4B22-8A25-3CB6C237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D7BE-941F-4A73-B438-B5DF7347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68C9-925F-4183-992D-6B411C5E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635F-CD46-40AE-B2E7-6802A2AC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FCA7-D08C-4E2F-BAB4-7B963F38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0B27-C19C-4145-B76C-4ECD9BC1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BCD9-A348-43FD-86C1-48E7C8B3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28ED-0966-4447-B20D-6F0F0281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F38E-0089-419A-AE24-04E2DABD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F250-8DC1-43B5-BD21-5B5A2F52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D011-EB2C-46DE-A89E-2E124BD09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4977-DA83-4B94-B8E2-1EB90491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DFC3-8D66-4AA8-BA18-36541296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B740-F013-4332-8B77-1AA88122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0BD5-D5B1-4B54-901D-0B947FFC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4085-6D56-4E53-BC92-04C65738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DD38-461B-4177-AE1E-DE8B83DE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62AE-4B3D-4D67-AFA1-4A418586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2551" t="39213" r="20915" b="6997"/>
          <a:stretch/>
        </p:blipFill>
        <p:spPr>
          <a:xfrm>
            <a:off x="0" y="-14400"/>
            <a:ext cx="9144000" cy="51404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8360" y="195120"/>
            <a:ext cx="8209080" cy="4392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1824-DCB6-41A4-91BD-5E4D95853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2551" t="39213" r="20915" b="6997"/>
          <a:stretch/>
        </p:blipFill>
        <p:spPr>
          <a:xfrm>
            <a:off x="0" y="-14400"/>
            <a:ext cx="9144000" cy="5140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2720" y="628560"/>
            <a:ext cx="56880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8A4E-5DDE-42BB-B9B2-6ABF01D35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2720" y="628560"/>
            <a:ext cx="56880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简约清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12360" y="1781280"/>
            <a:ext cx="56898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320" y="480384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2720" y="628560"/>
            <a:ext cx="56880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12360" y="1781280"/>
            <a:ext cx="56898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6480" y="4732200"/>
            <a:ext cx="44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0"/>
            <a:ext cx="8466120" cy="5143680"/>
            <a:chOff x="0" y="0"/>
            <a:chExt cx="8466120" cy="5143680"/>
          </a:xfrm>
        </p:grpSpPr>
        <p:sp>
          <p:nvSpPr>
            <p:cNvPr id="9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285920"/>
              <a:ext cx="846612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7"/>
            <p:cNvSpPr/>
            <p:nvPr/>
          </p:nvSpPr>
          <p:spPr>
            <a:xfrm rot="20926800">
              <a:off x="1946880" y="26762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09:38:22Z</dcterms:created>
  <dc:creator/>
  <dc:description/>
  <dc:language>en-US</dc:language>
  <cp:lastModifiedBy/>
  <dcterms:modified xsi:type="dcterms:W3CDTF">2015-01-07T14:34:1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