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AF4-8E35-4F83-BA16-09316CF0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8E2-CC95-45D5-919B-029D26A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66F-4E2A-4926-A8BE-789586B5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B75-929F-4935-8222-C644734F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F10-478B-40E7-93B1-FBF6640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6D5-87A8-4844-AE5E-CBC3638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CCC-9621-4FC0-AB54-281A1F51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03-6691-42B0-BFF6-3132FBB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9D2-FD44-4B6B-A2C3-7CD8C02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A59-B279-44B3-BD5E-4EE3408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FAC-DDFD-4E31-BED3-7D973DA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546-145F-4F26-8A53-CC99181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E24E-F8EA-4DF2-83CD-67A944B4569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369-968F-497F-9D92-C965851863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rcRect l="136" t="0" r="0" b="365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0920" y="46544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约商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8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22200" y="126828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Myriad Pro Cond"/>
                <a:ea typeface="宋体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2421000"/>
            <a:ext cx="8785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8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2880" y="11592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yriad Pro Cond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CuadroTexto"/>
          <p:cNvSpPr/>
          <p:nvPr/>
        </p:nvSpPr>
        <p:spPr>
          <a:xfrm>
            <a:off x="612720" y="1484280"/>
            <a:ext cx="76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951120" y="6165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59:00Z</dcterms:created>
  <dc:creator>abediaga</dc:creator>
  <dc:description/>
  <dc:language>en-US</dc:language>
  <cp:lastModifiedBy>abediaga</cp:lastModifiedBy>
  <dcterms:modified xsi:type="dcterms:W3CDTF">2015-01-07T09:24:26Z</dcterms:modified>
  <cp:revision>4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