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27304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建筑施工安全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3840" y="3433680"/>
            <a:ext cx="640080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181080" y="1778040"/>
            <a:ext cx="5578200" cy="76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01600" y="6450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3:24:00Z</dcterms:created>
  <dc:creator>PPTCHINA</dc:creator>
  <dc:description/>
  <dc:language>en-US</dc:language>
  <cp:lastModifiedBy>USER</cp:lastModifiedBy>
  <dcterms:modified xsi:type="dcterms:W3CDTF">2015-01-08T07:09:14Z</dcterms:modified>
  <cp:revision>76</cp:revision>
  <dc:subject/>
  <dc:title>蓝色安全帽建筑PPT模板(简约版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