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65DF-6BE3-4092-9038-2FCD3A979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B9EC-6AC5-4B15-ADC8-6FA61D437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9A43-8EB8-41C4-95A0-3938A7317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7A4F-318C-4824-8327-1743B6A00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F0E3-E3DF-4685-8C82-57C96CBC8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0A21-5C19-4D07-8D6B-3B02D7237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795A-D255-44CE-A79E-B2481EEBB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8ED0-F4BD-4C23-AA79-299ADC3F4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93E7-3B20-43B5-AD6F-5BC7486CD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893C-9E8E-45E1-A8BD-68CD3E6C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25C9-1614-4716-8E25-9E2469BC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2F7B-D2FB-47F4-8297-AA71D3D25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44B67-C139-42A0-AB26-FC5946DAC7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429192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方正胖娃繁体"/>
                <a:ea typeface="方正胖娃繁体"/>
              </a:rPr>
              <a:t>POWEPOINT</a:t>
            </a:r>
            <a:r>
              <a:rPr b="0" lang="zh-CN" sz="3600" spc="-1" strike="noStrike">
                <a:solidFill>
                  <a:srgbClr val="663300"/>
                </a:solidFill>
                <a:latin typeface="方正胖娃繁体"/>
                <a:ea typeface="方正胖娃繁体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93884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3300"/>
                </a:solidFill>
                <a:latin typeface="Arial"/>
                <a:ea typeface="方正胖娃繁体"/>
              </a:rPr>
              <a:t>适用于卡通可爱及相关类别演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1280" y="63817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154480" y="20595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55200" y="29232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227560" y="38595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10253520" y="2492280"/>
            <a:ext cx="111250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21120000">
            <a:off x="5278680" y="1986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21060000">
            <a:off x="5380200" y="2995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21060000">
            <a:off x="5524560" y="4004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21360000">
            <a:off x="5567760" y="5085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09308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007760" y="5732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11400" y="5373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855040" y="2706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3T11:53:25Z</dcterms:created>
  <dc:creator>Administrator</dc:creator>
  <dc:description/>
  <dc:language>en-US</dc:language>
  <cp:lastModifiedBy/>
  <dcterms:modified xsi:type="dcterms:W3CDTF">2015-01-08T04:02:02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