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9B9-E7B4-4C9A-A05F-B55FE3EE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5EB-1EB9-4E08-B084-5FF271B2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973-7A96-4139-BB9C-64EE543D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63A-8182-48FD-9321-F11F5B35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6F2D-5B06-4C92-B44C-D94165DC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C644-020A-4251-8E75-4C581F3B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F3F-4153-47D5-9F99-A2B247D4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3C77-3B59-4504-8273-DFE5B29A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816-E2C5-4791-B4F1-FCB042AB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77ED-D8F5-4722-B548-3E1B79BC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D950-0906-4B25-B686-6115BEE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939-9F6C-4783-8CB2-6C5D7BF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4705-91F3-428B-852B-A5E3926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B470-DC44-4AAB-81F0-91DB572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41C-A475-49D8-B262-3A807E9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F748-2F49-497C-B7D2-3192C975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961A-529C-4B2D-9ABE-CF5079C0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493-4C05-4015-BD74-DFE79B36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FE4-FEBC-4F8F-A8A9-8E377B2B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267-EE99-47A0-BC5F-CBF6E1FA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531-68EC-4CBB-BC9F-DE389E58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ECE-65BB-45FB-AB58-E916FA9A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973-EA1A-4D3E-9A22-984A8A0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D3F-F78E-4800-A87F-E3340B4B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931-4C36-4E1D-B5FB-7F5679B1CF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D6C-01DC-415D-A0BA-90165823D8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thanksgiving_turkey_head_looking_hg_clr"/>
          <p:cNvPicPr/>
          <p:nvPr/>
        </p:nvPicPr>
        <p:blipFill>
          <a:blip r:embed="rId2"/>
          <a:stretch/>
        </p:blipFill>
        <p:spPr>
          <a:xfrm>
            <a:off x="152280" y="6094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thanksgiving_basket_harvest_food_sway_hg_clr"/>
          <p:cNvPicPr/>
          <p:nvPr/>
        </p:nvPicPr>
        <p:blipFill>
          <a:blip r:embed="rId3"/>
          <a:stretch/>
        </p:blipFill>
        <p:spPr>
          <a:xfrm>
            <a:off x="7238880" y="5451480"/>
            <a:ext cx="1905120" cy="1406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68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09120" y="1601280"/>
            <a:ext cx="807732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8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21240" y="6400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mike</cp:lastModifiedBy>
  <cp:lastPrinted>1899-12-30T00:00:00Z</cp:lastPrinted>
  <dcterms:modified xsi:type="dcterms:W3CDTF">2014-05-25T05:25:46Z</dcterms:modified>
  <cp:revision>9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