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9BB8-71A0-4E1A-A982-E84BEF61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4390-504F-4C44-8696-BC78064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ED70-269F-4FD1-8ECB-E0FFCD6A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BF2B-D602-4D4F-BD75-3BDDF24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4C8C-3B81-4AE4-94E4-5B4505BF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5E3E-8E80-41C8-894F-301E9AA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87F9-9BBD-4166-839A-E97FC79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C779-D767-475C-A3E9-697913C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B725-0DBB-4B6E-903F-33FF016B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3778-417E-4C2F-8F92-A6D045B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940A-7B74-496F-BA14-F3B2DCC4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2D18-7A14-493E-A7DB-62998A2B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176E33C-953A-4F62-9659-FBB85832E71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gradFill rotWithShape="0">
            <a:gsLst>
              <a:gs pos="0">
                <a:srgbClr val="da5800">
                  <a:alpha val="85098"/>
                </a:srgbClr>
              </a:gs>
              <a:gs pos="100000">
                <a:srgbClr val="c02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49720"/>
            <a:ext cx="9182160" cy="9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867280"/>
            <a:ext cx="9182160" cy="82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-14400" y="2529000"/>
            <a:ext cx="9177480" cy="1800000"/>
            <a:chOff x="-14400" y="2529000"/>
            <a:chExt cx="9177480" cy="1800000"/>
          </a:xfrm>
        </p:grpSpPr>
        <p:sp>
          <p:nvSpPr>
            <p:cNvPr id="86" name=""/>
            <p:cNvSpPr/>
            <p:nvPr/>
          </p:nvSpPr>
          <p:spPr>
            <a:xfrm>
              <a:off x="-14400" y="2529000"/>
              <a:ext cx="9177480" cy="1800000"/>
            </a:xfrm>
            <a:prstGeom prst="rect">
              <a:avLst/>
            </a:prstGeom>
            <a:gradFill rotWithShape="0">
              <a:gsLst>
                <a:gs pos="0">
                  <a:srgbClr val="da5800">
                    <a:alpha val="85098"/>
                  </a:srgbClr>
                </a:gs>
                <a:gs pos="100000">
                  <a:srgbClr val="c0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4400" y="2529000"/>
              <a:ext cx="9177480" cy="9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4400" y="4246200"/>
              <a:ext cx="9177480" cy="82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B9C2-79B6-49D3-91D6-66B496A43F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792-49AA-4FD0-9F7E-FECDF07C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69440" y="5181120"/>
            <a:ext cx="82076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69440" y="4078440"/>
            <a:ext cx="820764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葵花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9360" y="5302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36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40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44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50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479600" y="2852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FBDA-40A8-4E9A-8B91-7BFC18D002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4BCA-4316-4774-9BFA-28E4C0C54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09:33:45Z</dcterms:modified>
  <cp:revision>3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