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E8F-CE1B-4174-AED5-515C7575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0BD-FC69-4107-8B53-58D535A7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983-AAA8-4108-B1A8-CC3CEB58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68E-AAD0-453B-83BE-EBB0020B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21BE-8587-49A0-B2E7-16E014D3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4008-3278-4B35-93D8-CC52771C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5DC9-BA8C-4178-9A24-FDB81446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D0B4-D86F-4131-9FAD-0C6A3F15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E71B-BD9A-4216-832B-60674D35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6270-0279-4824-8B70-E533B015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BF6D-72AD-4FCC-8384-7F003306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1A6-E4A1-4A70-ABC7-36C02AF9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E74F-583F-469B-9D0B-CE2BA667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2E6A-DAC7-4422-8438-FD9CE9B7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0CE5-BC1C-4DCF-B869-0DC03F6F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F006-F142-4171-B993-AA2E3D8C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9D65-86BC-429C-A4D5-C04E8D88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5F5-016E-43DD-80EF-208EB264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2FC-BEC5-4823-B883-AAF8AA96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74D-2D95-467A-846B-8B29DAC1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439-3A63-4EA5-B31B-22D7DBE3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347-44E2-4B84-BD53-8D5CB27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177-3417-4B54-90AE-732BCDF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B46-C3DF-4CD8-B16B-CEFB1077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01"/>
          <p:cNvPicPr/>
          <p:nvPr/>
        </p:nvPicPr>
        <p:blipFill>
          <a:blip r:embed="rId2"/>
          <a:srcRect l="17250" t="0" r="0" b="6250"/>
          <a:stretch/>
        </p:blipFill>
        <p:spPr>
          <a:xfrm>
            <a:off x="15228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31"/>
          <p:cNvSpPr/>
          <p:nvPr/>
        </p:nvSpPr>
        <p:spPr>
          <a:xfrm>
            <a:off x="228600" y="0"/>
            <a:ext cx="8915400" cy="6883560"/>
          </a:xfrm>
          <a:custGeom>
            <a:avLst/>
            <a:gdLst/>
            <a:ahLst/>
            <a:rect l="l" t="t" r="r" b="b"/>
            <a:pathLst>
              <a:path w="5480" h="4336">
                <a:moveTo>
                  <a:pt x="312" y="4336"/>
                </a:moveTo>
                <a:lnTo>
                  <a:pt x="0" y="0"/>
                </a:lnTo>
                <a:lnTo>
                  <a:pt x="5480" y="0"/>
                </a:lnTo>
                <a:lnTo>
                  <a:pt x="5480" y="4320"/>
                </a:lnTo>
                <a:lnTo>
                  <a:pt x="312" y="4336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dd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0" descr="06"/>
          <p:cNvPicPr/>
          <p:nvPr/>
        </p:nvPicPr>
        <p:blipFill>
          <a:blip r:embed="rId3"/>
          <a:stretch/>
        </p:blipFill>
        <p:spPr>
          <a:xfrm>
            <a:off x="76320" y="5638680"/>
            <a:ext cx="1676160" cy="115596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762120" y="380880"/>
            <a:ext cx="6781320" cy="609840"/>
            <a:chOff x="762120" y="380880"/>
            <a:chExt cx="6781320" cy="609840"/>
          </a:xfrm>
        </p:grpSpPr>
        <p:sp>
          <p:nvSpPr>
            <p:cNvPr id="6" name="Line 23"/>
            <p:cNvSpPr/>
            <p:nvPr/>
          </p:nvSpPr>
          <p:spPr>
            <a:xfrm>
              <a:off x="762120" y="38088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4"/>
            <p:cNvSpPr/>
            <p:nvPr/>
          </p:nvSpPr>
          <p:spPr>
            <a:xfrm>
              <a:off x="762120" y="53316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762120" y="68580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6"/>
            <p:cNvSpPr/>
            <p:nvPr/>
          </p:nvSpPr>
          <p:spPr>
            <a:xfrm>
              <a:off x="762120" y="83808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7"/>
            <p:cNvSpPr/>
            <p:nvPr/>
          </p:nvSpPr>
          <p:spPr>
            <a:xfrm>
              <a:off x="762120" y="99072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7850520" y="100440"/>
            <a:ext cx="1227960" cy="1227960"/>
            <a:chOff x="7850520" y="100440"/>
            <a:chExt cx="1227960" cy="1227960"/>
          </a:xfrm>
        </p:grpSpPr>
        <p:sp>
          <p:nvSpPr>
            <p:cNvPr id="12" name="Rectangle 16"/>
            <p:cNvSpPr/>
            <p:nvPr/>
          </p:nvSpPr>
          <p:spPr>
            <a:xfrm rot="1759800">
              <a:off x="8013240" y="263160"/>
              <a:ext cx="901800" cy="901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" name="Picture 18" descr="03"/>
            <p:cNvPicPr/>
            <p:nvPr/>
          </p:nvPicPr>
          <p:blipFill>
            <a:blip r:embed="rId5"/>
            <a:stretch/>
          </p:blipFill>
          <p:spPr>
            <a:xfrm>
              <a:off x="8673840" y="193680"/>
              <a:ext cx="16524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" name=""/>
          <p:cNvGrpSpPr/>
          <p:nvPr/>
        </p:nvGrpSpPr>
        <p:grpSpPr>
          <a:xfrm>
            <a:off x="7192800" y="0"/>
            <a:ext cx="1203840" cy="1324080"/>
            <a:chOff x="7192800" y="0"/>
            <a:chExt cx="1203840" cy="1324080"/>
          </a:xfrm>
        </p:grpSpPr>
        <p:sp>
          <p:nvSpPr>
            <p:cNvPr id="15" name="Rectangle 17"/>
            <p:cNvSpPr/>
            <p:nvPr/>
          </p:nvSpPr>
          <p:spPr>
            <a:xfrm rot="682200">
              <a:off x="7283520" y="210960"/>
              <a:ext cx="1022400" cy="1022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" name="Picture 19" descr="04"/>
            <p:cNvPicPr/>
            <p:nvPr/>
          </p:nvPicPr>
          <p:blipFill>
            <a:blip r:embed="rId7"/>
            <a:stretch/>
          </p:blipFill>
          <p:spPr>
            <a:xfrm>
              <a:off x="7747200" y="0"/>
              <a:ext cx="1904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2819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5028840" y="647676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4592-B450-43B2-A58A-93CB2D739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7"/>
          <p:cNvSpPr/>
          <p:nvPr/>
        </p:nvSpPr>
        <p:spPr>
          <a:xfrm rot="21127200">
            <a:off x="380880" y="304920"/>
            <a:ext cx="4267440" cy="426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 rot="20388600">
            <a:off x="762120" y="1219320"/>
            <a:ext cx="4876560" cy="48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01"/>
          <p:cNvPicPr/>
          <p:nvPr/>
        </p:nvPicPr>
        <p:blipFill>
          <a:blip r:embed="rId4"/>
          <a:srcRect l="15327" t="0" r="0" b="6250"/>
          <a:stretch/>
        </p:blipFill>
        <p:spPr>
          <a:xfrm>
            <a:off x="2467080" y="0"/>
            <a:ext cx="21049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Freeform 7"/>
          <p:cNvSpPr/>
          <p:nvPr/>
        </p:nvSpPr>
        <p:spPr>
          <a:xfrm>
            <a:off x="2895480" y="0"/>
            <a:ext cx="6248520" cy="6858000"/>
          </a:xfrm>
          <a:custGeom>
            <a:avLst/>
            <a:gdLst/>
            <a:ahLst/>
            <a:rect l="l" t="t" r="r" b="b"/>
            <a:pathLst>
              <a:path w="3936" h="4320">
                <a:moveTo>
                  <a:pt x="305" y="4317"/>
                </a:moveTo>
                <a:lnTo>
                  <a:pt x="0" y="0"/>
                </a:lnTo>
                <a:lnTo>
                  <a:pt x="3936" y="0"/>
                </a:lnTo>
                <a:lnTo>
                  <a:pt x="3936" y="4320"/>
                </a:lnTo>
                <a:lnTo>
                  <a:pt x="305" y="4317"/>
                </a:lnTo>
                <a:close/>
              </a:path>
            </a:pathLst>
          </a:custGeom>
          <a:gradFill rotWithShape="0">
            <a:gsLst>
              <a:gs pos="0">
                <a:srgbClr val="ffb443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9" descr="03"/>
          <p:cNvPicPr/>
          <p:nvPr/>
        </p:nvPicPr>
        <p:blipFill>
          <a:blip r:embed="rId5"/>
          <a:stretch/>
        </p:blipFill>
        <p:spPr>
          <a:xfrm>
            <a:off x="1444680" y="0"/>
            <a:ext cx="384120" cy="614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04"/>
          <p:cNvPicPr/>
          <p:nvPr/>
        </p:nvPicPr>
        <p:blipFill>
          <a:blip r:embed="rId6"/>
          <a:stretch/>
        </p:blipFill>
        <p:spPr>
          <a:xfrm>
            <a:off x="1676520" y="1193760"/>
            <a:ext cx="396720" cy="63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06"/>
          <p:cNvPicPr/>
          <p:nvPr/>
        </p:nvPicPr>
        <p:blipFill>
          <a:blip r:embed="rId7"/>
          <a:stretch/>
        </p:blipFill>
        <p:spPr>
          <a:xfrm>
            <a:off x="3657600" y="488484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BCE4-1B8A-436F-8C46-5F7A27EFA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44640" y="1295280"/>
            <a:ext cx="594216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  <a:ea typeface="宋体"/>
              </a:rPr>
              <a:t>课堂风格</a:t>
            </a:r>
            <a:r>
              <a:rPr b="1" lang="en-US" sz="49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9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562720" y="1219320"/>
            <a:ext cx="2971800" cy="75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733920" y="2514600"/>
            <a:ext cx="49528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7472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362320" y="4854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 rot="3418800">
            <a:off x="2077920" y="4277880"/>
            <a:ext cx="479160" cy="520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135520" y="432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6cd69c"/>
              </a:gs>
              <a:gs pos="100000">
                <a:srgbClr val="326348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430440" y="18511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362320" y="31780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 rot="3418800">
            <a:off x="2077560" y="2602080"/>
            <a:ext cx="479520" cy="520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2363760" y="4014720"/>
            <a:ext cx="479916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4"/>
          <p:cNvSpPr/>
          <p:nvPr/>
        </p:nvSpPr>
        <p:spPr>
          <a:xfrm rot="3418800">
            <a:off x="2077560" y="3440160"/>
            <a:ext cx="479520" cy="520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13552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6"/>
          <p:cNvSpPr/>
          <p:nvPr/>
        </p:nvSpPr>
        <p:spPr>
          <a:xfrm>
            <a:off x="2362320" y="5715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 rot="3418800">
            <a:off x="2077920" y="5138280"/>
            <a:ext cx="479160" cy="52056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4700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213552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3430440" y="27129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430440" y="35528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3430440" y="43941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3430440" y="52452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7320" y="1447560"/>
            <a:ext cx="72342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600200" y="499104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840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7760" y="1295280"/>
            <a:ext cx="56386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733920" y="2514600"/>
            <a:ext cx="49528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4105800" y="472428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505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53:09Z</dcterms:created>
  <dc:creator>www.themegallery.com</dc:creator>
  <dc:description/>
  <dc:language>en-US</dc:language>
  <cp:lastModifiedBy>微软中国</cp:lastModifiedBy>
  <dcterms:modified xsi:type="dcterms:W3CDTF">2015-01-07T09:37:19Z</dcterms:modified>
  <cp:revision>16</cp:revision>
  <dc:subject/>
  <dc:title>ThemeGallery PowerTa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