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618-13E7-4028-B96B-AA065A6C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586-CA7D-4634-8C40-241D77C6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5688-7C58-474C-ACE2-2F37A96E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02F-04C3-49A4-B73D-3CBA81EE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BF20-8DA5-499B-A63A-48C77DEE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F45A-565F-491C-8CEA-CFB1DB3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F2E0-AC2B-4911-9792-F536240C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24BE-D85F-4DEA-B1A9-F5D1E507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4E29-9584-4263-9C6C-1AA124E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5038-0EAB-4D14-9AF1-E7D4312D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D709-D106-4CAA-9064-58DC428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056-BC63-4CA3-98E7-5681F8E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68E7-CCB7-4C32-9518-EB876EF3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BB4F-525A-461A-8C9E-6489D86A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9911A-4459-44B9-B0E2-2C2DDCF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7DCD-B0E8-4A9D-900C-764E750B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246E-7AFD-4EC0-86FA-6199455B4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5AE1-1BDB-48B6-9983-0FFD7A61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C37-5853-4391-8235-6DE29653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EB4-87A0-48EC-B55C-03F22013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5288-B27A-4D95-A962-CE268D41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24C-6BE1-47E4-B20E-FF2A4B87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D3F-5AC7-4EAE-95A9-B55951D5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C04E-4681-4736-8530-6932689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C31-CB00-4B5A-AD76-791F5A348518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ABF6-DD1F-4D26-A744-F8A2C659846B}" type="slidenum">
              <a:rPr b="0" lang="en-US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卡通房子卡通</a:t>
            </a: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PPT</a:t>
            </a:r>
            <a:r>
              <a:rPr b="1" lang="zh-CN" sz="4400" spc="-1" strike="noStrike">
                <a:solidFill>
                  <a:srgbClr val="00339a"/>
                </a:solidFill>
                <a:latin typeface="宋体"/>
                <a:ea typeface="宋体"/>
              </a:rPr>
              <a:t>模板下载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1320" y="307188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-1188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9680" y="511560"/>
            <a:ext cx="415944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339a"/>
              </a:solidFill>
              <a:latin typeface="宋体"/>
              <a:ea typeface="宋体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336600" y="2114640"/>
            <a:ext cx="39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3226"/>
                </a:solidFill>
                <a:latin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4929120" y="5587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83226"/>
                </a:solidFill>
                <a:latin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22960" y="5877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a800"/>
                </a:solidFill>
                <a:uFillTx/>
                <a:latin typeface="华文新魏"/>
                <a:ea typeface="华文新魏"/>
                <a:hlinkClick r:id="rId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a"/>
                </a:solidFill>
                <a:latin typeface="Franklin Gothic Medium"/>
              </a:rPr>
              <a:t>使用规范说明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Franklin Gothic Book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Franklin Gothic Book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Franklin Gothic Book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a8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6Z</dcterms:created>
  <dc:creator/>
  <dc:description/>
  <dc:language>en-US</dc:language>
  <cp:lastModifiedBy/>
  <dcterms:modified xsi:type="dcterms:W3CDTF">2015-01-07T14:03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3626452052</vt:lpwstr>
  </property>
</Properties>
</file>