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312-226D-46D6-88F6-E082C91F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2B6-105A-4BEC-B7A4-EA602F1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7B-5D3F-442D-9588-1AACEBC8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7D4-7653-43A4-B173-3DF39D30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69DD-FCEE-4866-9FF8-ADDA2011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7276-5497-4DD7-98E5-CF4DEB6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AA7F-3603-4C95-9EF5-C89559E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85C8-B658-45E0-9D05-950ABE4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E37-D9EB-42BA-A4DA-D958BBC6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ECE4-C310-4A09-8A68-CFC6738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3F03-734D-4824-8A63-94084FE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BCB-B4CC-4AE2-98BF-969D0087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29F1-B15B-4116-B364-F75CDBC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0745-8EE9-4D19-9677-99103C5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0887-0FA4-4870-916F-D6D2E80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B22A-ECC1-4EE7-A840-EF8030D5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48F9-4B1B-4600-BB52-E3718D8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91B-01F4-450E-BB20-ECB0A33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740-879D-47B5-9030-8907500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012-CCBD-4768-8A8D-351B01F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57D-49A2-4606-96A0-AEC8C4C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1A6-FF67-4470-8D7B-B12D75A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67D-DCA7-4CD6-8984-94FF1B4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6B1-9C1B-49E9-B483-51C34A1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20FC-78C8-416A-8BEB-7CEDAA30D3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ADA-DAF5-4497-809F-D287DD613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74720" y="6324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982880"/>
            <a:ext cx="80773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mike</cp:lastModifiedBy>
  <dcterms:modified xsi:type="dcterms:W3CDTF">2015-01-07T14:01:00Z</dcterms:modified>
  <cp:revision>12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