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CFB8-92DC-4F0D-8901-CF7CFAB1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2907720"/>
            <a:ext cx="8534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8B08-36FD-429A-A935-96ECA58E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290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290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7D14-0473-420E-9A86-92B6EF95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274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837720"/>
            <a:ext cx="274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837720"/>
            <a:ext cx="274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2907720"/>
            <a:ext cx="274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2907720"/>
            <a:ext cx="274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2907720"/>
            <a:ext cx="274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B35C-0E68-4C57-9C38-31617D79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14C9-5ECC-439E-8755-D7CCA3BF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8377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57CD-2499-471E-809E-D675C606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9660-A1A6-4535-B2AF-80AAEABA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4083-FAE6-4D42-AB10-A9350EA0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30AF-DA1A-46BD-A17C-FE084164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43A4-70B4-405C-9146-F2FA06FF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290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90B1-A2AA-4125-8873-D544AE62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8377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4C33-E6C9-4B65-A510-EC05E1F2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840" y="290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6020-B8A2-421E-B95B-95F0D2D7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2907720"/>
            <a:ext cx="8534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AB33-C6AB-46D7-AE8C-5824893C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2907720"/>
            <a:ext cx="8534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116F-6917-4D2A-8048-7B534B01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290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840" y="290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BE3B-345F-4746-AB91-35CBC383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274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0680" y="837720"/>
            <a:ext cx="274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080" y="837720"/>
            <a:ext cx="274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2907720"/>
            <a:ext cx="274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0680" y="2907720"/>
            <a:ext cx="274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080" y="2907720"/>
            <a:ext cx="274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22E9-92C1-4F67-8EBF-BE3164F3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8619-E843-46A8-9A46-5629A9C3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91E8-FABE-4EF6-95ED-B046B270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2433-837A-4615-8132-90E3873E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8A29-01A7-45B6-8DCE-FA31E312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290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8F57-3B8D-459C-BB04-5A993A9E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290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BE02-8E59-4291-BC09-917019A0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2907720"/>
            <a:ext cx="8534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CE22-8C05-4B50-BCAE-DC6FA3D3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8377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B9C4-E786-4232-B4AB-99F3A7E202F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971800" y="4676760"/>
            <a:ext cx="3333600" cy="2181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17524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EC25-A1FA-4A18-9C27-80716FA9742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7524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  <a:ea typeface="宋体"/>
              </a:rPr>
              <a:t>Something is Fishy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848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subtitle goes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76800" y="641340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17524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43000" y="2514240"/>
            <a:ext cx="7848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97560" y="63244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cc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19:30:51Z</dcterms:created>
  <dc:creator/>
  <dc:description/>
  <dc:language>en-US</dc:language>
  <cp:lastModifiedBy>微软用户</cp:lastModifiedBy>
  <dcterms:modified xsi:type="dcterms:W3CDTF">2015-01-07T13:58:55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