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D6F9-58A7-4D48-B26A-03F74C928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F404-FC14-4EF2-9EFF-EBE9B594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6383-EF6E-447B-AFFC-7B14B4014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A59E-528D-4252-B29D-9C59FFC7F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0EC5-61EB-4D67-81B2-77804A70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B76F-563F-408B-8FD1-65E90CA0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743A-C8E4-40B0-AA96-C8DE9ADC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89C5-FF2E-46D9-907A-E8FCF501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72C5-91A0-4C9D-9853-7B41EB00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FD18-39ED-4F36-9B02-AAA4A6BE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7974-0DDA-4B2E-A3A7-1A4758EF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C81B-5BF7-418D-AC16-2391FE28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7574-D40A-4706-8C4F-6DC55AEA4FA6}" type="slidenum">
              <a:rPr b="0" lang="zh-TW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卡通人物米奇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64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PMingLiU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64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87840" y="630864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20:21:09Z</dcterms:created>
  <dc:creator/>
  <dc:description/>
  <dc:language>en-US</dc:language>
  <cp:lastModifiedBy>微软用户</cp:lastModifiedBy>
  <dcterms:modified xsi:type="dcterms:W3CDTF">2015-01-09T03:48:05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