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416-7F44-41CB-9ED0-1652A9B5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1C4-1D99-4FCD-8A14-58D49AD5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E98-A99C-4BF6-AE8E-F8F47CBF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821-A162-41C4-A0E4-D5FA12AE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6FB-734A-4E16-A307-C5FA5292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644-F955-4592-9A7B-C4E8F6E8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98B2-05C6-4F9B-B1C3-1CEB4CC8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FEE-B4F0-42F8-A0A7-DACB0363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8DC-2499-438F-AC79-4C01EBB9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4EA8-5B0C-4951-B838-E5DD3297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A5B-345F-410F-B7B7-D4FB4196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816-487E-43D3-B7F8-5BB0DD55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A9F5-6BC4-4C34-A0FF-09CD52807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14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80a331"/>
                </a:solidFill>
                <a:latin typeface="Calibri"/>
              </a:rPr>
              <a:t>绿格子国外</a:t>
            </a:r>
            <a:r>
              <a:rPr b="0" lang="zh-CN" sz="4000" spc="-1" strike="noStrike">
                <a:solidFill>
                  <a:srgbClr val="80a331"/>
                </a:solidFill>
                <a:latin typeface="Calibri"/>
                <a:ea typeface="宋体"/>
              </a:rPr>
              <a:t>PPT</a:t>
            </a:r>
            <a:r>
              <a:rPr b="0" lang="fr-CA" sz="4000" spc="-1" strike="noStrike">
                <a:solidFill>
                  <a:srgbClr val="80a331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261040"/>
            <a:ext cx="6400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80a331"/>
                </a:solidFill>
                <a:latin typeface="Calibri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236720" y="64008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80a33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4272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33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33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8800" y="796680"/>
            <a:ext cx="77580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80a33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3569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33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33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7236720" y="64008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794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6:02:56Z</dcterms:created>
  <dc:creator/>
  <dc:description/>
  <dc:language>en-US</dc:language>
  <cp:lastModifiedBy>Eric</cp:lastModifiedBy>
  <dcterms:modified xsi:type="dcterms:W3CDTF">2015-01-08T13:02:58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