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6A8-03DC-4ED0-87A1-07A7B2D0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7EA-D1C7-45EB-AF7C-2E52F208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83F-0E9C-4458-9E25-2F111C85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ADD-76BA-410B-8AB2-7856AE26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E3A-A83D-4295-AD3D-F4973A74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C4C-2FC4-40E5-9DAE-142E4E30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C15-0A50-4F79-8A74-E4F7435C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553-C755-4BAE-A39F-EC71F9B7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A9E-DBD4-46EB-911B-EB8BED89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9A6-BFB0-46A5-9C1A-03FCBFAC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62D-E81A-4665-BF88-5B1882BE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F5B-873B-40D7-81AC-F02F425D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268F-DA2A-4297-BA51-79F599826E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2" descr=""/>
          <p:cNvPicPr/>
          <p:nvPr/>
        </p:nvPicPr>
        <p:blipFill>
          <a:blip r:embed="rId1"/>
          <a:stretch/>
        </p:blipFill>
        <p:spPr>
          <a:xfrm>
            <a:off x="7920" y="0"/>
            <a:ext cx="9144000" cy="2224080"/>
          </a:xfrm>
          <a:prstGeom prst="rect">
            <a:avLst/>
          </a:prstGeom>
          <a:ln w="0">
            <a:noFill/>
          </a:ln>
        </p:spPr>
      </p:pic>
      <p:sp>
        <p:nvSpPr>
          <p:cNvPr id="42" name="直接连接符 8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2030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11"/>
          <p:cNvSpPr/>
          <p:nvPr/>
        </p:nvSpPr>
        <p:spPr>
          <a:xfrm>
            <a:off x="0" y="4365720"/>
            <a:ext cx="9144000" cy="0"/>
          </a:xfrm>
          <a:prstGeom prst="line">
            <a:avLst/>
          </a:prstGeom>
          <a:ln w="2030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-233280" y="2146320"/>
            <a:ext cx="9682200" cy="2151000"/>
            <a:chOff x="-233280" y="2146320"/>
            <a:chExt cx="9682200" cy="2151000"/>
          </a:xfrm>
        </p:grpSpPr>
        <p:pic>
          <p:nvPicPr>
            <p:cNvPr id="45" name="矩形 7" descr=""/>
            <p:cNvPicPr/>
            <p:nvPr/>
          </p:nvPicPr>
          <p:blipFill>
            <a:blip r:embed="rId2"/>
            <a:stretch/>
          </p:blipFill>
          <p:spPr>
            <a:xfrm>
              <a:off x="-233280" y="2146320"/>
              <a:ext cx="968220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-176040" y="2178000"/>
              <a:ext cx="9572760" cy="20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6"/>
          <p:cNvSpPr/>
          <p:nvPr/>
        </p:nvSpPr>
        <p:spPr>
          <a:xfrm>
            <a:off x="0" y="-22320"/>
            <a:ext cx="9144000" cy="966960"/>
          </a:xfrm>
          <a:prstGeom prst="rect">
            <a:avLst/>
          </a:prstGeom>
          <a:solidFill>
            <a:srgbClr val="00b0f0"/>
          </a:soli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5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2030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弧形 1"/>
          <p:cNvSpPr/>
          <p:nvPr/>
        </p:nvSpPr>
        <p:spPr>
          <a:xfrm>
            <a:off x="-9202680" y="404640"/>
            <a:ext cx="18410040" cy="1332000"/>
          </a:xfrm>
          <a:custGeom>
            <a:avLst/>
            <a:gdLst/>
            <a:ahLst/>
            <a:rect l="l" t="t" r="r" b="b"/>
            <a:pathLst>
              <a:path stroke="0" w="18415284" h="1332148">
                <a:moveTo>
                  <a:pt x="9207642" y="0"/>
                </a:moveTo>
                <a:cubicBezTo>
                  <a:pt x="14292882" y="0"/>
                  <a:pt x="18415284" y="298211"/>
                  <a:pt x="18415284" y="666074"/>
                </a:cubicBezTo>
                <a:lnTo>
                  <a:pt x="9207642" y="666074"/>
                </a:lnTo>
                <a:lnTo>
                  <a:pt x="9207642" y="0"/>
                </a:lnTo>
                <a:close/>
              </a:path>
              <a:path fill="none" w="18415284" h="1332148">
                <a:moveTo>
                  <a:pt x="9207642" y="0"/>
                </a:moveTo>
                <a:cubicBezTo>
                  <a:pt x="14292882" y="0"/>
                  <a:pt x="18415284" y="298211"/>
                  <a:pt x="18415284" y="666074"/>
                </a:cubicBezTo>
              </a:path>
            </a:pathLst>
          </a:custGeom>
          <a:solidFill>
            <a:srgbClr val="ffffff"/>
          </a:solidFill>
          <a:ln w="10152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直接连接符 3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2030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0" y="3240"/>
            <a:ext cx="9144000" cy="64908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5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2030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0:24:41Z</dcterms:created>
  <dc:creator/>
  <dc:description/>
  <dc:language>en-US</dc:language>
  <cp:lastModifiedBy>任汉辉</cp:lastModifiedBy>
  <dcterms:modified xsi:type="dcterms:W3CDTF">2015-01-08T03:39:43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