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223-DADF-4448-852E-2EBBDF8B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54A-E014-4950-BF19-67BB518E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02C-F1B2-4E3C-B428-FA6D28DA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84F-2EB8-46CC-A1BB-94833893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23B6-0F28-4F91-96F8-49E86A69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39AC-A1EC-42AF-B0A8-0D2E5E5E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E0CA-6CF3-495D-83D7-AB7A1D44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9A0D-9E99-4745-BA49-039FF172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5E84-46A2-4763-BC5B-BC83BD29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0" y="2666520"/>
            <a:ext cx="91440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8206-B1C7-4EB8-B553-055B49E0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3E16-4295-47C6-BF5E-1CE66F39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41C-95A3-4F49-BEE6-966253CB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592B-B43F-4C28-899B-377BE358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8FD0-FB88-4BFD-8B78-5465B461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D938-0563-4D65-8F48-5397E347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215D-D770-494D-9D4D-BF03B9BA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2A50-C09B-4A9D-BB98-21818133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56D-BCBC-492B-B407-6D3222EE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7D3-FA63-48A7-BCB8-BA79B530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A20-683D-43ED-B8D4-FD7B13F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666520"/>
            <a:ext cx="91440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049-F3EF-499D-934A-F8C45805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A8E-C528-436B-9DF3-E4ECFFE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2B7-1711-4727-8A0D-A5B5A4D4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A8A-ED3C-4828-839C-37E17EE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1681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2448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0456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833D-780E-4193-8C6E-9A85DC5E9B9F}" type="slidenum">
              <a:rPr b="0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29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70200"/>
            <a:ext cx="9144000" cy="113040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9160"/>
            <a:ext cx="6705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ae2"/>
                </a:solidFill>
                <a:latin typeface="Verdana"/>
                <a:ea typeface="Gulim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330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ae2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66cae2"/>
                </a:solidFill>
                <a:latin typeface="Verdana"/>
                <a:ea typeface="Gulim"/>
              </a:rPr>
              <a:t>Present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200040" y="655308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10A5-2CF0-4565-9BC8-29C82495D7B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32448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  <a:ea typeface="Gulim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940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510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1260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Gulim"/>
              </a:rPr>
              <a:t>蓝黑马赛克国外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Gulim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000" spc="-1" strike="noStrike">
              <a:solidFill>
                <a:srgbClr val="000000"/>
              </a:solidFill>
              <a:latin typeface="Verdana"/>
              <a:ea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0840" y="2987280"/>
            <a:ext cx="8763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Gulim"/>
              </a:rPr>
              <a:t>Thank you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  <a:ea typeface="Gulim"/>
            </a:endParaRPr>
          </a:p>
        </p:txBody>
      </p:sp>
      <p:sp>
        <p:nvSpPr>
          <p:cNvPr id="154" name=""/>
          <p:cNvSpPr/>
          <p:nvPr/>
        </p:nvSpPr>
        <p:spPr>
          <a:xfrm>
            <a:off x="2030040" y="598320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337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660680"/>
            <a:ext cx="609480" cy="53316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44476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24000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40226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8830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Diagram 1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66cae2"/>
              </a:gs>
              <a:gs pos="100000">
                <a:srgbClr val="64ecd9"/>
              </a:gs>
            </a:gsLst>
            <a:lin ang="135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748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66cae2"/>
              </a:gs>
              <a:gs pos="100000">
                <a:srgbClr val="64ecd9"/>
              </a:gs>
            </a:gsLst>
            <a:lin ang="135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152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66cae2"/>
              </a:gs>
              <a:gs pos="100000">
                <a:srgbClr val="64ecd9"/>
              </a:gs>
            </a:gsLst>
            <a:lin ang="135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Diagram 2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8fd7e9"/>
              </a:gs>
              <a:gs pos="100000">
                <a:srgbClr val="66cae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64ecd9"/>
              </a:gs>
              <a:gs pos="100000">
                <a:srgbClr val="54c7b7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30840" y="60199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240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424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3f958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Diagram 3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4eb9aa"/>
              </a:gs>
              <a:gs pos="50000">
                <a:srgbClr val="64ecd9"/>
              </a:gs>
              <a:gs pos="100000">
                <a:srgbClr val="4eb9aa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509eb1"/>
              </a:gs>
              <a:gs pos="50000">
                <a:srgbClr val="66cae2"/>
              </a:gs>
              <a:gs pos="100000">
                <a:srgbClr val="509eb1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51c0b1"/>
              </a:gs>
              <a:gs pos="50000">
                <a:srgbClr val="64ecd9"/>
              </a:gs>
              <a:gs pos="100000">
                <a:srgbClr val="51c0b1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hart 2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hart 3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858000" cy="4496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30840" y="577548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8:24:16Z</dcterms:created>
  <dc:creator>yoojin</dc:creator>
  <dc:description/>
  <dc:language>en-US</dc:language>
  <cp:lastModifiedBy>yoojin</cp:lastModifiedBy>
  <dcterms:modified xsi:type="dcterms:W3CDTF">2015-01-08T03:41:20Z</dcterms:modified>
  <cp:revision>1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AdHocReviewCycleID">
    <vt:r8>1344399779</vt:r8>
  </property>
  <property fmtid="{D5CDD505-2E9C-101B-9397-08002B2CF9AE}" pid="4" name="_AuthorEmail">
    <vt:lpwstr>support@themegallery.co.kr</vt:lpwstr>
  </property>
  <property fmtid="{D5CDD505-2E9C-101B-9397-08002B2CF9AE}" pid="5" name="_AuthorEmailDisplayName">
    <vt:lpwstr>support</vt:lpwstr>
  </property>
  <property fmtid="{D5CDD505-2E9C-101B-9397-08002B2CF9AE}" pid="6" name="_EmailSubject">
    <vt:lpwstr>救崇窍技夸 荤捞呈俊辑 颇况器牢飘 巩力肺 舅妨靛副膊 乐绢辑 皋老焊忱聪促.</vt:lpwstr>
  </property>
  <property fmtid="{D5CDD505-2E9C-101B-9397-08002B2CF9AE}" pid="7" name="_PreviousAdHocReviewCycleID">
    <vt:r8>-338095602</vt:r8>
  </property>
</Properties>
</file>