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9D0-0A57-4264-BD0E-01E5C689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ADA-3C02-464E-B6EC-DE011FF4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88B9-6340-431C-BFA3-22B399E5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91D-BE8B-487E-ABA6-76E29D18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E6C5-3DBB-47CF-B03E-3814BE0E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1C53-14B6-40BD-A894-4619B957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2265-1072-459B-A657-19835777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3A7C-9A6F-4A98-AA50-5DC6CD3A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E0EA-D3F3-47D2-BA83-AC804031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5016-B623-4259-B3ED-F17A54A2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DAD2-F1CB-4C61-8FCA-4CF5302B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EB2-F442-4116-BFBA-E2E59591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C078-6430-4FB6-9091-95096AD4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EA62-7EC5-4093-848D-B10202BD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3794-0420-4008-9B60-AD20C567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A19F-AAEA-400B-AD4B-E1DCBF06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8195-3B47-4BA2-A2E6-AA662B80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979E-FF6D-4919-AEC4-2F587AC1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4CF87-61D1-4ACB-84C2-E6E56116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545A-1F09-4399-A12C-53F4C3C4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F445-8FAD-47EA-89F5-ED3223C2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593EB-D449-42F8-BEF0-8F2E3A1C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502-F018-44CB-A93D-199D5B9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AC8A-35AC-44AE-A208-35E25BEC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9885F-C57D-4110-8073-7CA3D70D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3B0F-F7FE-4106-9E63-C352D89A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DC45C-C998-436F-B019-4204F8D0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22F9-3327-4BC4-9EAC-B5DF2E2D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FCDD-A119-4CBA-9490-2C380E4E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5AC1-D4ED-42DE-9CD4-C69DEBAE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2FF70-1DC6-4623-AE27-1D5CA2EC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41104-AA51-4B59-A748-B62B9FF4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D600B-C236-445C-B2E0-2EEDDECF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BC0-E844-44E1-A567-F57A6CD4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A28FE-655E-429F-A924-ECBAC5B0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72F88-3A79-4E2A-A023-171E3BC1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5EAA-6DD0-48B5-BEF7-933E51CA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F6A73-9A63-47D6-BB30-833F3B5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04371-D1AC-4B95-BB05-8ED16A62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4026-999D-471C-967F-2BDE63E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6882B-46B6-4ECF-9E3C-37112489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9C859-0388-4466-965A-64B49AE2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1466B-84EB-4FCB-B600-B36C591E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09BE8-A809-4CBD-BC12-717D7855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89C-BC77-4FCD-BC0A-5A64658F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1C521-C57B-460F-838D-5B4E523D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FA212-AD0A-4BC0-AD4B-37F3DDEC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422AE-B365-48F5-ACBD-3317A618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FC5F6-98CF-4AAE-966B-7613C2BE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CBBE4-AC4E-442C-8EF5-5E31E6E0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674E0-89B0-489B-8C29-6DD912D5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96FEC-82D7-4DA5-961D-438632F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763A4-8E06-48D2-A033-D599E4D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806E6-BC03-4B0B-9400-D408288B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0B85A-7AF7-456C-81FF-37A3672E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9C4-AD53-4941-A52E-9469332A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817CB-5FFC-4521-9047-37E62779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E95-5AE0-46F4-9569-A02CEFB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795-F947-4B43-8EC3-D72D6EA3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53B-E9E1-46BF-88BC-447EA497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920"/>
            <a:ext cx="9144000" cy="69519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ddddd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469A-D9A5-485A-8B06-77A92449C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QQ截图未命名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210200" cy="20001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441600" y="0"/>
            <a:ext cx="48024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79280" y="5950080"/>
            <a:ext cx="445788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A6D4-D055-4EC8-9FB4-9B0BEC883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98A0-E4B0-4BC6-BF10-DEB2FB5A4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205139.30064714.jpg205139" descr=""/>
          <p:cNvPicPr/>
          <p:nvPr/>
        </p:nvPicPr>
        <p:blipFill>
          <a:blip r:embed="rId2"/>
          <a:stretch/>
        </p:blipFill>
        <p:spPr>
          <a:xfrm>
            <a:off x="1440" y="144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A0FE-0FDD-44D8-8070-C87CBCC56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205137.84248221.jpg205137" descr=""/>
          <p:cNvPicPr/>
          <p:nvPr/>
        </p:nvPicPr>
        <p:blipFill>
          <a:blip r:embed="rId2"/>
          <a:stretch/>
        </p:blipFill>
        <p:spPr>
          <a:xfrm>
            <a:off x="1440" y="144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783A-ABE0-4897-85EC-3722DB7C9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223112.41342499.jpg223112" descr=""/>
          <p:cNvPicPr/>
          <p:nvPr/>
        </p:nvPicPr>
        <p:blipFill>
          <a:blip r:embed="rId2"/>
          <a:stretch/>
        </p:blipFill>
        <p:spPr>
          <a:xfrm>
            <a:off x="1440" y="144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4000" y="3357720"/>
            <a:ext cx="273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Brush Script MT"/>
                <a:ea typeface="Brush Script MT"/>
              </a:rPr>
              <a:t>儿时的伙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Brush Script MT"/>
                <a:ea typeface="Brush Script MT"/>
              </a:rPr>
              <a:t>永恒的经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66ff"/>
                </a:solidFill>
                <a:latin typeface="Brush Script MT"/>
                <a:ea typeface="Brush Script MT"/>
              </a:rPr>
              <a:t>25 </a:t>
            </a:r>
            <a:r>
              <a:rPr b="0" lang="zh-CN" sz="2800" spc="-1" strike="noStrike">
                <a:solidFill>
                  <a:srgbClr val="0066ff"/>
                </a:solidFill>
                <a:latin typeface="Brush Script MT"/>
                <a:ea typeface="Brush Script MT"/>
              </a:rPr>
              <a:t>年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Brush Script MT"/>
                <a:ea typeface="Brush Script MT"/>
              </a:rPr>
              <a:t>华丽回归大银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140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540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6:36:20Z</dcterms:created>
  <dc:creator/>
  <dc:description/>
  <dc:language>en-US</dc:language>
  <cp:lastModifiedBy/>
  <dcterms:modified xsi:type="dcterms:W3CDTF">2015-01-07T09:28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