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846-8731-40C0-ACDF-D1597A5A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7F9-E4C3-4F71-80DA-1182BA34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064-1955-4F82-9C80-4A14B73D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DCC-68EF-423A-80E3-299959A8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7BF-FF38-4C24-A2F3-4B3EEAAE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225-5144-41AA-B6F1-CF18EA3A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955-CA9B-4A0D-B2FE-41D98B7E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A4B-FA23-46B1-8D35-03BEE750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875-462C-4F5F-9438-CB7ED6A9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77B-89DD-4F29-99A5-E2E04A2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EAE-F271-42FB-B1A0-9140742F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CC6-7607-4C1C-B168-634E066D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任意多边形 8"/>
          <p:cNvSpPr/>
          <p:nvPr/>
        </p:nvSpPr>
        <p:spPr>
          <a:xfrm>
            <a:off x="-19080" y="131760"/>
            <a:ext cx="9171000" cy="682560"/>
          </a:xfrm>
          <a:custGeom>
            <a:avLst/>
            <a:gdLst/>
            <a:ahLst/>
            <a:rect l="l" t="t" r="r" b="b"/>
            <a:pathLst>
              <a:path w="9177867" h="681277">
                <a:moveTo>
                  <a:pt x="0" y="434930"/>
                </a:moveTo>
                <a:cubicBezTo>
                  <a:pt x="210961" y="295229"/>
                  <a:pt x="421922" y="155529"/>
                  <a:pt x="787400" y="138596"/>
                </a:cubicBezTo>
                <a:cubicBezTo>
                  <a:pt x="1152878" y="121663"/>
                  <a:pt x="1491545" y="355908"/>
                  <a:pt x="2192867" y="333330"/>
                </a:cubicBezTo>
                <a:cubicBezTo>
                  <a:pt x="2894189" y="310752"/>
                  <a:pt x="4085166" y="-36381"/>
                  <a:pt x="4995333" y="3130"/>
                </a:cubicBezTo>
                <a:cubicBezTo>
                  <a:pt x="5905500" y="42641"/>
                  <a:pt x="7065434" y="499841"/>
                  <a:pt x="7653867" y="570396"/>
                </a:cubicBezTo>
                <a:cubicBezTo>
                  <a:pt x="8242300" y="640951"/>
                  <a:pt x="8338255" y="408119"/>
                  <a:pt x="8525933" y="426463"/>
                </a:cubicBezTo>
                <a:cubicBezTo>
                  <a:pt x="8713611" y="444807"/>
                  <a:pt x="8671277" y="697396"/>
                  <a:pt x="8779933" y="680463"/>
                </a:cubicBezTo>
                <a:cubicBezTo>
                  <a:pt x="8888589" y="663530"/>
                  <a:pt x="9033228" y="494196"/>
                  <a:pt x="9177867" y="32486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心形 9"/>
          <p:cNvSpPr/>
          <p:nvPr/>
        </p:nvSpPr>
        <p:spPr>
          <a:xfrm>
            <a:off x="250920" y="274680"/>
            <a:ext cx="288720" cy="24912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心形 10"/>
          <p:cNvSpPr/>
          <p:nvPr/>
        </p:nvSpPr>
        <p:spPr>
          <a:xfrm>
            <a:off x="1547640" y="2890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心形 11"/>
          <p:cNvSpPr/>
          <p:nvPr/>
        </p:nvSpPr>
        <p:spPr>
          <a:xfrm>
            <a:off x="4067280" y="108000"/>
            <a:ext cx="217440" cy="1857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心形 12"/>
          <p:cNvSpPr/>
          <p:nvPr/>
        </p:nvSpPr>
        <p:spPr>
          <a:xfrm>
            <a:off x="8172360" y="479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心形 13"/>
          <p:cNvSpPr/>
          <p:nvPr/>
        </p:nvSpPr>
        <p:spPr>
          <a:xfrm>
            <a:off x="8532720" y="533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心形 14"/>
          <p:cNvSpPr/>
          <p:nvPr/>
        </p:nvSpPr>
        <p:spPr>
          <a:xfrm>
            <a:off x="5219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心形 15"/>
          <p:cNvSpPr/>
          <p:nvPr/>
        </p:nvSpPr>
        <p:spPr>
          <a:xfrm>
            <a:off x="1835280" y="425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心形 16"/>
          <p:cNvSpPr/>
          <p:nvPr/>
        </p:nvSpPr>
        <p:spPr>
          <a:xfrm>
            <a:off x="128520" y="4129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心形 17"/>
          <p:cNvSpPr/>
          <p:nvPr/>
        </p:nvSpPr>
        <p:spPr>
          <a:xfrm>
            <a:off x="5435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心形 18"/>
          <p:cNvSpPr/>
          <p:nvPr/>
        </p:nvSpPr>
        <p:spPr>
          <a:xfrm>
            <a:off x="5003640" y="1270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心形 19"/>
          <p:cNvSpPr/>
          <p:nvPr/>
        </p:nvSpPr>
        <p:spPr>
          <a:xfrm>
            <a:off x="8317080" y="439560"/>
            <a:ext cx="215640" cy="1875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任意多边形 20"/>
          <p:cNvSpPr/>
          <p:nvPr/>
        </p:nvSpPr>
        <p:spPr>
          <a:xfrm>
            <a:off x="36360" y="6273720"/>
            <a:ext cx="9144000" cy="441360"/>
          </a:xfrm>
          <a:custGeom>
            <a:avLst/>
            <a:gdLst/>
            <a:ahLst/>
            <a:rect l="l" t="t" r="r" b="b"/>
            <a:pathLst>
              <a:path w="9144000" h="440755">
                <a:moveTo>
                  <a:pt x="0" y="279400"/>
                </a:moveTo>
                <a:cubicBezTo>
                  <a:pt x="443794" y="366889"/>
                  <a:pt x="887589" y="454378"/>
                  <a:pt x="1481667" y="423333"/>
                </a:cubicBezTo>
                <a:cubicBezTo>
                  <a:pt x="2075745" y="392289"/>
                  <a:pt x="2593623" y="90311"/>
                  <a:pt x="3564467" y="93133"/>
                </a:cubicBezTo>
                <a:cubicBezTo>
                  <a:pt x="4535311" y="95955"/>
                  <a:pt x="6376811" y="455789"/>
                  <a:pt x="7306733" y="440267"/>
                </a:cubicBezTo>
                <a:cubicBezTo>
                  <a:pt x="8236655" y="424745"/>
                  <a:pt x="8690327" y="212372"/>
                  <a:pt x="914400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心形 21"/>
          <p:cNvSpPr/>
          <p:nvPr/>
        </p:nvSpPr>
        <p:spPr>
          <a:xfrm>
            <a:off x="8136000" y="6494400"/>
            <a:ext cx="288720" cy="24948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心形 22"/>
          <p:cNvSpPr/>
          <p:nvPr/>
        </p:nvSpPr>
        <p:spPr>
          <a:xfrm>
            <a:off x="3851280" y="62722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心形 23"/>
          <p:cNvSpPr/>
          <p:nvPr/>
        </p:nvSpPr>
        <p:spPr>
          <a:xfrm>
            <a:off x="1906560" y="651996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心形 24"/>
          <p:cNvSpPr/>
          <p:nvPr/>
        </p:nvSpPr>
        <p:spPr>
          <a:xfrm>
            <a:off x="4122720" y="63658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心形 25"/>
          <p:cNvSpPr/>
          <p:nvPr/>
        </p:nvSpPr>
        <p:spPr>
          <a:xfrm>
            <a:off x="17748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心形 26"/>
          <p:cNvSpPr/>
          <p:nvPr/>
        </p:nvSpPr>
        <p:spPr>
          <a:xfrm>
            <a:off x="236520" y="65660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心形 27"/>
          <p:cNvSpPr/>
          <p:nvPr/>
        </p:nvSpPr>
        <p:spPr>
          <a:xfrm>
            <a:off x="39528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心形 28"/>
          <p:cNvSpPr/>
          <p:nvPr/>
        </p:nvSpPr>
        <p:spPr>
          <a:xfrm>
            <a:off x="160164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心形 29"/>
          <p:cNvSpPr/>
          <p:nvPr/>
        </p:nvSpPr>
        <p:spPr>
          <a:xfrm>
            <a:off x="2195640" y="6524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心形 30"/>
          <p:cNvSpPr/>
          <p:nvPr/>
        </p:nvSpPr>
        <p:spPr>
          <a:xfrm>
            <a:off x="8493120" y="647208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心形 31"/>
          <p:cNvSpPr/>
          <p:nvPr/>
        </p:nvSpPr>
        <p:spPr>
          <a:xfrm>
            <a:off x="80280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心形 32"/>
          <p:cNvSpPr/>
          <p:nvPr/>
        </p:nvSpPr>
        <p:spPr>
          <a:xfrm>
            <a:off x="8748720" y="61786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心形 33"/>
          <p:cNvSpPr/>
          <p:nvPr/>
        </p:nvSpPr>
        <p:spPr>
          <a:xfrm>
            <a:off x="8802720" y="6362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5150-851A-40F0-A44D-9923639FE5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84360" y="1268280"/>
            <a:ext cx="3051000" cy="2665440"/>
            <a:chOff x="684360" y="1268280"/>
            <a:chExt cx="3051000" cy="2665440"/>
          </a:xfrm>
        </p:grpSpPr>
        <p:pic>
          <p:nvPicPr>
            <p:cNvPr id="70" name="图片 4" descr=""/>
            <p:cNvPicPr/>
            <p:nvPr/>
          </p:nvPicPr>
          <p:blipFill>
            <a:blip r:embed="rId1"/>
            <a:stretch/>
          </p:blipFill>
          <p:spPr>
            <a:xfrm>
              <a:off x="758520" y="1528920"/>
              <a:ext cx="2679120" cy="20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心形 5"/>
            <p:cNvSpPr/>
            <p:nvPr/>
          </p:nvSpPr>
          <p:spPr>
            <a:xfrm>
              <a:off x="684360" y="1268280"/>
              <a:ext cx="3051000" cy="2665440"/>
            </a:xfrm>
            <a:custGeom>
              <a:avLst/>
              <a:gdLst/>
              <a:ahLst/>
              <a:rect l="l" t="t" r="r" b="b"/>
              <a:pathLst>
                <a:path w="2952328" h="2577032">
                  <a:moveTo>
                    <a:pt x="1476164" y="644258"/>
                  </a:moveTo>
                  <a:cubicBezTo>
                    <a:pt x="2091232" y="-859011"/>
                    <a:pt x="4489999" y="644258"/>
                    <a:pt x="1476164" y="2577032"/>
                  </a:cubicBezTo>
                  <a:cubicBezTo>
                    <a:pt x="-1537671" y="644258"/>
                    <a:pt x="861096" y="-859011"/>
                    <a:pt x="1476164" y="644258"/>
                  </a:cubicBezTo>
                  <a:close/>
                </a:path>
              </a:pathLst>
            </a:custGeom>
            <a:noFill/>
            <a:ln w="63360">
              <a:solidFill>
                <a:srgbClr val="ff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任意多边形 7"/>
          <p:cNvSpPr/>
          <p:nvPr/>
        </p:nvSpPr>
        <p:spPr>
          <a:xfrm>
            <a:off x="2225520" y="3517920"/>
            <a:ext cx="6247080" cy="890640"/>
          </a:xfrm>
          <a:custGeom>
            <a:avLst/>
            <a:gdLst/>
            <a:ahLst/>
            <a:rect l="l" t="t" r="r" b="b"/>
            <a:pathLst>
              <a:path w="6246891" h="891435">
                <a:moveTo>
                  <a:pt x="0" y="438689"/>
                </a:moveTo>
                <a:cubicBezTo>
                  <a:pt x="356857" y="659744"/>
                  <a:pt x="713714" y="880800"/>
                  <a:pt x="1104522" y="809881"/>
                </a:cubicBezTo>
                <a:cubicBezTo>
                  <a:pt x="1495330" y="738962"/>
                  <a:pt x="1911790" y="97675"/>
                  <a:pt x="2344847" y="13176"/>
                </a:cubicBezTo>
                <a:cubicBezTo>
                  <a:pt x="2777905" y="-71323"/>
                  <a:pt x="3174748" y="277236"/>
                  <a:pt x="3702867" y="302887"/>
                </a:cubicBezTo>
                <a:cubicBezTo>
                  <a:pt x="4230986" y="328538"/>
                  <a:pt x="5122752" y="84095"/>
                  <a:pt x="5513560" y="167085"/>
                </a:cubicBezTo>
                <a:cubicBezTo>
                  <a:pt x="5904368" y="250075"/>
                  <a:pt x="5979814" y="683133"/>
                  <a:pt x="6047715" y="800828"/>
                </a:cubicBezTo>
                <a:cubicBezTo>
                  <a:pt x="6115616" y="918523"/>
                  <a:pt x="5887770" y="895890"/>
                  <a:pt x="5920966" y="873256"/>
                </a:cubicBezTo>
                <a:cubicBezTo>
                  <a:pt x="5954162" y="850622"/>
                  <a:pt x="6100526" y="757824"/>
                  <a:pt x="6246891" y="665026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68120" y="4437000"/>
            <a:ext cx="656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Happy Valentine's D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788080" y="317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Edwardian Script ITC"/>
              </a:rPr>
              <a:t>情人节快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348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3" descr=""/>
          <p:cNvPicPr/>
          <p:nvPr/>
        </p:nvPicPr>
        <p:blipFill>
          <a:blip r:embed="rId1"/>
          <a:stretch/>
        </p:blipFill>
        <p:spPr>
          <a:xfrm>
            <a:off x="92160" y="1530360"/>
            <a:ext cx="5248080" cy="3956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6722280" y="324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那一年，我们相爱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6656400" y="3708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祝大家情人节快乐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638172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4:04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</dc:description>
  <cp:keywords>浪漫 粉色 情人节 PPT 模板</cp:keywords>
  <dc:language>en-US</dc:language>
  <cp:lastModifiedBy>MC SYSTEM</cp:lastModifiedBy>
  <dcterms:modified xsi:type="dcterms:W3CDTF">2015-01-07T09:03:04Z</dcterms:modified>
  <cp:revision>10</cp:revision>
  <dc:subject>情人节</dc:subject>
  <dc:title>浪漫粉色情人节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