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DCBB8-05CF-420A-813D-1AC63E64B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892C0-D92D-4069-86B4-D484AD8C9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BB350-5171-4684-87B0-78E76D5BC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2902F-4C08-436F-A7D2-A8A743EA7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CED8F-17A8-4959-A43C-0CE58F29F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E1A4E-F187-445F-A27E-1077A5B09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F88BD-7E16-4DB8-A994-927A9BCE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B0A26-A3CA-410F-88FB-868F8039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3C526-FF0F-42EF-8BF0-20AC90BE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8174D-CCAC-435B-9361-604EDC146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A8943-1820-43C2-BB8C-C8B2B3B6E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F5166-1023-467D-8116-6891CC5EC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bf59b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bf59b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bf59b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bf59b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851280" y="6524640"/>
            <a:ext cx="1440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AAF6BDE2-5795-42DA-85B3-7357D442D169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63044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20000"/>
              </a:lnSpc>
              <a:spcBef>
                <a:spcPts val="400"/>
              </a:spcBef>
              <a:buClr>
                <a:srgbClr val="ff9021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20000"/>
              </a:lnSpc>
              <a:spcBef>
                <a:spcPts val="34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45080-E537-4084-9A0B-E8077DBA9C3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2BB27-99C8-4746-BD23-484F9D4C8D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69440" y="2781360"/>
            <a:ext cx="8207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68360" y="163044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9280" y="60930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57200" y="1341360"/>
            <a:ext cx="8207280" cy="863640"/>
            <a:chOff x="457200" y="1341360"/>
            <a:chExt cx="8207280" cy="863640"/>
          </a:xfrm>
        </p:grpSpPr>
        <p:grpSp>
          <p:nvGrpSpPr>
            <p:cNvPr id="127" name=""/>
            <p:cNvGrpSpPr/>
            <p:nvPr/>
          </p:nvGrpSpPr>
          <p:grpSpPr>
            <a:xfrm>
              <a:off x="457200" y="1341360"/>
              <a:ext cx="8207280" cy="576360"/>
              <a:chOff x="457200" y="1341360"/>
              <a:chExt cx="8207280" cy="576360"/>
            </a:xfrm>
          </p:grpSpPr>
          <p:sp>
            <p:nvSpPr>
              <p:cNvPr id="128" name=""/>
              <p:cNvSpPr/>
              <p:nvPr/>
            </p:nvSpPr>
            <p:spPr>
              <a:xfrm>
                <a:off x="457200" y="134136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482840" y="134136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508120" y="1341360"/>
                <a:ext cx="1025640" cy="57636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533760" y="134136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562640" y="1341360"/>
                <a:ext cx="1025280" cy="576360"/>
              </a:xfrm>
              <a:prstGeom prst="rect">
                <a:avLst/>
              </a:prstGeom>
              <a:solidFill>
                <a:srgbClr val="bf59b8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587920" y="1341360"/>
                <a:ext cx="1025640" cy="576360"/>
              </a:xfrm>
              <a:prstGeom prst="rect">
                <a:avLst/>
              </a:prstGeom>
              <a:solidFill>
                <a:srgbClr val="884183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613560" y="1341360"/>
                <a:ext cx="1025640" cy="576360"/>
              </a:xfrm>
              <a:prstGeom prst="rect">
                <a:avLst/>
              </a:prstGeom>
              <a:solidFill>
                <a:srgbClr val="371535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639200" y="1341360"/>
                <a:ext cx="1025280" cy="576360"/>
              </a:xfrm>
              <a:prstGeom prst="rect">
                <a:avLst/>
              </a:prstGeom>
              <a:solidFill>
                <a:srgbClr val="d99fd5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457200" y="1917720"/>
              <a:ext cx="8207280" cy="287280"/>
              <a:chOff x="457200" y="1917720"/>
              <a:chExt cx="8207280" cy="287280"/>
            </a:xfrm>
          </p:grpSpPr>
          <p:sp>
            <p:nvSpPr>
              <p:cNvPr id="137" name=""/>
              <p:cNvSpPr/>
              <p:nvPr/>
            </p:nvSpPr>
            <p:spPr>
              <a:xfrm>
                <a:off x="45720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背景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4828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文本和线条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5081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阴影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5337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标题文本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5626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填充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5879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强调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6135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63920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已访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46040" y="253224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7286760" y="44604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3"/>
          <p:cNvSpPr/>
          <p:nvPr/>
        </p:nvSpPr>
        <p:spPr>
          <a:xfrm>
            <a:off x="1479600" y="1700280"/>
            <a:ext cx="6184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谢您的关注 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A264A-AF57-48D8-AADF-D1D9D351860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49" name="矩形 4"/>
            <p:cNvSpPr/>
            <p:nvPr/>
          </p:nvSpPr>
          <p:spPr>
            <a:xfrm>
              <a:off x="679680" y="0"/>
              <a:ext cx="653976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i="1" lang="en-US" sz="3200" spc="-1" strike="noStrike" u="sng">
                  <a:solidFill>
                    <a:srgbClr val="963d0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i="1" lang="zh-CN" sz="3200" spc="-1" strike="noStrike" u="sng">
                  <a:solidFill>
                    <a:srgbClr val="963d0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i="1" lang="en-US" sz="3200" spc="-1" strike="noStrike" u="sng">
                  <a:solidFill>
                    <a:srgbClr val="963d0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D1C99-6DCC-4960-8F75-1412BC69AF7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dc:language>en-US</dc:language>
  <cp:lastModifiedBy>ERICLAU</cp:lastModifiedBy>
  <dcterms:modified xsi:type="dcterms:W3CDTF">2015-01-07T09:02:32Z</dcterms:modified>
  <cp:revision>27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