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A4B-34F6-43BB-9DBB-5685E3CF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EEF-109F-4E0A-A072-82E5B09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F75-E52F-4E73-AAE4-9E91A3DF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194-7E20-4A9C-B274-7AC97A57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FA1-E495-437C-A6F4-DEB640E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A2E-C716-40D9-B202-9DDF7B68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90E-071B-4394-B285-EEB8A4D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C71-D4F7-4F1E-807C-9C05C463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853-A979-448A-962C-2DBC9D12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67C-6C6A-43D0-B064-77AB34A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B30-B037-462D-AA9E-388876F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CE7-5DBE-4750-B659-E702AEA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8DAD-4803-40FA-8DDE-F32674C55FB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dad21"/>
                </a:solidFill>
                <a:latin typeface="Calibri"/>
              </a:rPr>
              <a:t>绿色风车</a:t>
            </a:r>
            <a:r>
              <a:rPr b="0" lang="zh-CN" sz="4400" spc="-1" strike="noStrike">
                <a:solidFill>
                  <a:srgbClr val="7dad21"/>
                </a:solidFill>
                <a:latin typeface="Calibri"/>
              </a:rPr>
              <a:t>清洁能源</a:t>
            </a:r>
            <a:r>
              <a:rPr b="0" lang="zh-CN" sz="4400" spc="-1" strike="noStrike">
                <a:solidFill>
                  <a:srgbClr val="7dad21"/>
                </a:solidFill>
                <a:latin typeface="Calibri"/>
              </a:rPr>
              <a:t>PPT</a:t>
            </a:r>
            <a:r>
              <a:rPr b="0" lang="fr-FR" sz="4400" spc="-1" strike="noStrike">
                <a:solidFill>
                  <a:srgbClr val="7dad21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3480" y="6597720"/>
            <a:ext cx="1155600" cy="17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890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3:48Z</dcterms:created>
  <dc:creator>Admin</dc:creator>
  <dc:description/>
  <dc:language>en-US</dc:language>
  <cp:lastModifiedBy>Admin</cp:lastModifiedBy>
  <dcterms:modified xsi:type="dcterms:W3CDTF">2015-01-08T12:58:17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