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2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90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776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8520" y="304920"/>
            <a:ext cx="7775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62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90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776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8520" y="304920"/>
            <a:ext cx="7775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5441b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66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66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5441b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66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66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5441b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绿色简约风格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7074720" y="64771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66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5441b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24280" y="144792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5441b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AU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AU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----</a:t>
            </a:r>
            <a:r>
              <a:rPr b="1" lang="en-AU" sz="1600" spc="-1" strike="noStrike">
                <a:solidFill>
                  <a:srgbClr val="ededed"/>
                </a:solidFill>
                <a:latin typeface="Verdana"/>
              </a:rPr>
              <a:t>EEPPT.COM</a:t>
            </a:r>
            <a:r>
              <a:rPr b="1" lang="en-AU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AU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AU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AU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AU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AU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AU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AU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AU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AU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AU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AU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AU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AU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AU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AU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AU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AU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en-AU" sz="1600" spc="-1" strike="noStrike">
                <a:solidFill>
                  <a:srgbClr val="e8eff7"/>
                </a:solidFill>
                <a:latin typeface="Verdana"/>
              </a:rPr>
              <a:t>WWW.EEPPT.COM-</a:t>
            </a:r>
            <a:r>
              <a:rPr b="1" lang="en-AU" sz="1600" spc="-1" strike="noStrike">
                <a:solidFill>
                  <a:srgbClr val="e8eff7"/>
                </a:solidFill>
                <a:latin typeface="Verdana"/>
              </a:rPr>
              <a:t>让您轻松制作出精美</a:t>
            </a:r>
            <a:r>
              <a:rPr b="1" lang="en-AU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AU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endParaRPr b="0" lang="en-US" sz="16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AU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AU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AU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AU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AU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AU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AU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AU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AU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99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669900"/>
              </a:solidFill>
              <a:latin typeface="Times New Roman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5:36:26Z</dcterms:created>
  <dc:creator>Ian Agnew</dc:creator>
  <dc:description/>
  <dc:language>en-US</dc:language>
  <cp:lastModifiedBy>a</cp:lastModifiedBy>
  <dcterms:modified xsi:type="dcterms:W3CDTF">2015-01-08T12:56:34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