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911-651D-488B-83B2-831619E7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028-ABE2-4398-AA21-D7FB0CB3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A23-3E8C-46FC-A64B-7969239D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82C-856B-42C1-B8F0-2EEC7916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3E4-394E-40F5-89FE-E8D28152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03D-CBB6-4E19-9CE1-2AAD49F8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B9D-62B1-4AF1-A40A-01E45E91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35A-C814-4625-BFE5-25449034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E59-7BCD-4D44-B365-91F87E21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08B-9A5E-46CC-AEAF-48A3D3F7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F4C-8D98-4A8E-9EBE-EA7D83F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76D-3972-4ABE-8D32-BEA72836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4F48-9909-4F9D-B3C9-31430314166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55120"/>
            <a:ext cx="7772400" cy="6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9966"/>
                </a:solidFill>
                <a:latin typeface="Calibri"/>
              </a:rPr>
              <a:t>绿色家园</a:t>
            </a:r>
            <a:r>
              <a:rPr b="0" lang="zh-CN" sz="3600" spc="-1" strike="noStrike">
                <a:solidFill>
                  <a:srgbClr val="339966"/>
                </a:solidFill>
                <a:latin typeface="Calibri"/>
                <a:ea typeface="宋体"/>
              </a:rPr>
              <a:t>PPT</a:t>
            </a:r>
            <a:r>
              <a:rPr b="0" lang="fr-FR" sz="3600" spc="-1" strike="noStrike">
                <a:solidFill>
                  <a:srgbClr val="339966"/>
                </a:solidFill>
                <a:latin typeface="Calibri"/>
              </a:rPr>
              <a:t>演示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665840" y="480384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996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996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593840" y="473220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4000" y="206280"/>
            <a:ext cx="62024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84000" y="1200240"/>
            <a:ext cx="62024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996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996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5768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7:00:45Z</dcterms:created>
  <dc:creator/>
  <dc:description/>
  <dc:language>en-US</dc:language>
  <cp:lastModifiedBy>Ric6000</cp:lastModifiedBy>
  <dcterms:modified xsi:type="dcterms:W3CDTF">2015-01-08T12:57:1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