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A04-E772-49F5-9C21-7C7D66DC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6F2-70BE-4FEB-8D1B-24F02BA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ACB-917F-4EE9-91E9-3EE9D52E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93A-BE75-4452-BE89-CF2C86C9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1A7-31AF-473D-BD65-E467348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62B-AEC4-4232-9C80-0C2621B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276-83AC-4A86-9237-7F5DB5EF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CA0-B1E0-4075-B5E6-87B1FF3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03B-1AA9-480C-BCB9-73FB632A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F1E-69F0-4AA6-BF03-C954DE4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757-0F4C-4727-B903-94C42DC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BCB-1CD6-45A5-A501-A479747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B36-0FAF-4A03-96FB-1ED284589E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345-3296-4A9D-A5D8-79F320B4F4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绿水青山自然风景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580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7:51:47Z</dcterms:created>
  <dc:creator>Administrator</dc:creator>
  <dc:description/>
  <dc:language>en-US</dc:language>
  <cp:lastModifiedBy>微软用户</cp:lastModifiedBy>
  <dcterms:modified xsi:type="dcterms:W3CDTF">2015-01-08T12:25:5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