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184-CCC3-47E4-BBBA-490B8624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010-9E82-4740-8238-36A613AF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D5B-44D5-4C1D-8718-68B43496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0BC-858B-42A4-B8FB-F638B5E0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870-A11E-4045-AE42-9123B71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0D0-CC5F-410F-8C0A-DD21935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2DB-B301-4069-B587-F2D10588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6D2-54DC-493E-A354-019636BA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96F-8556-4A69-8B37-F02194C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572-C49B-4FB7-9FED-8329927B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571-E6C3-4652-B6C6-4EF9720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04D-0584-4CD1-A41E-2330EF5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92246"/>
          <a:stretch/>
        </p:blipFill>
        <p:spPr>
          <a:xfrm>
            <a:off x="0" y="0"/>
            <a:ext cx="9169560" cy="533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rcRect l="0" t="0" r="90836" b="92225"/>
          <a:stretch/>
        </p:blipFill>
        <p:spPr>
          <a:xfrm>
            <a:off x="0" y="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34360" cy="6926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0" t="53336" r="0" b="0"/>
          <a:stretch/>
        </p:blipFill>
        <p:spPr>
          <a:xfrm>
            <a:off x="0" y="396252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4324-3AD0-4D2F-AC25-16B86D17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480"/>
            <a:ext cx="9144000" cy="6851520"/>
            <a:chOff x="0" y="6480"/>
            <a:chExt cx="9144000" cy="6851520"/>
          </a:xfrm>
        </p:grpSpPr>
        <p:grpSp>
          <p:nvGrpSpPr>
            <p:cNvPr id="47" name=""/>
            <p:cNvGrpSpPr/>
            <p:nvPr/>
          </p:nvGrpSpPr>
          <p:grpSpPr>
            <a:xfrm>
              <a:off x="0" y="6480"/>
              <a:ext cx="9144000" cy="6851520"/>
              <a:chOff x="0" y="6480"/>
              <a:chExt cx="9144000" cy="685152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5486400"/>
                <a:ext cx="91440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" descr=""/>
              <p:cNvPicPr/>
              <p:nvPr/>
            </p:nvPicPr>
            <p:blipFill>
              <a:blip r:embed="rId2"/>
              <a:srcRect l="0" t="0" r="0" b="64506"/>
              <a:stretch/>
            </p:blipFill>
            <p:spPr>
              <a:xfrm>
                <a:off x="7920" y="6480"/>
                <a:ext cx="9136080" cy="243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3"/>
              <a:srcRect l="0" t="50900" r="0" b="8160"/>
              <a:stretch/>
            </p:blipFill>
            <p:spPr>
              <a:xfrm>
                <a:off x="0" y="2830680"/>
                <a:ext cx="9144000" cy="28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" name="" descr=""/>
            <p:cNvPicPr/>
            <p:nvPr/>
          </p:nvPicPr>
          <p:blipFill>
            <a:blip r:embed="rId4"/>
            <a:srcRect l="38209" t="87824" r="35213" b="4430"/>
            <a:stretch/>
          </p:blipFill>
          <p:spPr>
            <a:xfrm>
              <a:off x="3352680" y="5562720"/>
              <a:ext cx="243864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内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652840" y="1604880"/>
            <a:ext cx="4286160" cy="615960"/>
            <a:chOff x="2652840" y="1604880"/>
            <a:chExt cx="4286160" cy="615960"/>
          </a:xfrm>
        </p:grpSpPr>
        <p:grpSp>
          <p:nvGrpSpPr>
            <p:cNvPr id="58" name=""/>
            <p:cNvGrpSpPr/>
            <p:nvPr/>
          </p:nvGrpSpPr>
          <p:grpSpPr>
            <a:xfrm>
              <a:off x="2652840" y="1604880"/>
              <a:ext cx="4286160" cy="615960"/>
              <a:chOff x="2652840" y="1604880"/>
              <a:chExt cx="4286160" cy="615960"/>
            </a:xfrm>
          </p:grpSpPr>
          <p:sp>
            <p:nvSpPr>
              <p:cNvPr id="59" name="AutoShape 3"/>
              <p:cNvSpPr/>
              <p:nvPr/>
            </p:nvSpPr>
            <p:spPr>
              <a:xfrm>
                <a:off x="2653200" y="160488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3"/>
              <p:cNvSpPr/>
              <p:nvPr/>
            </p:nvSpPr>
            <p:spPr>
              <a:xfrm>
                <a:off x="2652840" y="164916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859200" y="171756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52840" y="2557440"/>
            <a:ext cx="4286160" cy="615960"/>
            <a:chOff x="2652840" y="2557440"/>
            <a:chExt cx="4286160" cy="615960"/>
          </a:xfrm>
        </p:grpSpPr>
        <p:grpSp>
          <p:nvGrpSpPr>
            <p:cNvPr id="63" name=""/>
            <p:cNvGrpSpPr/>
            <p:nvPr/>
          </p:nvGrpSpPr>
          <p:grpSpPr>
            <a:xfrm>
              <a:off x="2652840" y="2557440"/>
              <a:ext cx="4286160" cy="615960"/>
              <a:chOff x="2652840" y="2557440"/>
              <a:chExt cx="4286160" cy="615960"/>
            </a:xfrm>
          </p:grpSpPr>
          <p:sp>
            <p:nvSpPr>
              <p:cNvPr id="64" name="AutoShape 3"/>
              <p:cNvSpPr/>
              <p:nvPr/>
            </p:nvSpPr>
            <p:spPr>
              <a:xfrm>
                <a:off x="2653200" y="255744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3"/>
              <p:cNvSpPr/>
              <p:nvPr/>
            </p:nvSpPr>
            <p:spPr>
              <a:xfrm>
                <a:off x="2652840" y="260172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13"/>
            <p:cNvSpPr/>
            <p:nvPr/>
          </p:nvSpPr>
          <p:spPr>
            <a:xfrm>
              <a:off x="3859200" y="267012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652840" y="3510000"/>
            <a:ext cx="4286160" cy="615960"/>
            <a:chOff x="2652840" y="3510000"/>
            <a:chExt cx="4286160" cy="615960"/>
          </a:xfrm>
        </p:grpSpPr>
        <p:grpSp>
          <p:nvGrpSpPr>
            <p:cNvPr id="68" name=""/>
            <p:cNvGrpSpPr/>
            <p:nvPr/>
          </p:nvGrpSpPr>
          <p:grpSpPr>
            <a:xfrm>
              <a:off x="2652840" y="3510000"/>
              <a:ext cx="4286160" cy="615960"/>
              <a:chOff x="2652840" y="3510000"/>
              <a:chExt cx="4286160" cy="615960"/>
            </a:xfrm>
          </p:grpSpPr>
          <p:sp>
            <p:nvSpPr>
              <p:cNvPr id="69" name="AutoShape 3"/>
              <p:cNvSpPr/>
              <p:nvPr/>
            </p:nvSpPr>
            <p:spPr>
              <a:xfrm>
                <a:off x="2653200" y="351000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utoShape 3"/>
              <p:cNvSpPr/>
              <p:nvPr/>
            </p:nvSpPr>
            <p:spPr>
              <a:xfrm>
                <a:off x="2652840" y="355428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13"/>
            <p:cNvSpPr/>
            <p:nvPr/>
          </p:nvSpPr>
          <p:spPr>
            <a:xfrm>
              <a:off x="3859200" y="362268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652840" y="4462560"/>
            <a:ext cx="4286160" cy="615960"/>
            <a:chOff x="2652840" y="4462560"/>
            <a:chExt cx="4286160" cy="615960"/>
          </a:xfrm>
        </p:grpSpPr>
        <p:grpSp>
          <p:nvGrpSpPr>
            <p:cNvPr id="73" name=""/>
            <p:cNvGrpSpPr/>
            <p:nvPr/>
          </p:nvGrpSpPr>
          <p:grpSpPr>
            <a:xfrm>
              <a:off x="2652840" y="4462560"/>
              <a:ext cx="4286160" cy="615960"/>
              <a:chOff x="2652840" y="4462560"/>
              <a:chExt cx="4286160" cy="615960"/>
            </a:xfrm>
          </p:grpSpPr>
          <p:sp>
            <p:nvSpPr>
              <p:cNvPr id="74" name="AutoShape 3"/>
              <p:cNvSpPr/>
              <p:nvPr/>
            </p:nvSpPr>
            <p:spPr>
              <a:xfrm>
                <a:off x="2653200" y="4462560"/>
                <a:ext cx="4285080" cy="61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fbfbf"/>
                  </a:gs>
                </a:gsLst>
                <a:lin ang="54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3"/>
              <p:cNvSpPr/>
              <p:nvPr/>
            </p:nvSpPr>
            <p:spPr>
              <a:xfrm>
                <a:off x="2652840" y="4506840"/>
                <a:ext cx="4286160" cy="527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57cff"/>
                  </a:gs>
                  <a:gs pos="100000">
                    <a:srgbClr val="05004c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13"/>
            <p:cNvSpPr/>
            <p:nvPr/>
          </p:nvSpPr>
          <p:spPr>
            <a:xfrm>
              <a:off x="3859200" y="4575240"/>
              <a:ext cx="188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71800" y="239544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071800" y="144792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071800" y="4300560"/>
            <a:ext cx="900000" cy="871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071800" y="3352680"/>
            <a:ext cx="900000" cy="871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660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内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560" y="64771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5:50:01Z</dcterms:created>
  <dc:creator/>
  <dc:description/>
  <dc:language>en-US</dc:language>
  <cp:lastModifiedBy>User</cp:lastModifiedBy>
  <dcterms:modified xsi:type="dcterms:W3CDTF">2015-01-07T09:16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