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8BA5-361C-4F21-8E82-53DF7220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F72B-463B-4A03-B017-3DB6E0D9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5AC-C94E-49C8-BE34-4F8F2A5D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27C4-9B04-4BFE-924B-ED5D184A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BAA7-1B52-46E7-9D3A-8F563FB4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B34-AC4C-4CE0-929F-FE86F68E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6924-289D-499A-9F62-89735E6D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2D90-CF38-4198-8813-097B1C35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AB2-14D6-4D83-AA18-F62AA4BA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FBA4-3326-4888-8D73-A190EF55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7B00-8CFC-4910-B6DA-E08BC637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0E54-E6EA-4996-890F-6CA1515B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45FE-514C-477B-B5FD-EC323FB56FB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3286080"/>
            <a:ext cx="54579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Calibri"/>
              </a:rPr>
              <a:t>绿色商务</a:t>
            </a:r>
            <a:r>
              <a:rPr b="0" lang="zh-CN" sz="54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fr-FR" sz="54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101080" y="6591240"/>
            <a:ext cx="865080" cy="211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548560" y="6454800"/>
            <a:ext cx="559080" cy="37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61120" y="645336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contents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9:23:04Z</dcterms:created>
  <dc:creator>Éric Vadeboncoeur</dc:creator>
  <dc:description/>
  <dc:language>en-US</dc:language>
  <cp:lastModifiedBy>Éric Vadeboncoeur</cp:lastModifiedBy>
  <dcterms:modified xsi:type="dcterms:W3CDTF">2015-01-08T12:56:01Z</dcterms:modified>
  <cp:revision>1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