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765-0215-4145-A6DF-7005AE28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844-8D7B-427C-AFCE-57D6181B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C36-036F-4D85-B5AC-F2A9A29A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732-3D5E-4F4F-92BC-B7299CAB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90B-577D-4DFD-807D-F1286AD3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574-7884-4462-8679-33417D4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CB6C-9045-4E82-AF88-32D1DC9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8ECB-1647-42C3-B9DC-F9E9A41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5CA-5C63-4AFE-AC3C-E9FD3D1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2B12-88A0-4139-866B-6708C1D0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2FA-FBBE-4E71-ACFA-19E51F3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3B5-20E4-4CB0-A39E-B89A9624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"/>
          <p:cNvSpPr/>
          <p:nvPr/>
        </p:nvSpPr>
        <p:spPr>
          <a:xfrm flipH="1" flipV="1">
            <a:off x="0" y="5760"/>
            <a:ext cx="9142560" cy="126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矩形 12"/>
          <p:cNvSpPr/>
          <p:nvPr/>
        </p:nvSpPr>
        <p:spPr>
          <a:xfrm flipH="1" flipV="1">
            <a:off x="0" y="5760"/>
            <a:ext cx="9142560" cy="352440"/>
          </a:xfrm>
          <a:prstGeom prst="rect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3"/>
          <p:cNvSpPr/>
          <p:nvPr/>
        </p:nvSpPr>
        <p:spPr>
          <a:xfrm flipH="1" flipV="1">
            <a:off x="0" y="720"/>
            <a:ext cx="9142560" cy="181080"/>
          </a:xfrm>
          <a:prstGeom prst="rect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7"/>
          <p:cNvSpPr/>
          <p:nvPr/>
        </p:nvSpPr>
        <p:spPr>
          <a:xfrm>
            <a:off x="0" y="6608880"/>
            <a:ext cx="9144000" cy="82440"/>
          </a:xfrm>
          <a:prstGeom prst="rect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0" y="6691320"/>
            <a:ext cx="9144000" cy="166680"/>
          </a:xfrm>
          <a:prstGeom prst="rect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f75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f75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f75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f75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3f75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15F0-3F84-43F4-860C-9C87CF49E577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762B-DC7F-4F31-82A5-E2E6CD58797A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MS P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直角三角形 15"/>
          <p:cNvSpPr/>
          <p:nvPr/>
        </p:nvSpPr>
        <p:spPr>
          <a:xfrm flipV="1">
            <a:off x="0" y="333000"/>
            <a:ext cx="4572000" cy="151128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3"/>
          <p:cNvSpPr/>
          <p:nvPr/>
        </p:nvSpPr>
        <p:spPr>
          <a:xfrm flipH="1" flipV="1">
            <a:off x="0" y="4313160"/>
            <a:ext cx="9144000" cy="1276560"/>
          </a:xfrm>
          <a:prstGeom prst="rtTriangle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直角三角形 4"/>
          <p:cNvSpPr/>
          <p:nvPr/>
        </p:nvSpPr>
        <p:spPr>
          <a:xfrm flipH="1" flipV="1">
            <a:off x="0" y="4312440"/>
            <a:ext cx="9144000" cy="987480"/>
          </a:xfrm>
          <a:prstGeom prst="rtTriangle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直角三角形 5"/>
          <p:cNvSpPr/>
          <p:nvPr/>
        </p:nvSpPr>
        <p:spPr>
          <a:xfrm flipH="1" flipV="1">
            <a:off x="0" y="4308480"/>
            <a:ext cx="9144000" cy="704880"/>
          </a:xfrm>
          <a:prstGeom prst="rtTriangle">
            <a:avLst/>
          </a:prstGeom>
          <a:solidFill>
            <a:srgbClr val="60b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 flipH="1" rot="10800000">
            <a:off x="0" y="0"/>
            <a:ext cx="9144000" cy="430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直角三角形 7"/>
          <p:cNvSpPr/>
          <p:nvPr/>
        </p:nvSpPr>
        <p:spPr>
          <a:xfrm flipH="1" flipV="1">
            <a:off x="0" y="4307760"/>
            <a:ext cx="9144000" cy="360360"/>
          </a:xfrm>
          <a:prstGeom prst="rtTriangle">
            <a:avLst/>
          </a:prstGeom>
          <a:solidFill>
            <a:srgbClr val="007d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直角三角形 8"/>
          <p:cNvSpPr/>
          <p:nvPr/>
        </p:nvSpPr>
        <p:spPr>
          <a:xfrm flipH="1" flipV="1">
            <a:off x="0" y="4279320"/>
            <a:ext cx="9144000" cy="20772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660560"/>
            <a:ext cx="77724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蓝色通用</a:t>
            </a:r>
            <a:r>
              <a:rPr b="1" lang="en-US" sz="36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Impact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2120" y="5780160"/>
            <a:ext cx="640080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5" name=""/>
          <p:cNvSpPr/>
          <p:nvPr/>
        </p:nvSpPr>
        <p:spPr>
          <a:xfrm>
            <a:off x="6381000" y="636444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f75"/>
              </a:buClr>
              <a:buFont typeface="Wingdings" charset="2"/>
              <a:buChar char=""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b8803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5:45:00Z</dcterms:created>
  <dc:creator>果因PPT工作室</dc:creator>
  <dc:description/>
  <cp:keywords>XS-普屏 4：3;SC-深蓝色;BG-浅色;DH-静态</cp:keywords>
  <dc:language>en-US</dc:language>
  <cp:lastModifiedBy>田士庆</cp:lastModifiedBy>
  <dcterms:modified xsi:type="dcterms:W3CDTF">2015-01-07T09:16:11Z</dcterms:modified>
  <cp:revision>2</cp:revision>
  <dc:subject>TP-通用纹理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