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E82-6647-4E61-98D6-57D02676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171-07AD-48DC-B943-1BB46910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213-3F48-4A6C-99B7-5698C0D3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666-CF63-4484-AC51-1D43C8A8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2838-B721-4E9A-A858-4B926734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956-587C-4B93-9848-CAF12A3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D14-FCC9-4A94-8152-F3B688C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CEC1-52C8-4AD9-AD1C-144D7035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E3C-BB4F-40E0-95B3-D0D392BB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32E-432A-4AB2-90C3-84C6442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46C-47A6-4760-9D69-4AAF655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6C2-A29F-4AEA-AB3F-422B6CB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F66-0720-475E-A86D-A0C78B7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E91-7C8A-4CF0-A70D-4A19860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FC1-FD85-4064-8FB7-5F0F9D7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9B5-92D3-40B1-9DD3-EB18D594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C475-FB8C-4A04-935A-6C8EE96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795-4021-42D4-BF4B-D4459A7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760-3483-4F7C-948F-353781E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5FB-28E9-4430-8BE2-F92A98C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A7F-7258-4CAA-8B17-5EFBEFA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6C4-8E2A-48E8-96A8-725F3ED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F0C-9767-4898-8E07-7D33C6D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61D-4F91-447B-9F00-14A441E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0D8-EEA9-4D78-87FD-BEA367436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56C-AE92-41FD-8658-6A372B88B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Calibri"/>
                <a:ea typeface="Calibri"/>
              </a:rPr>
              <a:t>蓝色旋律</a:t>
            </a:r>
            <a:r>
              <a:rPr b="1" lang="en-US" sz="2500" spc="-1" strike="noStrike">
                <a:solidFill>
                  <a:srgbClr val="002060"/>
                </a:solidFill>
                <a:latin typeface="Calibri"/>
                <a:ea typeface="Calibri"/>
              </a:rPr>
              <a:t>ppt</a:t>
            </a:r>
            <a:r>
              <a:rPr b="1" lang="zh-CN" sz="2500" spc="-1" strike="noStrike">
                <a:solidFill>
                  <a:srgbClr val="002060"/>
                </a:solidFill>
                <a:latin typeface="Calibri"/>
                <a:ea typeface="Calibri"/>
              </a:rPr>
              <a:t>模板在线下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357120" y="3341520"/>
            <a:ext cx="500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2060"/>
                </a:solidFill>
                <a:latin typeface="Arial"/>
                <a:ea typeface="Arial"/>
              </a:rPr>
              <a:t>感谢聆听</a:t>
            </a:r>
            <a:r>
              <a:rPr b="0" i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you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360" y="63086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75e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dc:language>en-US</dc:language>
  <cp:lastModifiedBy>微软中国</cp:lastModifiedBy>
  <dcterms:modified xsi:type="dcterms:W3CDTF">2015-01-07T09:04:0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