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43CDD596-1F74-40A5-8310-26797A2687D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4400" y="1309320"/>
            <a:ext cx="7118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蓝天白云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sz="3200" spc="-1" strike="noStrike">
                <a:solidFill>
                  <a:srgbClr val="ffffff"/>
                </a:solidFill>
                <a:latin typeface="Arial"/>
              </a:rPr>
              <a:t>背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74400" y="2472840"/>
            <a:ext cx="714204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Enter your subtitle or main author‘s n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4384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微软用户</cp:lastModifiedBy>
  <dcterms:modified xsi:type="dcterms:W3CDTF">2015-01-07T17:12:05Z</dcterms:modified>
  <cp:revision>6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