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B53-60E8-4EF5-BE88-561D51ED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732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C25-C3EB-4691-B9F9-1AA83BC6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732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732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922-B898-4EB2-AE8E-CCBE1836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732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732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732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82F-C687-41BA-AAFF-C497A659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5D66-D0A0-4CDD-854A-118C7C52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B785-737D-4F9D-8A9D-BAFD198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6FA6-4082-4B64-93B9-CF94213E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ED46-4B79-4C6E-93EC-EF30D30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D41D-2B9E-4EDF-9D7A-C96795D6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0040" y="6444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5576-A06A-4C9C-B67D-E195A408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732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496-F2B3-4157-B76B-C3CAB375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B9C-3C1D-43A5-B014-141CC741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2732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798B-4051-4241-BFA3-F67D9ED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732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2A07-2A0F-4B54-8526-3844C56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2732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07E0-0C7B-4405-A964-BFD737FB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732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2732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9C8-4529-4644-900C-F657C68C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2732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2732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27320"/>
            <a:ext cx="264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A469-87BB-417D-9963-EB4EECAA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93F-5ED9-4FE1-99D7-3B221CDF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433-2451-463A-AFDF-4A715EE0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0D1-9812-42B7-9B93-7CC072BE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0040" y="6444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FAC-BE0E-4556-8DC1-103FF9E3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732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01A-D4FF-45FD-A77A-2441A217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732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F15-F1FD-4076-8F92-1ECE4E2A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7320"/>
            <a:ext cx="82296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FDA-F1F7-4D3E-A968-8AD6A4AE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细黑"/>
              </a:rPr>
              <a:t>Click to edit the title text format</a:t>
            </a: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  <a:p>
            <a:pPr lvl="1" marL="743040" indent="-28584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  <a:p>
            <a:pPr lvl="2" marL="11430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  <a:p>
            <a:pPr lvl="3" marL="16002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  <a:p>
            <a:pPr lvl="4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  <a:p>
            <a:pPr lvl="5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  <a:p>
            <a:pPr lvl="6" marL="2057400" indent="-228600">
              <a:spcBef>
                <a:spcPts val="649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6BCC-1B68-4574-99E0-8C0DB7109E26}" type="slidenum">
              <a:rPr b="0" lang="zh-CN" sz="1200" spc="-1" strike="noStrike">
                <a:solidFill>
                  <a:srgbClr val="8d8d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封面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细黑"/>
              </a:rPr>
              <a:t>Click to edit the title text format</a:t>
            </a: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72E5-3EF3-4DEA-8E4F-F8FEF3126F03}" type="slidenum">
              <a:rPr b="0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2626"/>
                </a:solidFill>
                <a:latin typeface="华文细黑"/>
              </a:rPr>
              <a:t>Click to edit the outline text format</a:t>
            </a:r>
            <a:endParaRPr b="1" lang="en-US" sz="2600" spc="-1" strike="noStrike">
              <a:solidFill>
                <a:srgbClr val="262626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华文细黑"/>
            </a:endParaRPr>
          </a:p>
          <a:p>
            <a:pPr lvl="2" marL="914400" algn="ctr">
              <a:spcBef>
                <a:spcPts val="400"/>
              </a:spcBef>
              <a:buClr>
                <a:srgbClr val="262626"/>
              </a:buClr>
              <a:buSzPct val="80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华文细黑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lvl="3" marL="1371600" algn="ctr">
              <a:spcBef>
                <a:spcPts val="400"/>
              </a:spcBef>
              <a:buClr>
                <a:srgbClr val="262626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华文细黑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lvl="4" marL="1828800" algn="ctr">
              <a:spcBef>
                <a:spcPts val="4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华文细黑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lvl="5" marL="1828800">
              <a:spcBef>
                <a:spcPts val="4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华文细黑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lvl="6" marL="1828800">
              <a:spcBef>
                <a:spcPts val="400"/>
              </a:spcBef>
              <a:buClr>
                <a:srgbClr val="26262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华文细黑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4000" y="5589360"/>
            <a:ext cx="575928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  <p:pic>
        <p:nvPicPr>
          <p:cNvPr id="85" name="图片 5" descr="封面副本.png"/>
          <p:cNvPicPr/>
          <p:nvPr/>
        </p:nvPicPr>
        <p:blipFill>
          <a:blip r:embed="rId1"/>
          <a:srcRect l="3126" t="68755" r="83598" b="17706"/>
          <a:stretch/>
        </p:blipFill>
        <p:spPr>
          <a:xfrm>
            <a:off x="1633680" y="155520"/>
            <a:ext cx="1071360" cy="8193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027080" y="189000"/>
            <a:ext cx="2775600" cy="1285200"/>
            <a:chOff x="1027080" y="189000"/>
            <a:chExt cx="2775600" cy="1285200"/>
          </a:xfrm>
        </p:grpSpPr>
        <p:sp>
          <p:nvSpPr>
            <p:cNvPr id="87" name="TextBox 8"/>
            <p:cNvSpPr/>
            <p:nvPr/>
          </p:nvSpPr>
          <p:spPr>
            <a:xfrm>
              <a:off x="2250360" y="8316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a9de"/>
                  </a:solidFill>
                  <a:latin typeface="方正舒体"/>
                  <a:ea typeface="方正舒体"/>
                </a:rPr>
                <a:t>儿童节快乐</a:t>
              </a:r>
              <a:endParaRPr b="0" lang="en-US" sz="3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8" name="矩形 9"/>
            <p:cNvSpPr/>
            <p:nvPr/>
          </p:nvSpPr>
          <p:spPr>
            <a:xfrm>
              <a:off x="1027080" y="189000"/>
              <a:ext cx="79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a9de"/>
                  </a:solidFill>
                  <a:latin typeface="方正舒体"/>
                  <a:ea typeface="方正舒体"/>
                </a:rPr>
                <a:t>六一</a:t>
              </a:r>
              <a:endParaRPr b="0" lang="en-US" sz="4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pic>
        <p:nvPicPr>
          <p:cNvPr id="89" name="图片 12" descr="封面副本.png"/>
          <p:cNvPicPr/>
          <p:nvPr/>
        </p:nvPicPr>
        <p:blipFill>
          <a:blip r:embed="rId2"/>
          <a:srcRect l="83598" t="68755" r="3126" b="17706"/>
          <a:stretch/>
        </p:blipFill>
        <p:spPr>
          <a:xfrm>
            <a:off x="108000" y="155520"/>
            <a:ext cx="1071360" cy="819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9308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644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华文细黑"/>
              </a:rPr>
              <a:t>谢谢观赏</a:t>
            </a: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pic>
        <p:nvPicPr>
          <p:cNvPr id="94" name="图片 5" descr="封面副本.png"/>
          <p:cNvPicPr/>
          <p:nvPr/>
        </p:nvPicPr>
        <p:blipFill>
          <a:blip r:embed="rId1"/>
          <a:srcRect l="3126" t="68755" r="83598" b="17706"/>
          <a:stretch/>
        </p:blipFill>
        <p:spPr>
          <a:xfrm>
            <a:off x="1633680" y="155520"/>
            <a:ext cx="1071360" cy="81936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027080" y="189000"/>
            <a:ext cx="2775600" cy="1285200"/>
            <a:chOff x="1027080" y="189000"/>
            <a:chExt cx="2775600" cy="1285200"/>
          </a:xfrm>
        </p:grpSpPr>
        <p:sp>
          <p:nvSpPr>
            <p:cNvPr id="96" name="TextBox 8"/>
            <p:cNvSpPr/>
            <p:nvPr/>
          </p:nvSpPr>
          <p:spPr>
            <a:xfrm>
              <a:off x="2250360" y="8316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a9de"/>
                  </a:solidFill>
                  <a:latin typeface="方正舒体"/>
                  <a:ea typeface="方正舒体"/>
                </a:rPr>
                <a:t>儿童节快乐</a:t>
              </a:r>
              <a:endParaRPr b="0" lang="en-US" sz="36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7" name="矩形 9"/>
            <p:cNvSpPr/>
            <p:nvPr/>
          </p:nvSpPr>
          <p:spPr>
            <a:xfrm>
              <a:off x="1027080" y="189000"/>
              <a:ext cx="79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a9de"/>
                  </a:solidFill>
                  <a:latin typeface="方正舒体"/>
                  <a:ea typeface="方正舒体"/>
                </a:rPr>
                <a:t>六一</a:t>
              </a:r>
              <a:endParaRPr b="0" lang="en-US" sz="4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pic>
        <p:nvPicPr>
          <p:cNvPr id="98" name="图片 12" descr="封面副本.png"/>
          <p:cNvPicPr/>
          <p:nvPr/>
        </p:nvPicPr>
        <p:blipFill>
          <a:blip r:embed="rId2"/>
          <a:srcRect l="83598" t="68755" r="3126" b="17706"/>
          <a:stretch/>
        </p:blipFill>
        <p:spPr>
          <a:xfrm>
            <a:off x="108000" y="155520"/>
            <a:ext cx="1071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华文细黑"/>
              </a:rPr>
              <a:t>使用规范说明</a:t>
            </a:r>
            <a:endParaRPr b="1" lang="en-US" sz="32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华文细黑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9:09:29Z</dcterms:created>
  <dc:creator/>
  <dc:description/>
  <dc:language>en-US</dc:language>
  <cp:lastModifiedBy/>
  <dcterms:modified xsi:type="dcterms:W3CDTF">2015-01-08T13:11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