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799763" cy="606583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70C-2E05-4B5C-AD05-DE023C16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9720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3506040"/>
            <a:ext cx="9720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541-DA23-4E31-BC20-4310D605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2024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350604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20240" y="350604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8386-B0E9-46AC-9EE5-F0971C6E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26080" y="141552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112880" y="141552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350604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26080" y="350604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112880" y="350604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B9D-5641-47FA-876A-72996D3F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4892-5D4B-4D30-A0A5-36D79478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1415520"/>
            <a:ext cx="972036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436A-6D27-4489-BA4C-FC427989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9720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8AF4-01BB-485B-864C-35E88902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4743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20240" y="1415520"/>
            <a:ext cx="4743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864D-1C49-471F-ADB5-A76F086F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A8D2-CB69-4AE7-AEA6-974C2B1D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280" y="242640"/>
            <a:ext cx="972036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D0B7-1D62-499C-8B21-04557168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20240" y="1415520"/>
            <a:ext cx="4743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280" y="350604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771D-00A0-4254-A8C3-D866D7A0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415520"/>
            <a:ext cx="972036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2E8-1E5F-46E4-932C-AA9D25FD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4743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2024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520240" y="350604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886B-41DF-47AC-8CF8-8E48D9E0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2024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3506040"/>
            <a:ext cx="9720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ADC9-F1CE-406D-9399-AF786E38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9720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280" y="3506040"/>
            <a:ext cx="9720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80F7-B3F5-4648-B3CD-E14A436D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52024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280" y="350604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20240" y="350604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FB58-70E7-4AB5-92AF-21E5C8E5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26080" y="141552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112880" y="141552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9280" y="350604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26080" y="350604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112880" y="3506040"/>
            <a:ext cx="312984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E385-8371-4795-A36A-1178D47D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9720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A3E-AE30-4E99-99AE-D035E036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4743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20240" y="1415520"/>
            <a:ext cx="4743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2587-2B19-4964-85A3-169849A1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E9C6-3BB1-41FB-ADEA-87035B56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242640"/>
            <a:ext cx="972036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B84-176A-414B-A704-C7335F56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240" y="1415520"/>
            <a:ext cx="4743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350604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4BE-F11A-4025-B0E9-6A4E5167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4743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024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20240" y="350604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D3A-AEBA-47EB-BF7E-269B931D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20240" y="1415520"/>
            <a:ext cx="4743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3506040"/>
            <a:ext cx="9720360" cy="1908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FBE-49EC-4D53-8297-ED613C98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920" y="-17640"/>
            <a:ext cx="10791720" cy="6075720"/>
            <a:chOff x="7920" y="-17640"/>
            <a:chExt cx="10791720" cy="607572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7920" y="-17640"/>
              <a:ext cx="10791720" cy="607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rcRect l="5396" t="5349" r="74912" b="80615"/>
            <a:stretch/>
          </p:blipFill>
          <p:spPr>
            <a:xfrm>
              <a:off x="468720" y="225000"/>
              <a:ext cx="1807560" cy="96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0360" cy="101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9280" y="1415520"/>
            <a:ext cx="9720360" cy="400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 fontScale="94000"/>
          </a:bodyPr>
          <a:p>
            <a:pPr marL="332640" indent="-33264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10240" indent="-222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553400" indent="-222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1996560" indent="-220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1996560" indent="-220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1996560" indent="-220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9280" y="5524560"/>
            <a:ext cx="2521080" cy="420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688920" y="5524560"/>
            <a:ext cx="3419640" cy="420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38560" y="5524560"/>
            <a:ext cx="2521080" cy="420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8456-7FF1-41F4-A359-DDFB117EA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09280" y="1884240"/>
            <a:ext cx="9178920" cy="1300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280" y="5524560"/>
            <a:ext cx="2521080" cy="420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688920" y="5524560"/>
            <a:ext cx="3419640" cy="420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738560" y="5524560"/>
            <a:ext cx="2521080" cy="420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6F25-DAB8-45B3-AE46-42DC3239F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40000" y="1419120"/>
            <a:ext cx="971964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0" algn="ctr">
              <a:spcBef>
                <a:spcPts val="70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46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158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892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89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89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10799640" cy="6056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628120" y="5626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09280" y="1884240"/>
            <a:ext cx="9178920" cy="1300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18920" y="3436920"/>
            <a:ext cx="7559640" cy="1550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799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9280" y="1884240"/>
            <a:ext cx="9178920" cy="1300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18920" y="3436920"/>
            <a:ext cx="7559640" cy="1550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606" r="0" b="0"/>
          <a:stretch/>
        </p:blipFill>
        <p:spPr>
          <a:xfrm>
            <a:off x="1440" y="547560"/>
            <a:ext cx="107982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09280" y="1884240"/>
            <a:ext cx="9178920" cy="1300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18920" y="3436920"/>
            <a:ext cx="7559640" cy="1550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10799640" cy="6216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628120" y="5842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09280" y="1884240"/>
            <a:ext cx="9178920" cy="1300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18920" y="3436920"/>
            <a:ext cx="7559640" cy="1550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0144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9280" y="1884240"/>
            <a:ext cx="9178920" cy="1300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18920" y="3436920"/>
            <a:ext cx="7559640" cy="1550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1080288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999720" cy="6066000"/>
            <a:chOff x="0" y="0"/>
            <a:chExt cx="9999720" cy="6066000"/>
          </a:xfrm>
        </p:grpSpPr>
        <p:sp>
          <p:nvSpPr>
            <p:cNvPr id="104" name="矩形 4"/>
            <p:cNvSpPr/>
            <p:nvPr/>
          </p:nvSpPr>
          <p:spPr>
            <a:xfrm>
              <a:off x="12938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516320"/>
              <a:ext cx="9999720" cy="45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7"/>
            <p:cNvSpPr/>
            <p:nvPr/>
          </p:nvSpPr>
          <p:spPr>
            <a:xfrm rot="20926800">
              <a:off x="2278440" y="3158640"/>
              <a:ext cx="551232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3:46:24Z</dcterms:created>
  <dc:creator>rachel</dc:creator>
  <dc:description/>
  <dc:language>en-US</dc:language>
  <cp:lastModifiedBy/>
  <dcterms:modified xsi:type="dcterms:W3CDTF">2015-01-08T08:18:0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