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6E16-1AF2-4EAA-802B-3DDABBDEE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11D8-5D55-4521-A0CD-75F9C26F2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AECC-9025-4BF8-B3A0-D8F611673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06AF-5B4A-4513-8B6E-8695B79F8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42920" y="116172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E508-7687-4AC5-8E2B-2F602BE7F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FE8B-D0BA-4F13-85F3-56D4D5695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E49D-F664-41AC-A127-BA43D8732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BDAF-688F-4409-BAFF-FD3463136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42920" y="116172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A4BE-FB26-453E-8EB2-E7E90A211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507B-391E-4788-A9F0-E3DA0B791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3102-FEDB-4F50-AE68-BB9D4546F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81CC-5974-4977-B6A6-4B5D72643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8440" y="0"/>
            <a:ext cx="917244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0602B3B-7B50-4FA8-83F4-FA091769565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28440" y="-19080"/>
            <a:ext cx="9172440" cy="68770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67000" y="474192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b4d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7000" y="474192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六一儿童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下载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7492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32440" y="6426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4168-6B8F-477F-A585-717E39056B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67000" y="474192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谢欣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7492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141E-6C14-426E-AEDB-DE04B63EEC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User</cp:lastModifiedBy>
  <dcterms:modified xsi:type="dcterms:W3CDTF">2015-01-09T03:22:31Z</dcterms:modified>
  <cp:revision>1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