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823-67CB-401E-94DA-C5A1AFE0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97E-0E8F-4F48-A509-71E17068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DF6-8D35-4BA8-B258-24FD0480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9EC-DE5E-4B34-BDCE-7DC734D5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C71-B853-4F2D-87AD-3B183CA3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E4A-A4B5-4DF1-BA15-BF41DBDD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2CE-F2F5-478B-978F-2CC49F99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309-7304-4EFC-A25D-CB93D2FD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493-10E5-4075-831D-D207CF8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3F6-3FEC-4452-85B2-9114BE31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B00-602E-46D2-A50E-49CDFAD3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99E-F841-4910-A14F-B426CFE4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BC53-48AC-4527-A172-98DF665B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6:49:33Z</dcterms:created>
  <dc:creator/>
  <dc:description/>
  <dc:language>en-US</dc:language>
  <cp:lastModifiedBy>董锋</cp:lastModifiedBy>
  <dcterms:modified xsi:type="dcterms:W3CDTF">2015-01-08T12:47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