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5B02-DF93-48B8-9672-1B4355F8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35BF-3366-43B0-97C1-F744E7AC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DAC6-D740-4B6F-BEB4-CBBBFE1F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413F-F09A-4BB1-9BD5-E97E0257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8507-9137-41A8-8F68-56F93D12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0665-B409-479C-9C75-CBB09FF4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95B0-B042-4500-89DD-CB490257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579F-7DC7-486D-AEB7-FF52E365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02AE-6962-4D47-AFE4-3F0E4AD2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7087-52EF-4669-A52F-91BC964F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42A2-348D-4E0A-9026-E4694994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1C03-392B-4778-84E4-54A5C7A9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331B-483A-4C6C-8D64-388491C8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53F6-983C-4B56-88B6-2AF600B0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AB26-59CC-45B7-9B07-388BDA67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E259-063C-42BA-B9C7-A44F7B68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340D-4DDD-4478-89EF-8CA6BD9C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BD97-E8BD-492B-8AB5-CBF6B247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5477-B8D9-4A40-9D83-66994B3D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EE47-4CCB-4013-8DC0-9E68DACB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5574-E212-44A3-AC6D-4F2222C7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C1A3-F60A-4CCA-9C1C-78C4040B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82A1-3E61-4C1D-BDE9-21505438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B233-F7F8-407C-B034-BAD97BD0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C154-73ED-4361-A93A-EF53EEF06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C913-9917-47F0-890C-1D41F6098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1260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159240" y="836640"/>
            <a:ext cx="1521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曾子曰：“慎终追远，民德归厚矣。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04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847280" y="907920"/>
            <a:ext cx="8506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子禽问于子贡曰：夫子至于是邦也，必闻其政，求之与，抑与之与？”子贡曰：“夫子温、良、恭、俭、让以得之。夫子之求之也，其诸异乎人之求之与？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440400" y="1125360"/>
            <a:ext cx="1521000" cy="44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子曰：“父在，观其志；父没，观其行；三年无改于父之道，可谓孝矣。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87000" y="981000"/>
            <a:ext cx="8506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有子曰：“礼之用，和为贵。先王之道，斯为美。小大由之，有所不行。知和而和，不以礼节之，亦不可行也。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656040" y="907920"/>
            <a:ext cx="1521000" cy="47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有子曰：“信近于义，言可复也；恭近于礼，远耻辱也；因不失其亲，亦可宗也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967440" y="1197000"/>
            <a:ext cx="1521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子曰：“君子食无求饱，居无求安，敏于事而慎于言，就有道而正焉，可谓好学也已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04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100280" y="981000"/>
            <a:ext cx="2008800" cy="45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子贡曰：“贫而无谄，富而无骄，何如？”子曰：“可也；未若贫而乐，富而好礼者也。” 子贡曰：“《诗》云：‘如切如磋，如琢如磨’，其斯之谓与？”子曰：“赐也，始可与言《诗》已矣，告诸往而知来者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613200" y="1052640"/>
            <a:ext cx="1521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子曰：“不患人之不己知，患不知人也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43280" y="2708280"/>
            <a:ext cx="3898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谢谢大家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74720" y="981000"/>
            <a:ext cx="602964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子曰：“学而时习之，不亦说乎！有朋自远方来，不亦乐乎！人不知，而不愠，不亦君子乎！”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753680" y="981000"/>
            <a:ext cx="85068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有子曰：“其为人也孝悌，而好犯上者，鲜矣；不好犯上，而好作乱者，未之有也。君子务本，本立而道生。孝悌也者，其为人之本与？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477200" y="907920"/>
            <a:ext cx="85068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子曰：巧言令色，鲜矣仁。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72040" y="1125360"/>
            <a:ext cx="1521000" cy="42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曾子曰：“吾日三省吾身。为人谋而不忠乎？与朋友交而不信乎？传不习乎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540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707160" y="1125360"/>
            <a:ext cx="152100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子曰：“道千乘之国，敬事而信，节用而爱人，使民以时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656040" y="1125360"/>
            <a:ext cx="1521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子曰：“弟子入则孝，出则弟，谨而信，泛爱众，而亲仁，行有余力，则以学文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558200" y="981000"/>
            <a:ext cx="8506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子夏曰：“贤贤易色；事父母能竭其力；事君，能致其身；与朋友交，言而有信。虽曰未学，吾必谓之学矣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326360" y="907920"/>
            <a:ext cx="850680" cy="47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子曰：“君子，不重则不威；学则不固。主忠信。无友不如己者；过则勿惮改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2:28:55Z</dcterms:created>
  <dc:creator>MC SYSTEM</dc:creator>
  <dc:description/>
  <dc:language>en-US</dc:language>
  <cp:lastModifiedBy>MC SYSTEM</cp:lastModifiedBy>
  <dcterms:modified xsi:type="dcterms:W3CDTF">2015-01-08T13:06:33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