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15B-4219-4868-91F2-062A4158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5CA-D509-4B29-B32D-E825920E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3EB-260F-47D2-BA0D-6A6E536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121-1BB3-4051-97DC-74DBFBB3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E46-09AC-430C-8B07-D1A45FB1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6AE-A5E9-4D5D-8A62-A5AD5286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F0CA-17F3-4C88-A54B-4ECC57BB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6D6-E380-48B4-A7D2-2DD8C975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C88-2946-4861-A000-FD559C7F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B97-6BC1-4685-B38B-186E44D7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430-F171-4839-A495-EE7AFDCB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7BE-F49F-420C-B520-B0A841EE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7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rcRect l="0" t="0" r="9685" b="0"/>
          <a:stretch/>
        </p:blipFill>
        <p:spPr>
          <a:xfrm>
            <a:off x="7143840" y="4597560"/>
            <a:ext cx="200016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7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"/>
          <p:cNvPicPr/>
          <p:nvPr/>
        </p:nvPicPr>
        <p:blipFill>
          <a:blip r:embed="rId3"/>
          <a:srcRect l="0" t="0" r="9685" b="0"/>
          <a:stretch/>
        </p:blipFill>
        <p:spPr>
          <a:xfrm>
            <a:off x="7143840" y="4597560"/>
            <a:ext cx="2000160" cy="5461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D1B8-8C38-4207-98AD-2C3603D68AA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工作文件夹\2011净水设备工作文件\扬罗必凯\进行中项目\新品发布会\正稿\美的新品发布会延展物料 11.12.24\美的新品发布会延展物料 11.12.24\PPT模板\PPT3.jpg"/>
          <p:cNvPicPr/>
          <p:nvPr/>
        </p:nvPicPr>
        <p:blipFill>
          <a:blip r:embed="rId1"/>
          <a:stretch/>
        </p:blipFill>
        <p:spPr>
          <a:xfrm>
            <a:off x="34920" y="0"/>
            <a:ext cx="9140760" cy="5141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3240" y="47322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2987640" y="714240"/>
            <a:ext cx="12859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859c"/>
                </a:solidFill>
                <a:latin typeface="微软雅黑"/>
                <a:ea typeface="微软雅黑"/>
              </a:rPr>
              <a:t>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859c"/>
                </a:solidFill>
                <a:latin typeface="微软雅黑"/>
                <a:ea typeface="微软雅黑"/>
              </a:rPr>
              <a:t>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3000240" y="714240"/>
            <a:ext cx="12859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859c"/>
                </a:solidFill>
                <a:latin typeface="微软雅黑"/>
                <a:ea typeface="微软雅黑"/>
              </a:rPr>
              <a:t>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1859c"/>
                </a:solidFill>
                <a:latin typeface="微软雅黑"/>
                <a:ea typeface="微软雅黑"/>
              </a:rPr>
              <a:t>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1680" y="47322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C:\工作文件夹\2011净水设备工作文件\扬罗必凯\进行中项目\新品发布会\正稿\美的新品发布会延展物料 11.12.24\美的新品发布会延展物料 11.12.24\PPT模板\PPT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3:06:36Z</dcterms:created>
  <dc:creator>xuchunmei</dc:creator>
  <dc:description/>
  <dc:language>en-US</dc:language>
  <cp:lastModifiedBy>Administrator</cp:lastModifiedBy>
  <dcterms:modified xsi:type="dcterms:W3CDTF">2015-01-08T08:38:39Z</dcterms:modified>
  <cp:revision>2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