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53E-49FF-4B07-8EFF-9CB98BE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09D-7288-44B9-9CA9-FF5D879E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521-B42B-49F0-B3EC-6603A1CD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C61-813A-4157-B81A-F852AF24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4A9C-001D-4841-804A-5DC7CD18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9978-AF0A-4437-B08E-5989F78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397-0A1D-4890-A7E4-4B07F61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EE0B-8714-4969-AC01-E460D4B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3DA1-A35A-46EB-AC86-B39BC2C5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6BD0-433B-4E18-AF8C-0B40D00A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6DFE-5B94-4EDE-8ACC-612918D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1F5-9DED-40ED-B444-E3DD01E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954-D15D-4E4D-97B1-D926A51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3F02-694A-4001-9FE7-EAB7D191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24C1-4B29-4043-9584-991C05C2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8FF-1BDE-45AA-9C93-43D0B96A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79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11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0512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79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11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0D6-AB08-4058-85D4-5B482CBA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80C-70E5-45B1-862E-8D524440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E5A-EF80-49D2-82DD-6993ABC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028-A671-4D09-B507-8232992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193-CDBB-4693-9BE3-7D2EC0A9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A78-8F14-43B1-9666-54B62AC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466-42CB-4B5C-8B7F-89E3931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45A-B810-4658-8A9E-BE743CC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1440"/>
            <a:ext cx="539640" cy="830160"/>
          </a:xfrm>
          <a:custGeom>
            <a:avLst/>
            <a:gdLst>
              <a:gd name="textAreaLeft" fmla="*/ 0 w 539640"/>
              <a:gd name="textAreaRight" fmla="*/ 540000 w 5396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1440"/>
            <a:ext cx="540000" cy="830160"/>
          </a:xfrm>
          <a:custGeom>
            <a:avLst/>
            <a:gdLst>
              <a:gd name="textAreaLeft" fmla="*/ 0 w 540000"/>
              <a:gd name="textAreaRight" fmla="*/ 540360 w 54000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51280" y="0"/>
            <a:ext cx="4464000" cy="836280"/>
            <a:chOff x="3851280" y="0"/>
            <a:chExt cx="446400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904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D80-4147-4B57-9153-4D8FA03BB2D9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3"/>
          <p:cNvSpPr txBox="1"/>
          <p:nvPr/>
        </p:nvSpPr>
        <p:spPr>
          <a:xfrm>
            <a:off x="3781440" y="3141720"/>
            <a:ext cx="424656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cbb61d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cbb61d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1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d4bc7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d4bc7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d4bc7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echo</cp:lastModifiedBy>
  <dcterms:modified xsi:type="dcterms:W3CDTF">2015-01-08T13:08:58Z</dcterms:modified>
  <cp:revision>3</cp:revision>
  <dc:subject/>
  <dc:title>论文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