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C99-A455-4573-9CB4-B6E2A9F6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B1B-7AF1-4CCB-BD21-2A7DB7D7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3EC-5FF3-43C7-8327-48A21A2C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7DB-EF28-45B2-8276-72711A37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FCAA-16D8-409B-9F3C-4C9BEAAB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7219-9BBA-447B-83C0-A13710A2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A115-864F-4040-ACD7-AF7D7E07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2425-EAFC-4B92-902A-BE4BA229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1478-FD82-49F8-AB5D-01867286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A5CA-505B-4EA3-8004-BD931A75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1943-E238-4065-9819-D21382D1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767-F33F-42E9-8581-4DCFF2CD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D160-F04D-4841-A7EF-A1FC778A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8024-446B-43F0-AC50-27599E8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34A0-C58C-47D9-9595-4BC116A7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51C2-7C39-47AC-BE44-08F1BD32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EDCE-3CF4-4872-9E5D-85083CB6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BD8D-6B80-4BFC-B90E-57FD7CC6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A999-D7D7-4CB3-8619-CFC083AE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C5A1-1B02-409D-8230-A610B19C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75543-F271-4157-879C-028CACEF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252C-B53A-462A-B271-4746D56A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27D-6D16-4900-8CC5-3635889F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0583-CEC7-4271-9EA0-CF94541B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1674-D668-4A7D-AD90-D98144A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C306-9076-4B2B-B93A-60343CB4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B59FB-D4FC-4760-8793-EAE143E2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97AB8-3121-40BB-B016-B600E277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52F51-3373-48F3-A23A-028ED4F3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90E01-24FA-4911-89A3-5C1F906F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47B-8618-4014-BF1D-B081DCC9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454-5BEA-4E86-8E84-971949BC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829-DD23-4CCD-9E99-A359971C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5C8-18C4-4EA3-BF95-A68004AB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77C-78AD-4158-A26F-48BA12C8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2EE-2267-4ED7-8FD6-B56388E1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94E9-4D70-44BB-9C44-64F45288FB4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7224840" y="0"/>
            <a:ext cx="191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7224840" y="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34F6-089B-4A70-9488-F14CF29B136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7224840" y="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thesea"/>
          <p:cNvPicPr/>
          <p:nvPr/>
        </p:nvPicPr>
        <p:blipFill>
          <a:blip r:embed="rId3"/>
          <a:srcRect l="3126" t="299" r="3126" b="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5287-768C-4F34-8383-88EB0ED38A4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50172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国国旗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77120" y="6453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2"/>
          <p:cNvSpPr/>
          <p:nvPr/>
        </p:nvSpPr>
        <p:spPr>
          <a:xfrm rot="21163800">
            <a:off x="4675320" y="2638080"/>
            <a:ext cx="941400" cy="612720"/>
          </a:xfrm>
          <a:custGeom>
            <a:avLst/>
            <a:gdLst/>
            <a:ahLst/>
            <a:rect l="l" t="t" r="r" b="b"/>
            <a:pathLst>
              <a:path w="10179" h="10614">
                <a:moveTo>
                  <a:pt x="8448" y="0"/>
                </a:moveTo>
                <a:cubicBezTo>
                  <a:pt x="8416" y="173"/>
                  <a:pt x="8602" y="222"/>
                  <a:pt x="8570" y="395"/>
                </a:cubicBezTo>
                <a:cubicBezTo>
                  <a:pt x="8607" y="584"/>
                  <a:pt x="8645" y="773"/>
                  <a:pt x="8682" y="963"/>
                </a:cubicBezTo>
                <a:cubicBezTo>
                  <a:pt x="8665" y="1069"/>
                  <a:pt x="8648" y="1178"/>
                  <a:pt x="8631" y="1285"/>
                </a:cubicBezTo>
                <a:cubicBezTo>
                  <a:pt x="8563" y="1531"/>
                  <a:pt x="8494" y="1778"/>
                  <a:pt x="8426" y="2023"/>
                </a:cubicBezTo>
                <a:lnTo>
                  <a:pt x="8537" y="2303"/>
                </a:lnTo>
                <a:cubicBezTo>
                  <a:pt x="8549" y="2415"/>
                  <a:pt x="8560" y="2527"/>
                  <a:pt x="8572" y="2641"/>
                </a:cubicBezTo>
                <a:lnTo>
                  <a:pt x="8976" y="3197"/>
                </a:lnTo>
                <a:lnTo>
                  <a:pt x="9458" y="3546"/>
                </a:lnTo>
                <a:cubicBezTo>
                  <a:pt x="9492" y="3764"/>
                  <a:pt x="9527" y="3984"/>
                  <a:pt x="9561" y="4203"/>
                </a:cubicBezTo>
                <a:cubicBezTo>
                  <a:pt x="9622" y="4332"/>
                  <a:pt x="9682" y="4463"/>
                  <a:pt x="9743" y="4592"/>
                </a:cubicBezTo>
                <a:lnTo>
                  <a:pt x="9890" y="4873"/>
                </a:lnTo>
                <a:cubicBezTo>
                  <a:pt x="9927" y="5151"/>
                  <a:pt x="10142" y="5467"/>
                  <a:pt x="10179" y="5747"/>
                </a:cubicBezTo>
                <a:lnTo>
                  <a:pt x="9924" y="6364"/>
                </a:lnTo>
                <a:lnTo>
                  <a:pt x="9670" y="6993"/>
                </a:lnTo>
                <a:cubicBezTo>
                  <a:pt x="9670" y="6993"/>
                  <a:pt x="9499" y="7211"/>
                  <a:pt x="9354" y="7377"/>
                </a:cubicBezTo>
                <a:cubicBezTo>
                  <a:pt x="9206" y="7544"/>
                  <a:pt x="9017" y="7236"/>
                  <a:pt x="8902" y="7216"/>
                </a:cubicBezTo>
                <a:cubicBezTo>
                  <a:pt x="8788" y="7196"/>
                  <a:pt x="8682" y="7071"/>
                  <a:pt x="8667" y="7255"/>
                </a:cubicBezTo>
                <a:cubicBezTo>
                  <a:pt x="8652" y="7439"/>
                  <a:pt x="8888" y="7957"/>
                  <a:pt x="8813" y="8321"/>
                </a:cubicBezTo>
                <a:cubicBezTo>
                  <a:pt x="8738" y="8685"/>
                  <a:pt x="8359" y="9179"/>
                  <a:pt x="8218" y="9441"/>
                </a:cubicBezTo>
                <a:cubicBezTo>
                  <a:pt x="8077" y="9703"/>
                  <a:pt x="8263" y="10502"/>
                  <a:pt x="8143" y="10595"/>
                </a:cubicBezTo>
                <a:cubicBezTo>
                  <a:pt x="8023" y="10688"/>
                  <a:pt x="8324" y="10436"/>
                  <a:pt x="7496" y="10000"/>
                </a:cubicBezTo>
                <a:cubicBezTo>
                  <a:pt x="6303" y="9962"/>
                  <a:pt x="4567" y="9937"/>
                  <a:pt x="3102" y="9906"/>
                </a:cubicBezTo>
                <a:cubicBezTo>
                  <a:pt x="2057" y="9874"/>
                  <a:pt x="1553" y="9888"/>
                  <a:pt x="1223" y="9801"/>
                </a:cubicBezTo>
                <a:cubicBezTo>
                  <a:pt x="1189" y="9662"/>
                  <a:pt x="1154" y="9523"/>
                  <a:pt x="1120" y="9386"/>
                </a:cubicBezTo>
                <a:cubicBezTo>
                  <a:pt x="1133" y="9273"/>
                  <a:pt x="1132" y="8991"/>
                  <a:pt x="1145" y="8878"/>
                </a:cubicBezTo>
                <a:cubicBezTo>
                  <a:pt x="1120" y="8711"/>
                  <a:pt x="1192" y="8649"/>
                  <a:pt x="1167" y="8481"/>
                </a:cubicBezTo>
                <a:cubicBezTo>
                  <a:pt x="1118" y="8275"/>
                  <a:pt x="1295" y="8203"/>
                  <a:pt x="1246" y="7996"/>
                </a:cubicBezTo>
                <a:cubicBezTo>
                  <a:pt x="1222" y="7849"/>
                  <a:pt x="1197" y="7699"/>
                  <a:pt x="1173" y="7552"/>
                </a:cubicBezTo>
                <a:cubicBezTo>
                  <a:pt x="1173" y="7552"/>
                  <a:pt x="1197" y="7277"/>
                  <a:pt x="1051" y="7110"/>
                </a:cubicBezTo>
                <a:cubicBezTo>
                  <a:pt x="906" y="6943"/>
                  <a:pt x="1062" y="6714"/>
                  <a:pt x="1062" y="6714"/>
                </a:cubicBezTo>
                <a:lnTo>
                  <a:pt x="1062" y="6604"/>
                </a:lnTo>
                <a:cubicBezTo>
                  <a:pt x="1044" y="6418"/>
                  <a:pt x="899" y="6056"/>
                  <a:pt x="838" y="5739"/>
                </a:cubicBezTo>
                <a:cubicBezTo>
                  <a:pt x="691" y="5349"/>
                  <a:pt x="771" y="4984"/>
                  <a:pt x="696" y="4704"/>
                </a:cubicBezTo>
                <a:cubicBezTo>
                  <a:pt x="623" y="4426"/>
                  <a:pt x="543" y="4059"/>
                  <a:pt x="543" y="4059"/>
                </a:cubicBezTo>
                <a:cubicBezTo>
                  <a:pt x="536" y="3895"/>
                  <a:pt x="528" y="3730"/>
                  <a:pt x="521" y="3565"/>
                </a:cubicBezTo>
                <a:lnTo>
                  <a:pt x="0" y="2696"/>
                </a:lnTo>
                <a:lnTo>
                  <a:pt x="477" y="2080"/>
                </a:lnTo>
                <a:lnTo>
                  <a:pt x="477" y="1802"/>
                </a:lnTo>
                <a:lnTo>
                  <a:pt x="477" y="963"/>
                </a:lnTo>
                <a:cubicBezTo>
                  <a:pt x="495" y="804"/>
                  <a:pt x="697" y="294"/>
                  <a:pt x="715" y="134"/>
                </a:cubicBezTo>
                <a:cubicBezTo>
                  <a:pt x="752" y="-33"/>
                  <a:pt x="4740" y="338"/>
                  <a:pt x="4777" y="170"/>
                </a:cubicBezTo>
                <a:lnTo>
                  <a:pt x="8448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4"/>
          <p:cNvSpPr/>
          <p:nvPr/>
        </p:nvSpPr>
        <p:spPr>
          <a:xfrm>
            <a:off x="1731960" y="1450800"/>
            <a:ext cx="915840" cy="1459080"/>
          </a:xfrm>
          <a:custGeom>
            <a:avLst/>
            <a:gdLst/>
            <a:ahLst/>
            <a:rect l="l" t="t" r="r" b="b"/>
            <a:pathLst>
              <a:path w="915754" h="1458979">
                <a:moveTo>
                  <a:pt x="238328" y="0"/>
                </a:moveTo>
                <a:lnTo>
                  <a:pt x="141052" y="549613"/>
                </a:lnTo>
                <a:lnTo>
                  <a:pt x="160507" y="569068"/>
                </a:lnTo>
                <a:lnTo>
                  <a:pt x="175098" y="593387"/>
                </a:lnTo>
                <a:lnTo>
                  <a:pt x="175098" y="671208"/>
                </a:lnTo>
                <a:lnTo>
                  <a:pt x="126460" y="700391"/>
                </a:lnTo>
                <a:lnTo>
                  <a:pt x="107005" y="792804"/>
                </a:lnTo>
                <a:lnTo>
                  <a:pt x="58366" y="817123"/>
                </a:lnTo>
                <a:lnTo>
                  <a:pt x="53503" y="880353"/>
                </a:lnTo>
                <a:lnTo>
                  <a:pt x="58366" y="899808"/>
                </a:lnTo>
                <a:lnTo>
                  <a:pt x="72958" y="894944"/>
                </a:lnTo>
                <a:lnTo>
                  <a:pt x="82686" y="919264"/>
                </a:lnTo>
                <a:lnTo>
                  <a:pt x="43775" y="997085"/>
                </a:lnTo>
                <a:lnTo>
                  <a:pt x="0" y="1293779"/>
                </a:lnTo>
                <a:lnTo>
                  <a:pt x="852966" y="1458979"/>
                </a:lnTo>
                <a:lnTo>
                  <a:pt x="915754" y="970305"/>
                </a:lnTo>
                <a:cubicBezTo>
                  <a:pt x="897677" y="959085"/>
                  <a:pt x="893879" y="935960"/>
                  <a:pt x="875802" y="924740"/>
                </a:cubicBezTo>
                <a:lnTo>
                  <a:pt x="851171" y="933855"/>
                </a:lnTo>
                <a:lnTo>
                  <a:pt x="821988" y="963038"/>
                </a:lnTo>
                <a:lnTo>
                  <a:pt x="783077" y="972766"/>
                </a:lnTo>
                <a:lnTo>
                  <a:pt x="749030" y="953310"/>
                </a:lnTo>
                <a:lnTo>
                  <a:pt x="666345" y="967902"/>
                </a:lnTo>
                <a:lnTo>
                  <a:pt x="607979" y="914400"/>
                </a:lnTo>
                <a:lnTo>
                  <a:pt x="583660" y="890081"/>
                </a:lnTo>
                <a:lnTo>
                  <a:pt x="588524" y="841442"/>
                </a:lnTo>
                <a:lnTo>
                  <a:pt x="564205" y="792804"/>
                </a:lnTo>
                <a:lnTo>
                  <a:pt x="564205" y="763621"/>
                </a:lnTo>
                <a:lnTo>
                  <a:pt x="544749" y="700391"/>
                </a:lnTo>
                <a:lnTo>
                  <a:pt x="466928" y="705255"/>
                </a:lnTo>
                <a:lnTo>
                  <a:pt x="462064" y="661481"/>
                </a:lnTo>
                <a:lnTo>
                  <a:pt x="491247" y="646889"/>
                </a:lnTo>
                <a:lnTo>
                  <a:pt x="481520" y="588523"/>
                </a:lnTo>
                <a:lnTo>
                  <a:pt x="505839" y="510702"/>
                </a:lnTo>
                <a:lnTo>
                  <a:pt x="428018" y="432881"/>
                </a:lnTo>
                <a:lnTo>
                  <a:pt x="384243" y="364787"/>
                </a:lnTo>
                <a:lnTo>
                  <a:pt x="355060" y="325876"/>
                </a:lnTo>
                <a:lnTo>
                  <a:pt x="355060" y="218872"/>
                </a:lnTo>
                <a:lnTo>
                  <a:pt x="350196" y="179961"/>
                </a:lnTo>
                <a:lnTo>
                  <a:pt x="369652" y="102140"/>
                </a:lnTo>
                <a:lnTo>
                  <a:pt x="388379" y="29286"/>
                </a:lnTo>
                <a:lnTo>
                  <a:pt x="238328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5"/>
          <p:cNvSpPr/>
          <p:nvPr/>
        </p:nvSpPr>
        <p:spPr>
          <a:xfrm>
            <a:off x="968400" y="1270080"/>
            <a:ext cx="1006560" cy="749160"/>
          </a:xfrm>
          <a:custGeom>
            <a:avLst/>
            <a:gdLst/>
            <a:ahLst/>
            <a:rect l="l" t="t" r="r" b="b"/>
            <a:pathLst>
              <a:path w="1006541" h="749030">
                <a:moveTo>
                  <a:pt x="1006541" y="182379"/>
                </a:moveTo>
                <a:lnTo>
                  <a:pt x="262647" y="0"/>
                </a:lnTo>
                <a:lnTo>
                  <a:pt x="291830" y="24319"/>
                </a:lnTo>
                <a:lnTo>
                  <a:pt x="325877" y="63230"/>
                </a:lnTo>
                <a:lnTo>
                  <a:pt x="296694" y="102141"/>
                </a:lnTo>
                <a:lnTo>
                  <a:pt x="316149" y="136187"/>
                </a:lnTo>
                <a:lnTo>
                  <a:pt x="296694" y="160506"/>
                </a:lnTo>
                <a:lnTo>
                  <a:pt x="321013" y="189689"/>
                </a:lnTo>
                <a:lnTo>
                  <a:pt x="321013" y="233464"/>
                </a:lnTo>
                <a:lnTo>
                  <a:pt x="282102" y="243192"/>
                </a:lnTo>
                <a:lnTo>
                  <a:pt x="277239" y="291830"/>
                </a:lnTo>
                <a:lnTo>
                  <a:pt x="218873" y="350196"/>
                </a:lnTo>
                <a:lnTo>
                  <a:pt x="189690" y="335604"/>
                </a:lnTo>
                <a:lnTo>
                  <a:pt x="189690" y="335604"/>
                </a:lnTo>
                <a:lnTo>
                  <a:pt x="238328" y="291830"/>
                </a:lnTo>
                <a:lnTo>
                  <a:pt x="248056" y="262647"/>
                </a:lnTo>
                <a:lnTo>
                  <a:pt x="218873" y="233464"/>
                </a:lnTo>
                <a:lnTo>
                  <a:pt x="252919" y="204281"/>
                </a:lnTo>
                <a:lnTo>
                  <a:pt x="238328" y="175098"/>
                </a:lnTo>
                <a:lnTo>
                  <a:pt x="199417" y="145915"/>
                </a:lnTo>
                <a:lnTo>
                  <a:pt x="34047" y="63230"/>
                </a:lnTo>
                <a:lnTo>
                  <a:pt x="0" y="92413"/>
                </a:lnTo>
                <a:lnTo>
                  <a:pt x="29183" y="189689"/>
                </a:lnTo>
                <a:lnTo>
                  <a:pt x="24319" y="223736"/>
                </a:lnTo>
                <a:lnTo>
                  <a:pt x="9728" y="286966"/>
                </a:lnTo>
                <a:lnTo>
                  <a:pt x="14592" y="306421"/>
                </a:lnTo>
                <a:lnTo>
                  <a:pt x="34047" y="306421"/>
                </a:lnTo>
                <a:lnTo>
                  <a:pt x="48639" y="325877"/>
                </a:lnTo>
                <a:lnTo>
                  <a:pt x="43775" y="345332"/>
                </a:lnTo>
                <a:lnTo>
                  <a:pt x="14592" y="345332"/>
                </a:lnTo>
                <a:lnTo>
                  <a:pt x="29183" y="379379"/>
                </a:lnTo>
                <a:lnTo>
                  <a:pt x="0" y="413426"/>
                </a:lnTo>
                <a:lnTo>
                  <a:pt x="4864" y="452336"/>
                </a:lnTo>
                <a:lnTo>
                  <a:pt x="43775" y="457200"/>
                </a:lnTo>
                <a:lnTo>
                  <a:pt x="58366" y="476655"/>
                </a:lnTo>
                <a:lnTo>
                  <a:pt x="136187" y="515566"/>
                </a:lnTo>
                <a:lnTo>
                  <a:pt x="145915" y="627434"/>
                </a:lnTo>
                <a:lnTo>
                  <a:pt x="145915" y="627434"/>
                </a:lnTo>
                <a:lnTo>
                  <a:pt x="199417" y="622570"/>
                </a:lnTo>
                <a:lnTo>
                  <a:pt x="223736" y="617706"/>
                </a:lnTo>
                <a:lnTo>
                  <a:pt x="248056" y="617706"/>
                </a:lnTo>
                <a:lnTo>
                  <a:pt x="272375" y="603115"/>
                </a:lnTo>
                <a:lnTo>
                  <a:pt x="330741" y="661481"/>
                </a:lnTo>
                <a:lnTo>
                  <a:pt x="389107" y="637162"/>
                </a:lnTo>
                <a:lnTo>
                  <a:pt x="452336" y="680936"/>
                </a:lnTo>
                <a:lnTo>
                  <a:pt x="515566" y="676072"/>
                </a:lnTo>
                <a:lnTo>
                  <a:pt x="569068" y="680936"/>
                </a:lnTo>
                <a:lnTo>
                  <a:pt x="598251" y="690664"/>
                </a:lnTo>
                <a:lnTo>
                  <a:pt x="642026" y="676072"/>
                </a:lnTo>
                <a:lnTo>
                  <a:pt x="710119" y="700392"/>
                </a:lnTo>
                <a:lnTo>
                  <a:pt x="749030" y="695528"/>
                </a:lnTo>
                <a:lnTo>
                  <a:pt x="797668" y="719847"/>
                </a:lnTo>
                <a:lnTo>
                  <a:pt x="846307" y="729575"/>
                </a:lnTo>
                <a:lnTo>
                  <a:pt x="870626" y="724711"/>
                </a:lnTo>
                <a:lnTo>
                  <a:pt x="894945" y="739302"/>
                </a:lnTo>
                <a:lnTo>
                  <a:pt x="919264" y="749030"/>
                </a:lnTo>
                <a:lnTo>
                  <a:pt x="1006541" y="182379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709560" y="1709640"/>
            <a:ext cx="1206720" cy="1033560"/>
          </a:xfrm>
          <a:custGeom>
            <a:avLst/>
            <a:gdLst/>
            <a:ahLst/>
            <a:rect l="l" t="t" r="r" b="b"/>
            <a:pathLst>
              <a:path w="1206976" h="1033030">
                <a:moveTo>
                  <a:pt x="275103" y="0"/>
                </a:moveTo>
                <a:lnTo>
                  <a:pt x="250479" y="91470"/>
                </a:lnTo>
                <a:lnTo>
                  <a:pt x="250479" y="133719"/>
                </a:lnTo>
                <a:lnTo>
                  <a:pt x="232372" y="151826"/>
                </a:lnTo>
                <a:lnTo>
                  <a:pt x="217283" y="212182"/>
                </a:lnTo>
                <a:lnTo>
                  <a:pt x="172016" y="257450"/>
                </a:lnTo>
                <a:lnTo>
                  <a:pt x="162962" y="344967"/>
                </a:lnTo>
                <a:lnTo>
                  <a:pt x="54321" y="495858"/>
                </a:lnTo>
                <a:lnTo>
                  <a:pt x="54321" y="538107"/>
                </a:lnTo>
                <a:lnTo>
                  <a:pt x="21125" y="577339"/>
                </a:lnTo>
                <a:lnTo>
                  <a:pt x="15089" y="634678"/>
                </a:lnTo>
                <a:lnTo>
                  <a:pt x="0" y="707105"/>
                </a:lnTo>
                <a:lnTo>
                  <a:pt x="6036" y="767462"/>
                </a:lnTo>
                <a:lnTo>
                  <a:pt x="591493" y="936460"/>
                </a:lnTo>
                <a:lnTo>
                  <a:pt x="1029077" y="1033030"/>
                </a:lnTo>
                <a:lnTo>
                  <a:pt x="1071327" y="731248"/>
                </a:lnTo>
                <a:lnTo>
                  <a:pt x="1107541" y="661838"/>
                </a:lnTo>
                <a:lnTo>
                  <a:pt x="1092452" y="631660"/>
                </a:lnTo>
                <a:lnTo>
                  <a:pt x="1083398" y="634678"/>
                </a:lnTo>
                <a:lnTo>
                  <a:pt x="1083398" y="562250"/>
                </a:lnTo>
                <a:lnTo>
                  <a:pt x="1134701" y="538107"/>
                </a:lnTo>
                <a:lnTo>
                  <a:pt x="1149790" y="438519"/>
                </a:lnTo>
                <a:lnTo>
                  <a:pt x="1206976" y="411359"/>
                </a:lnTo>
                <a:cubicBezTo>
                  <a:pt x="1206181" y="388222"/>
                  <a:pt x="1205387" y="365086"/>
                  <a:pt x="1204592" y="341949"/>
                </a:cubicBezTo>
                <a:lnTo>
                  <a:pt x="1182986" y="311771"/>
                </a:lnTo>
                <a:lnTo>
                  <a:pt x="1167263" y="287969"/>
                </a:lnTo>
                <a:lnTo>
                  <a:pt x="1131683" y="290646"/>
                </a:lnTo>
                <a:lnTo>
                  <a:pt x="1089434" y="290646"/>
                </a:lnTo>
                <a:lnTo>
                  <a:pt x="1061640" y="275727"/>
                </a:lnTo>
                <a:lnTo>
                  <a:pt x="1006050" y="247291"/>
                </a:lnTo>
                <a:lnTo>
                  <a:pt x="968721" y="266503"/>
                </a:lnTo>
                <a:cubicBezTo>
                  <a:pt x="965502" y="266267"/>
                  <a:pt x="969436" y="261270"/>
                  <a:pt x="966217" y="261034"/>
                </a:cubicBezTo>
                <a:lnTo>
                  <a:pt x="908364" y="239343"/>
                </a:lnTo>
                <a:lnTo>
                  <a:pt x="854044" y="254432"/>
                </a:lnTo>
                <a:lnTo>
                  <a:pt x="823384" y="238237"/>
                </a:lnTo>
                <a:lnTo>
                  <a:pt x="717607" y="233477"/>
                </a:lnTo>
                <a:lnTo>
                  <a:pt x="648832" y="200111"/>
                </a:lnTo>
                <a:lnTo>
                  <a:pt x="593242" y="215370"/>
                </a:lnTo>
                <a:lnTo>
                  <a:pt x="531137" y="163897"/>
                </a:lnTo>
                <a:lnTo>
                  <a:pt x="407406" y="191058"/>
                </a:lnTo>
                <a:lnTo>
                  <a:pt x="392317" y="79398"/>
                </a:lnTo>
                <a:lnTo>
                  <a:pt x="275103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>
            <a:off x="1181160" y="2652840"/>
            <a:ext cx="979560" cy="1496880"/>
          </a:xfrm>
          <a:custGeom>
            <a:avLst/>
            <a:gdLst/>
            <a:ahLst/>
            <a:rect l="l" t="t" r="r" b="b"/>
            <a:pathLst>
              <a:path w="979998" h="1496659">
                <a:moveTo>
                  <a:pt x="125955" y="0"/>
                </a:moveTo>
                <a:lnTo>
                  <a:pt x="0" y="552491"/>
                </a:lnTo>
                <a:lnTo>
                  <a:pt x="684608" y="1496659"/>
                </a:lnTo>
                <a:lnTo>
                  <a:pt x="714430" y="1421394"/>
                </a:lnTo>
                <a:lnTo>
                  <a:pt x="712255" y="1359690"/>
                </a:lnTo>
                <a:lnTo>
                  <a:pt x="743557" y="1288979"/>
                </a:lnTo>
                <a:lnTo>
                  <a:pt x="823072" y="1309735"/>
                </a:lnTo>
                <a:lnTo>
                  <a:pt x="979998" y="178052"/>
                </a:lnTo>
                <a:lnTo>
                  <a:pt x="125955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2027160" y="2830680"/>
            <a:ext cx="836640" cy="1076040"/>
          </a:xfrm>
          <a:custGeom>
            <a:avLst/>
            <a:gdLst/>
            <a:ahLst/>
            <a:rect l="l" t="t" r="r" b="b"/>
            <a:pathLst>
              <a:path w="835937" h="1075929">
                <a:moveTo>
                  <a:pt x="132784" y="0"/>
                </a:moveTo>
                <a:lnTo>
                  <a:pt x="0" y="956649"/>
                </a:lnTo>
                <a:lnTo>
                  <a:pt x="763683" y="1075929"/>
                </a:lnTo>
                <a:lnTo>
                  <a:pt x="835937" y="286693"/>
                </a:lnTo>
                <a:lnTo>
                  <a:pt x="540190" y="250479"/>
                </a:lnTo>
                <a:lnTo>
                  <a:pt x="555279" y="69410"/>
                </a:lnTo>
                <a:lnTo>
                  <a:pt x="132784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9"/>
          <p:cNvSpPr/>
          <p:nvPr/>
        </p:nvSpPr>
        <p:spPr>
          <a:xfrm>
            <a:off x="1805040" y="3789360"/>
            <a:ext cx="992160" cy="1201680"/>
          </a:xfrm>
          <a:custGeom>
            <a:avLst/>
            <a:gdLst/>
            <a:ahLst/>
            <a:rect l="l" t="t" r="r" b="b"/>
            <a:pathLst>
              <a:path w="991638" h="1201093">
                <a:moveTo>
                  <a:pt x="223319" y="0"/>
                </a:moveTo>
                <a:lnTo>
                  <a:pt x="199177" y="172016"/>
                </a:lnTo>
                <a:lnTo>
                  <a:pt x="108642" y="147873"/>
                </a:lnTo>
                <a:lnTo>
                  <a:pt x="75446" y="223319"/>
                </a:lnTo>
                <a:lnTo>
                  <a:pt x="84499" y="286693"/>
                </a:lnTo>
                <a:lnTo>
                  <a:pt x="66392" y="344032"/>
                </a:lnTo>
                <a:lnTo>
                  <a:pt x="78464" y="383264"/>
                </a:lnTo>
                <a:lnTo>
                  <a:pt x="132785" y="510012"/>
                </a:lnTo>
                <a:lnTo>
                  <a:pt x="132785" y="528119"/>
                </a:lnTo>
                <a:lnTo>
                  <a:pt x="78464" y="552262"/>
                </a:lnTo>
                <a:lnTo>
                  <a:pt x="66392" y="633743"/>
                </a:lnTo>
                <a:lnTo>
                  <a:pt x="15089" y="715224"/>
                </a:lnTo>
                <a:lnTo>
                  <a:pt x="21125" y="787652"/>
                </a:lnTo>
                <a:lnTo>
                  <a:pt x="0" y="811794"/>
                </a:lnTo>
                <a:lnTo>
                  <a:pt x="0" y="838955"/>
                </a:lnTo>
                <a:lnTo>
                  <a:pt x="576404" y="1170915"/>
                </a:lnTo>
                <a:lnTo>
                  <a:pt x="908365" y="1201093"/>
                </a:lnTo>
                <a:lnTo>
                  <a:pt x="991638" y="112071"/>
                </a:lnTo>
                <a:lnTo>
                  <a:pt x="223319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0"/>
          <p:cNvSpPr/>
          <p:nvPr/>
        </p:nvSpPr>
        <p:spPr>
          <a:xfrm>
            <a:off x="2706840" y="3898800"/>
            <a:ext cx="1025280" cy="1106640"/>
          </a:xfrm>
          <a:custGeom>
            <a:avLst/>
            <a:gdLst/>
            <a:ahLst/>
            <a:rect l="l" t="t" r="r" b="b"/>
            <a:pathLst>
              <a:path w="1026059" h="1107540">
                <a:moveTo>
                  <a:pt x="87517" y="0"/>
                </a:moveTo>
                <a:lnTo>
                  <a:pt x="0" y="1098487"/>
                </a:lnTo>
                <a:lnTo>
                  <a:pt x="165980" y="1107540"/>
                </a:lnTo>
                <a:lnTo>
                  <a:pt x="172016" y="1029077"/>
                </a:lnTo>
                <a:lnTo>
                  <a:pt x="416459" y="1032095"/>
                </a:lnTo>
                <a:lnTo>
                  <a:pt x="425513" y="992863"/>
                </a:lnTo>
                <a:lnTo>
                  <a:pt x="1010970" y="1020023"/>
                </a:lnTo>
                <a:lnTo>
                  <a:pt x="1026059" y="54321"/>
                </a:lnTo>
                <a:lnTo>
                  <a:pt x="377228" y="24142"/>
                </a:lnTo>
                <a:lnTo>
                  <a:pt x="238408" y="9053"/>
                </a:lnTo>
                <a:lnTo>
                  <a:pt x="87517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2792520" y="3116160"/>
            <a:ext cx="1096920" cy="839880"/>
          </a:xfrm>
          <a:custGeom>
            <a:avLst/>
            <a:gdLst/>
            <a:ahLst/>
            <a:rect l="l" t="t" r="r" b="b"/>
            <a:pathLst>
              <a:path w="1097695" h="838954">
                <a:moveTo>
                  <a:pt x="68618" y="0"/>
                </a:moveTo>
                <a:lnTo>
                  <a:pt x="0" y="780977"/>
                </a:lnTo>
                <a:lnTo>
                  <a:pt x="373418" y="811794"/>
                </a:lnTo>
                <a:lnTo>
                  <a:pt x="940768" y="838954"/>
                </a:lnTo>
                <a:lnTo>
                  <a:pt x="1085624" y="832919"/>
                </a:lnTo>
                <a:lnTo>
                  <a:pt x="1097695" y="69410"/>
                </a:lnTo>
                <a:lnTo>
                  <a:pt x="654075" y="45267"/>
                </a:lnTo>
                <a:lnTo>
                  <a:pt x="430757" y="27160"/>
                </a:lnTo>
                <a:lnTo>
                  <a:pt x="68618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2"/>
          <p:cNvSpPr/>
          <p:nvPr/>
        </p:nvSpPr>
        <p:spPr>
          <a:xfrm>
            <a:off x="2573280" y="2325600"/>
            <a:ext cx="1047960" cy="851040"/>
          </a:xfrm>
          <a:custGeom>
            <a:avLst/>
            <a:gdLst/>
            <a:ahLst/>
            <a:rect l="l" t="t" r="r" b="b"/>
            <a:pathLst>
              <a:path w="1047184" h="851025">
                <a:moveTo>
                  <a:pt x="81481" y="0"/>
                </a:moveTo>
                <a:lnTo>
                  <a:pt x="12071" y="576404"/>
                </a:lnTo>
                <a:lnTo>
                  <a:pt x="0" y="751437"/>
                </a:lnTo>
                <a:lnTo>
                  <a:pt x="289711" y="796705"/>
                </a:lnTo>
                <a:lnTo>
                  <a:pt x="1017006" y="851025"/>
                </a:lnTo>
                <a:lnTo>
                  <a:pt x="1047184" y="78463"/>
                </a:lnTo>
                <a:lnTo>
                  <a:pt x="81481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3"/>
          <p:cNvSpPr/>
          <p:nvPr/>
        </p:nvSpPr>
        <p:spPr>
          <a:xfrm>
            <a:off x="2085840" y="1474920"/>
            <a:ext cx="1575000" cy="952200"/>
          </a:xfrm>
          <a:custGeom>
            <a:avLst/>
            <a:gdLst/>
            <a:ahLst/>
            <a:rect l="l" t="t" r="r" b="b"/>
            <a:pathLst>
              <a:path w="1574500" h="952845">
                <a:moveTo>
                  <a:pt x="29375" y="0"/>
                </a:moveTo>
                <a:lnTo>
                  <a:pt x="26357" y="63374"/>
                </a:lnTo>
                <a:lnTo>
                  <a:pt x="2215" y="129766"/>
                </a:lnTo>
                <a:cubicBezTo>
                  <a:pt x="1477" y="189488"/>
                  <a:pt x="738" y="249209"/>
                  <a:pt x="0" y="308931"/>
                </a:cubicBezTo>
                <a:lnTo>
                  <a:pt x="86191" y="429646"/>
                </a:lnTo>
                <a:lnTo>
                  <a:pt x="148421" y="485877"/>
                </a:lnTo>
                <a:lnTo>
                  <a:pt x="123656" y="567360"/>
                </a:lnTo>
                <a:lnTo>
                  <a:pt x="132705" y="618663"/>
                </a:lnTo>
                <a:lnTo>
                  <a:pt x="113874" y="645814"/>
                </a:lnTo>
                <a:lnTo>
                  <a:pt x="119910" y="679010"/>
                </a:lnTo>
                <a:lnTo>
                  <a:pt x="192337" y="675992"/>
                </a:lnTo>
                <a:lnTo>
                  <a:pt x="210444" y="739366"/>
                </a:lnTo>
                <a:lnTo>
                  <a:pt x="216480" y="775580"/>
                </a:lnTo>
                <a:lnTo>
                  <a:pt x="237605" y="817830"/>
                </a:lnTo>
                <a:lnTo>
                  <a:pt x="227946" y="874216"/>
                </a:lnTo>
                <a:lnTo>
                  <a:pt x="312230" y="952209"/>
                </a:lnTo>
                <a:lnTo>
                  <a:pt x="396844" y="938866"/>
                </a:lnTo>
                <a:lnTo>
                  <a:pt x="455399" y="952845"/>
                </a:lnTo>
                <a:lnTo>
                  <a:pt x="513669" y="904089"/>
                </a:lnTo>
                <a:lnTo>
                  <a:pt x="560017" y="944594"/>
                </a:lnTo>
                <a:lnTo>
                  <a:pt x="566547" y="844990"/>
                </a:lnTo>
                <a:lnTo>
                  <a:pt x="1532250" y="935525"/>
                </a:lnTo>
                <a:lnTo>
                  <a:pt x="1574500" y="190123"/>
                </a:lnTo>
                <a:lnTo>
                  <a:pt x="1191236" y="156927"/>
                </a:lnTo>
                <a:lnTo>
                  <a:pt x="1010167" y="141837"/>
                </a:lnTo>
                <a:lnTo>
                  <a:pt x="910579" y="138820"/>
                </a:lnTo>
                <a:lnTo>
                  <a:pt x="744599" y="111659"/>
                </a:lnTo>
                <a:lnTo>
                  <a:pt x="599743" y="93552"/>
                </a:lnTo>
                <a:lnTo>
                  <a:pt x="29375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4"/>
          <p:cNvSpPr/>
          <p:nvPr/>
        </p:nvSpPr>
        <p:spPr>
          <a:xfrm>
            <a:off x="3630600" y="1641600"/>
            <a:ext cx="1001880" cy="596880"/>
          </a:xfrm>
          <a:custGeom>
            <a:avLst/>
            <a:gdLst/>
            <a:ahLst/>
            <a:rect l="l" t="t" r="r" b="b"/>
            <a:pathLst>
              <a:path w="1001916" h="597529">
                <a:moveTo>
                  <a:pt x="27160" y="18107"/>
                </a:moveTo>
                <a:lnTo>
                  <a:pt x="0" y="597529"/>
                </a:lnTo>
                <a:lnTo>
                  <a:pt x="998899" y="588475"/>
                </a:lnTo>
                <a:lnTo>
                  <a:pt x="1001916" y="537172"/>
                </a:lnTo>
                <a:lnTo>
                  <a:pt x="974756" y="416459"/>
                </a:lnTo>
                <a:lnTo>
                  <a:pt x="971738" y="316871"/>
                </a:lnTo>
                <a:lnTo>
                  <a:pt x="932506" y="223319"/>
                </a:lnTo>
                <a:lnTo>
                  <a:pt x="905346" y="196158"/>
                </a:lnTo>
                <a:lnTo>
                  <a:pt x="911382" y="78463"/>
                </a:lnTo>
                <a:lnTo>
                  <a:pt x="878186" y="0"/>
                </a:lnTo>
                <a:lnTo>
                  <a:pt x="485869" y="27160"/>
                </a:lnTo>
                <a:lnTo>
                  <a:pt x="350067" y="30178"/>
                </a:lnTo>
                <a:lnTo>
                  <a:pt x="27160" y="18107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5"/>
          <p:cNvSpPr/>
          <p:nvPr/>
        </p:nvSpPr>
        <p:spPr>
          <a:xfrm>
            <a:off x="3600360" y="2220840"/>
            <a:ext cx="1098720" cy="650880"/>
          </a:xfrm>
          <a:custGeom>
            <a:avLst/>
            <a:gdLst/>
            <a:ahLst/>
            <a:rect l="l" t="t" r="r" b="b"/>
            <a:pathLst>
              <a:path w="1098889" h="651052">
                <a:moveTo>
                  <a:pt x="26691" y="19220"/>
                </a:moveTo>
                <a:lnTo>
                  <a:pt x="0" y="569571"/>
                </a:lnTo>
                <a:lnTo>
                  <a:pt x="437584" y="584660"/>
                </a:lnTo>
                <a:lnTo>
                  <a:pt x="642796" y="581642"/>
                </a:lnTo>
                <a:lnTo>
                  <a:pt x="772563" y="578625"/>
                </a:lnTo>
                <a:lnTo>
                  <a:pt x="811794" y="584660"/>
                </a:lnTo>
                <a:lnTo>
                  <a:pt x="863097" y="602767"/>
                </a:lnTo>
                <a:lnTo>
                  <a:pt x="923454" y="581642"/>
                </a:lnTo>
                <a:lnTo>
                  <a:pt x="974757" y="602767"/>
                </a:lnTo>
                <a:lnTo>
                  <a:pt x="989846" y="623892"/>
                </a:lnTo>
                <a:lnTo>
                  <a:pt x="1035113" y="617856"/>
                </a:lnTo>
                <a:lnTo>
                  <a:pt x="1095470" y="651052"/>
                </a:lnTo>
                <a:lnTo>
                  <a:pt x="1086416" y="599749"/>
                </a:lnTo>
                <a:lnTo>
                  <a:pt x="1095470" y="542411"/>
                </a:lnTo>
                <a:lnTo>
                  <a:pt x="1098889" y="476148"/>
                </a:lnTo>
                <a:lnTo>
                  <a:pt x="1077291" y="125985"/>
                </a:lnTo>
                <a:lnTo>
                  <a:pt x="1020024" y="95773"/>
                </a:lnTo>
                <a:lnTo>
                  <a:pt x="1035038" y="59575"/>
                </a:lnTo>
                <a:lnTo>
                  <a:pt x="1044182" y="0"/>
                </a:lnTo>
                <a:lnTo>
                  <a:pt x="26691" y="1922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6"/>
          <p:cNvSpPr/>
          <p:nvPr/>
        </p:nvSpPr>
        <p:spPr>
          <a:xfrm>
            <a:off x="3587760" y="2787480"/>
            <a:ext cx="1298520" cy="576360"/>
          </a:xfrm>
          <a:custGeom>
            <a:avLst/>
            <a:gdLst/>
            <a:ahLst/>
            <a:rect l="l" t="t" r="r" b="b"/>
            <a:pathLst>
              <a:path w="1297663" h="576885">
                <a:moveTo>
                  <a:pt x="13813" y="0"/>
                </a:moveTo>
                <a:lnTo>
                  <a:pt x="0" y="386762"/>
                </a:lnTo>
                <a:lnTo>
                  <a:pt x="298764" y="413923"/>
                </a:lnTo>
                <a:lnTo>
                  <a:pt x="301782" y="576885"/>
                </a:lnTo>
                <a:lnTo>
                  <a:pt x="754455" y="564814"/>
                </a:lnTo>
                <a:lnTo>
                  <a:pt x="838955" y="564814"/>
                </a:lnTo>
                <a:lnTo>
                  <a:pt x="1219200" y="543689"/>
                </a:lnTo>
                <a:lnTo>
                  <a:pt x="1282574" y="543689"/>
                </a:lnTo>
                <a:lnTo>
                  <a:pt x="1297663" y="543689"/>
                </a:lnTo>
                <a:lnTo>
                  <a:pt x="1249378" y="477297"/>
                </a:lnTo>
                <a:lnTo>
                  <a:pt x="1222218" y="422976"/>
                </a:lnTo>
                <a:lnTo>
                  <a:pt x="1222218" y="344513"/>
                </a:lnTo>
                <a:lnTo>
                  <a:pt x="1201093" y="293210"/>
                </a:lnTo>
                <a:lnTo>
                  <a:pt x="1201093" y="266050"/>
                </a:lnTo>
                <a:lnTo>
                  <a:pt x="1173933" y="238889"/>
                </a:lnTo>
                <a:lnTo>
                  <a:pt x="1170915" y="211729"/>
                </a:lnTo>
                <a:lnTo>
                  <a:pt x="1134701" y="157408"/>
                </a:lnTo>
                <a:lnTo>
                  <a:pt x="1113576" y="84980"/>
                </a:lnTo>
                <a:lnTo>
                  <a:pt x="1056238" y="54802"/>
                </a:lnTo>
                <a:lnTo>
                  <a:pt x="1001917" y="57820"/>
                </a:lnTo>
                <a:lnTo>
                  <a:pt x="983810" y="36695"/>
                </a:lnTo>
                <a:lnTo>
                  <a:pt x="935525" y="18588"/>
                </a:lnTo>
                <a:lnTo>
                  <a:pt x="874530" y="30812"/>
                </a:lnTo>
                <a:lnTo>
                  <a:pt x="802741" y="9535"/>
                </a:lnTo>
                <a:lnTo>
                  <a:pt x="13813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7"/>
          <p:cNvSpPr/>
          <p:nvPr/>
        </p:nvSpPr>
        <p:spPr>
          <a:xfrm>
            <a:off x="3871800" y="3327480"/>
            <a:ext cx="1170000" cy="628560"/>
          </a:xfrm>
          <a:custGeom>
            <a:avLst/>
            <a:gdLst/>
            <a:ahLst/>
            <a:rect l="l" t="t" r="r" b="b"/>
            <a:pathLst>
              <a:path w="1170915" h="628171">
                <a:moveTo>
                  <a:pt x="15089" y="30643"/>
                </a:moveTo>
                <a:lnTo>
                  <a:pt x="0" y="628171"/>
                </a:lnTo>
                <a:lnTo>
                  <a:pt x="467763" y="625154"/>
                </a:lnTo>
                <a:lnTo>
                  <a:pt x="636761" y="622136"/>
                </a:lnTo>
                <a:lnTo>
                  <a:pt x="887240" y="597993"/>
                </a:lnTo>
                <a:lnTo>
                  <a:pt x="1170915" y="570833"/>
                </a:lnTo>
                <a:lnTo>
                  <a:pt x="1153288" y="178516"/>
                </a:lnTo>
                <a:cubicBezTo>
                  <a:pt x="1128183" y="154967"/>
                  <a:pt x="1112610" y="131417"/>
                  <a:pt x="1087505" y="107868"/>
                </a:cubicBezTo>
                <a:lnTo>
                  <a:pt x="1080380" y="54785"/>
                </a:lnTo>
                <a:lnTo>
                  <a:pt x="1021773" y="0"/>
                </a:lnTo>
                <a:lnTo>
                  <a:pt x="15089" y="30643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3728880" y="3902040"/>
            <a:ext cx="1390680" cy="677880"/>
          </a:xfrm>
          <a:custGeom>
            <a:avLst/>
            <a:gdLst/>
            <a:ahLst/>
            <a:rect l="l" t="t" r="r" b="b"/>
            <a:pathLst>
              <a:path w="1390176" h="677924">
                <a:moveTo>
                  <a:pt x="0" y="51303"/>
                </a:moveTo>
                <a:cubicBezTo>
                  <a:pt x="1006" y="83493"/>
                  <a:pt x="2011" y="115683"/>
                  <a:pt x="3017" y="147873"/>
                </a:cubicBezTo>
                <a:lnTo>
                  <a:pt x="464744" y="156926"/>
                </a:lnTo>
                <a:lnTo>
                  <a:pt x="461726" y="513029"/>
                </a:lnTo>
                <a:lnTo>
                  <a:pt x="482851" y="525101"/>
                </a:lnTo>
                <a:lnTo>
                  <a:pt x="525101" y="528118"/>
                </a:lnTo>
                <a:lnTo>
                  <a:pt x="549243" y="534154"/>
                </a:lnTo>
                <a:lnTo>
                  <a:pt x="564332" y="546225"/>
                </a:lnTo>
                <a:lnTo>
                  <a:pt x="607114" y="550001"/>
                </a:lnTo>
                <a:lnTo>
                  <a:pt x="633742" y="585457"/>
                </a:lnTo>
                <a:lnTo>
                  <a:pt x="666187" y="589252"/>
                </a:lnTo>
                <a:lnTo>
                  <a:pt x="691081" y="597528"/>
                </a:lnTo>
                <a:lnTo>
                  <a:pt x="757473" y="585457"/>
                </a:lnTo>
                <a:lnTo>
                  <a:pt x="841972" y="630724"/>
                </a:lnTo>
                <a:lnTo>
                  <a:pt x="884221" y="615635"/>
                </a:lnTo>
                <a:lnTo>
                  <a:pt x="920435" y="642796"/>
                </a:lnTo>
                <a:lnTo>
                  <a:pt x="962685" y="636760"/>
                </a:lnTo>
                <a:lnTo>
                  <a:pt x="1001917" y="648831"/>
                </a:lnTo>
                <a:lnTo>
                  <a:pt x="1038130" y="645813"/>
                </a:lnTo>
                <a:lnTo>
                  <a:pt x="1074344" y="663920"/>
                </a:lnTo>
                <a:lnTo>
                  <a:pt x="1100043" y="677924"/>
                </a:lnTo>
                <a:lnTo>
                  <a:pt x="1146772" y="624689"/>
                </a:lnTo>
                <a:lnTo>
                  <a:pt x="1186004" y="615635"/>
                </a:lnTo>
                <a:lnTo>
                  <a:pt x="1237307" y="621671"/>
                </a:lnTo>
                <a:lnTo>
                  <a:pt x="1270503" y="609600"/>
                </a:lnTo>
                <a:lnTo>
                  <a:pt x="1390176" y="677287"/>
                </a:lnTo>
                <a:lnTo>
                  <a:pt x="1381761" y="353269"/>
                </a:lnTo>
                <a:lnTo>
                  <a:pt x="1362384" y="196260"/>
                </a:lnTo>
                <a:lnTo>
                  <a:pt x="1333877" y="90534"/>
                </a:lnTo>
                <a:lnTo>
                  <a:pt x="1312752" y="0"/>
                </a:lnTo>
                <a:lnTo>
                  <a:pt x="742384" y="45267"/>
                </a:lnTo>
                <a:lnTo>
                  <a:pt x="0" y="51303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9"/>
          <p:cNvSpPr/>
          <p:nvPr/>
        </p:nvSpPr>
        <p:spPr>
          <a:xfrm>
            <a:off x="5070600" y="3932280"/>
            <a:ext cx="750600" cy="741240"/>
          </a:xfrm>
          <a:custGeom>
            <a:avLst/>
            <a:gdLst/>
            <a:ahLst/>
            <a:rect l="l" t="t" r="r" b="b"/>
            <a:pathLst>
              <a:path w="751437" h="742384">
                <a:moveTo>
                  <a:pt x="0" y="75445"/>
                </a:moveTo>
                <a:lnTo>
                  <a:pt x="36213" y="347049"/>
                </a:lnTo>
                <a:lnTo>
                  <a:pt x="42249" y="633742"/>
                </a:lnTo>
                <a:cubicBezTo>
                  <a:pt x="44847" y="632598"/>
                  <a:pt x="52211" y="645762"/>
                  <a:pt x="54809" y="644618"/>
                </a:cubicBezTo>
                <a:lnTo>
                  <a:pt x="91803" y="628191"/>
                </a:lnTo>
                <a:lnTo>
                  <a:pt x="114677" y="636760"/>
                </a:lnTo>
                <a:lnTo>
                  <a:pt x="123730" y="742384"/>
                </a:lnTo>
                <a:lnTo>
                  <a:pt x="407405" y="712206"/>
                </a:lnTo>
                <a:lnTo>
                  <a:pt x="579421" y="685045"/>
                </a:lnTo>
                <a:lnTo>
                  <a:pt x="588475" y="700134"/>
                </a:lnTo>
                <a:lnTo>
                  <a:pt x="597528" y="597528"/>
                </a:lnTo>
                <a:lnTo>
                  <a:pt x="573386" y="537172"/>
                </a:lnTo>
                <a:lnTo>
                  <a:pt x="594510" y="473798"/>
                </a:lnTo>
                <a:lnTo>
                  <a:pt x="642796" y="395334"/>
                </a:lnTo>
                <a:lnTo>
                  <a:pt x="651849" y="365156"/>
                </a:lnTo>
                <a:lnTo>
                  <a:pt x="648831" y="341014"/>
                </a:lnTo>
                <a:lnTo>
                  <a:pt x="691081" y="274622"/>
                </a:lnTo>
                <a:lnTo>
                  <a:pt x="700134" y="223319"/>
                </a:lnTo>
                <a:lnTo>
                  <a:pt x="694099" y="205212"/>
                </a:lnTo>
                <a:lnTo>
                  <a:pt x="727295" y="172016"/>
                </a:lnTo>
                <a:lnTo>
                  <a:pt x="718241" y="141837"/>
                </a:lnTo>
                <a:lnTo>
                  <a:pt x="751437" y="72427"/>
                </a:lnTo>
                <a:lnTo>
                  <a:pt x="685045" y="72427"/>
                </a:lnTo>
                <a:lnTo>
                  <a:pt x="660903" y="57338"/>
                </a:lnTo>
                <a:lnTo>
                  <a:pt x="669956" y="0"/>
                </a:lnTo>
                <a:lnTo>
                  <a:pt x="669956" y="0"/>
                </a:lnTo>
                <a:lnTo>
                  <a:pt x="322906" y="30178"/>
                </a:lnTo>
                <a:lnTo>
                  <a:pt x="162962" y="48285"/>
                </a:lnTo>
                <a:lnTo>
                  <a:pt x="0" y="75445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20"/>
          <p:cNvSpPr/>
          <p:nvPr/>
        </p:nvSpPr>
        <p:spPr>
          <a:xfrm>
            <a:off x="5627520" y="4148280"/>
            <a:ext cx="528840" cy="969840"/>
          </a:xfrm>
          <a:custGeom>
            <a:avLst/>
            <a:gdLst/>
            <a:ahLst/>
            <a:rect l="l" t="t" r="r" b="b"/>
            <a:pathLst>
              <a:path w="528118" h="968721">
                <a:moveTo>
                  <a:pt x="132784" y="54321"/>
                </a:moveTo>
                <a:lnTo>
                  <a:pt x="87516" y="126748"/>
                </a:lnTo>
                <a:lnTo>
                  <a:pt x="93552" y="162962"/>
                </a:lnTo>
                <a:lnTo>
                  <a:pt x="30178" y="265568"/>
                </a:lnTo>
                <a:lnTo>
                  <a:pt x="9053" y="322907"/>
                </a:lnTo>
                <a:lnTo>
                  <a:pt x="36213" y="392317"/>
                </a:lnTo>
                <a:lnTo>
                  <a:pt x="42249" y="494923"/>
                </a:lnTo>
                <a:lnTo>
                  <a:pt x="49101" y="593411"/>
                </a:lnTo>
                <a:lnTo>
                  <a:pt x="39231" y="621671"/>
                </a:lnTo>
                <a:lnTo>
                  <a:pt x="54320" y="669956"/>
                </a:lnTo>
                <a:lnTo>
                  <a:pt x="27160" y="703152"/>
                </a:lnTo>
                <a:lnTo>
                  <a:pt x="21124" y="718242"/>
                </a:lnTo>
                <a:lnTo>
                  <a:pt x="3017" y="742384"/>
                </a:lnTo>
                <a:cubicBezTo>
                  <a:pt x="2011" y="774574"/>
                  <a:pt x="1006" y="806764"/>
                  <a:pt x="0" y="838954"/>
                </a:cubicBezTo>
                <a:lnTo>
                  <a:pt x="3017" y="851026"/>
                </a:lnTo>
                <a:lnTo>
                  <a:pt x="238407" y="826883"/>
                </a:lnTo>
                <a:lnTo>
                  <a:pt x="280657" y="817830"/>
                </a:lnTo>
                <a:lnTo>
                  <a:pt x="298764" y="838954"/>
                </a:lnTo>
                <a:lnTo>
                  <a:pt x="301782" y="866115"/>
                </a:lnTo>
                <a:lnTo>
                  <a:pt x="298764" y="902329"/>
                </a:lnTo>
                <a:lnTo>
                  <a:pt x="325924" y="923453"/>
                </a:lnTo>
                <a:lnTo>
                  <a:pt x="334978" y="962685"/>
                </a:lnTo>
                <a:lnTo>
                  <a:pt x="347049" y="968721"/>
                </a:lnTo>
                <a:lnTo>
                  <a:pt x="425512" y="917418"/>
                </a:lnTo>
                <a:lnTo>
                  <a:pt x="446637" y="911382"/>
                </a:lnTo>
                <a:lnTo>
                  <a:pt x="476815" y="905346"/>
                </a:lnTo>
                <a:lnTo>
                  <a:pt x="506994" y="914400"/>
                </a:lnTo>
                <a:lnTo>
                  <a:pt x="528118" y="887240"/>
                </a:lnTo>
                <a:lnTo>
                  <a:pt x="494922" y="488887"/>
                </a:lnTo>
                <a:lnTo>
                  <a:pt x="485869" y="277640"/>
                </a:lnTo>
                <a:lnTo>
                  <a:pt x="455691" y="0"/>
                </a:lnTo>
                <a:lnTo>
                  <a:pt x="446637" y="15089"/>
                </a:lnTo>
                <a:lnTo>
                  <a:pt x="404388" y="12071"/>
                </a:lnTo>
                <a:lnTo>
                  <a:pt x="132784" y="54321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21"/>
          <p:cNvSpPr/>
          <p:nvPr/>
        </p:nvSpPr>
        <p:spPr>
          <a:xfrm>
            <a:off x="4827600" y="3182760"/>
            <a:ext cx="1090440" cy="830520"/>
          </a:xfrm>
          <a:custGeom>
            <a:avLst/>
            <a:gdLst/>
            <a:ahLst/>
            <a:rect l="l" t="t" r="r" b="b"/>
            <a:pathLst>
              <a:path w="1089433" h="829264">
                <a:moveTo>
                  <a:pt x="0" y="63374"/>
                </a:moveTo>
                <a:lnTo>
                  <a:pt x="57338" y="159945"/>
                </a:lnTo>
                <a:lnTo>
                  <a:pt x="117695" y="202194"/>
                </a:lnTo>
                <a:lnTo>
                  <a:pt x="120713" y="262550"/>
                </a:lnTo>
                <a:lnTo>
                  <a:pt x="193140" y="331960"/>
                </a:lnTo>
                <a:lnTo>
                  <a:pt x="214265" y="721259"/>
                </a:lnTo>
                <a:lnTo>
                  <a:pt x="235568" y="829264"/>
                </a:lnTo>
                <a:lnTo>
                  <a:pt x="905346" y="754455"/>
                </a:lnTo>
                <a:lnTo>
                  <a:pt x="908364" y="805758"/>
                </a:lnTo>
                <a:lnTo>
                  <a:pt x="932507" y="823865"/>
                </a:lnTo>
                <a:lnTo>
                  <a:pt x="989845" y="823865"/>
                </a:lnTo>
                <a:lnTo>
                  <a:pt x="998899" y="799723"/>
                </a:lnTo>
                <a:lnTo>
                  <a:pt x="995881" y="772562"/>
                </a:lnTo>
                <a:lnTo>
                  <a:pt x="1029077" y="700135"/>
                </a:lnTo>
                <a:lnTo>
                  <a:pt x="1060995" y="687895"/>
                </a:lnTo>
                <a:lnTo>
                  <a:pt x="1089433" y="682028"/>
                </a:lnTo>
                <a:lnTo>
                  <a:pt x="1068309" y="648832"/>
                </a:lnTo>
                <a:lnTo>
                  <a:pt x="1065291" y="597529"/>
                </a:lnTo>
                <a:lnTo>
                  <a:pt x="1035113" y="588475"/>
                </a:lnTo>
                <a:lnTo>
                  <a:pt x="1001917" y="576404"/>
                </a:lnTo>
                <a:lnTo>
                  <a:pt x="977774" y="528119"/>
                </a:lnTo>
                <a:lnTo>
                  <a:pt x="965703" y="479834"/>
                </a:lnTo>
                <a:lnTo>
                  <a:pt x="935525" y="461727"/>
                </a:lnTo>
                <a:lnTo>
                  <a:pt x="872150" y="422495"/>
                </a:lnTo>
                <a:lnTo>
                  <a:pt x="829901" y="356103"/>
                </a:lnTo>
                <a:lnTo>
                  <a:pt x="838954" y="328943"/>
                </a:lnTo>
                <a:lnTo>
                  <a:pt x="866115" y="301782"/>
                </a:lnTo>
                <a:lnTo>
                  <a:pt x="817830" y="256515"/>
                </a:lnTo>
                <a:lnTo>
                  <a:pt x="805758" y="271604"/>
                </a:lnTo>
                <a:lnTo>
                  <a:pt x="787651" y="277640"/>
                </a:lnTo>
                <a:lnTo>
                  <a:pt x="766527" y="241426"/>
                </a:lnTo>
                <a:lnTo>
                  <a:pt x="745402" y="181069"/>
                </a:lnTo>
                <a:lnTo>
                  <a:pt x="712206" y="168998"/>
                </a:lnTo>
                <a:lnTo>
                  <a:pt x="675992" y="156927"/>
                </a:lnTo>
                <a:lnTo>
                  <a:pt x="657885" y="141838"/>
                </a:lnTo>
                <a:lnTo>
                  <a:pt x="648831" y="90535"/>
                </a:lnTo>
                <a:lnTo>
                  <a:pt x="639778" y="57339"/>
                </a:lnTo>
                <a:lnTo>
                  <a:pt x="633742" y="24143"/>
                </a:lnTo>
                <a:lnTo>
                  <a:pt x="576404" y="0"/>
                </a:lnTo>
                <a:lnTo>
                  <a:pt x="0" y="63374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2"/>
          <p:cNvSpPr/>
          <p:nvPr/>
        </p:nvSpPr>
        <p:spPr>
          <a:xfrm>
            <a:off x="5130720" y="1973160"/>
            <a:ext cx="828720" cy="824040"/>
          </a:xfrm>
          <a:custGeom>
            <a:avLst/>
            <a:gdLst/>
            <a:ahLst/>
            <a:rect l="l" t="t" r="r" b="b"/>
            <a:pathLst>
              <a:path w="829901" h="823866">
                <a:moveTo>
                  <a:pt x="84499" y="33196"/>
                </a:moveTo>
                <a:lnTo>
                  <a:pt x="57339" y="96571"/>
                </a:lnTo>
                <a:lnTo>
                  <a:pt x="66392" y="175034"/>
                </a:lnTo>
                <a:lnTo>
                  <a:pt x="0" y="259533"/>
                </a:lnTo>
                <a:lnTo>
                  <a:pt x="33196" y="301783"/>
                </a:lnTo>
                <a:lnTo>
                  <a:pt x="45267" y="331961"/>
                </a:lnTo>
                <a:lnTo>
                  <a:pt x="27160" y="380246"/>
                </a:lnTo>
                <a:lnTo>
                  <a:pt x="36214" y="446638"/>
                </a:lnTo>
                <a:lnTo>
                  <a:pt x="75446" y="449656"/>
                </a:lnTo>
                <a:lnTo>
                  <a:pt x="100221" y="468870"/>
                </a:lnTo>
                <a:lnTo>
                  <a:pt x="138967" y="486341"/>
                </a:lnTo>
                <a:lnTo>
                  <a:pt x="175815" y="538280"/>
                </a:lnTo>
                <a:lnTo>
                  <a:pt x="220301" y="537173"/>
                </a:lnTo>
                <a:lnTo>
                  <a:pt x="249361" y="585126"/>
                </a:lnTo>
                <a:lnTo>
                  <a:pt x="277640" y="564333"/>
                </a:lnTo>
                <a:lnTo>
                  <a:pt x="292729" y="618654"/>
                </a:lnTo>
                <a:lnTo>
                  <a:pt x="292729" y="636761"/>
                </a:lnTo>
                <a:lnTo>
                  <a:pt x="301782" y="666939"/>
                </a:lnTo>
                <a:lnTo>
                  <a:pt x="298764" y="682028"/>
                </a:lnTo>
                <a:lnTo>
                  <a:pt x="304800" y="697117"/>
                </a:lnTo>
                <a:lnTo>
                  <a:pt x="301782" y="763509"/>
                </a:lnTo>
                <a:lnTo>
                  <a:pt x="337996" y="793688"/>
                </a:lnTo>
                <a:lnTo>
                  <a:pt x="380246" y="808777"/>
                </a:lnTo>
                <a:lnTo>
                  <a:pt x="404388" y="823866"/>
                </a:lnTo>
                <a:lnTo>
                  <a:pt x="473798" y="808777"/>
                </a:lnTo>
                <a:lnTo>
                  <a:pt x="790669" y="751438"/>
                </a:lnTo>
                <a:lnTo>
                  <a:pt x="802741" y="751438"/>
                </a:lnTo>
                <a:lnTo>
                  <a:pt x="802741" y="688064"/>
                </a:lnTo>
                <a:lnTo>
                  <a:pt x="766527" y="579422"/>
                </a:lnTo>
                <a:lnTo>
                  <a:pt x="772562" y="522084"/>
                </a:lnTo>
                <a:lnTo>
                  <a:pt x="757473" y="473798"/>
                </a:lnTo>
                <a:lnTo>
                  <a:pt x="778598" y="443620"/>
                </a:lnTo>
                <a:lnTo>
                  <a:pt x="781616" y="407406"/>
                </a:lnTo>
                <a:lnTo>
                  <a:pt x="772562" y="353086"/>
                </a:lnTo>
                <a:lnTo>
                  <a:pt x="811794" y="292729"/>
                </a:lnTo>
                <a:lnTo>
                  <a:pt x="829901" y="226337"/>
                </a:lnTo>
                <a:lnTo>
                  <a:pt x="823865" y="220301"/>
                </a:lnTo>
                <a:lnTo>
                  <a:pt x="805758" y="235391"/>
                </a:lnTo>
                <a:lnTo>
                  <a:pt x="787651" y="271604"/>
                </a:lnTo>
                <a:lnTo>
                  <a:pt x="769545" y="307818"/>
                </a:lnTo>
                <a:lnTo>
                  <a:pt x="751438" y="316872"/>
                </a:lnTo>
                <a:lnTo>
                  <a:pt x="745402" y="341014"/>
                </a:lnTo>
                <a:lnTo>
                  <a:pt x="727295" y="362139"/>
                </a:lnTo>
                <a:lnTo>
                  <a:pt x="715224" y="371193"/>
                </a:lnTo>
                <a:lnTo>
                  <a:pt x="715224" y="371193"/>
                </a:lnTo>
                <a:lnTo>
                  <a:pt x="715224" y="371193"/>
                </a:lnTo>
                <a:lnTo>
                  <a:pt x="721259" y="316872"/>
                </a:lnTo>
                <a:lnTo>
                  <a:pt x="718242" y="301783"/>
                </a:lnTo>
                <a:lnTo>
                  <a:pt x="730313" y="265569"/>
                </a:lnTo>
                <a:lnTo>
                  <a:pt x="727295" y="226337"/>
                </a:lnTo>
                <a:lnTo>
                  <a:pt x="703152" y="193141"/>
                </a:lnTo>
                <a:lnTo>
                  <a:pt x="697117" y="178052"/>
                </a:lnTo>
                <a:lnTo>
                  <a:pt x="706170" y="162963"/>
                </a:lnTo>
                <a:lnTo>
                  <a:pt x="709188" y="147874"/>
                </a:lnTo>
                <a:lnTo>
                  <a:pt x="691081" y="147874"/>
                </a:lnTo>
                <a:lnTo>
                  <a:pt x="672974" y="147874"/>
                </a:lnTo>
                <a:lnTo>
                  <a:pt x="654867" y="117695"/>
                </a:lnTo>
                <a:lnTo>
                  <a:pt x="615636" y="117695"/>
                </a:lnTo>
                <a:lnTo>
                  <a:pt x="564333" y="111660"/>
                </a:lnTo>
                <a:lnTo>
                  <a:pt x="497941" y="99589"/>
                </a:lnTo>
                <a:lnTo>
                  <a:pt x="443620" y="99589"/>
                </a:lnTo>
                <a:lnTo>
                  <a:pt x="401370" y="93553"/>
                </a:lnTo>
                <a:lnTo>
                  <a:pt x="347049" y="72428"/>
                </a:lnTo>
                <a:lnTo>
                  <a:pt x="328943" y="48286"/>
                </a:lnTo>
                <a:lnTo>
                  <a:pt x="250479" y="51303"/>
                </a:lnTo>
                <a:lnTo>
                  <a:pt x="235390" y="0"/>
                </a:lnTo>
                <a:lnTo>
                  <a:pt x="168998" y="30179"/>
                </a:lnTo>
                <a:lnTo>
                  <a:pt x="84499" y="33196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23"/>
          <p:cNvSpPr/>
          <p:nvPr/>
        </p:nvSpPr>
        <p:spPr>
          <a:xfrm>
            <a:off x="5456160" y="2720880"/>
            <a:ext cx="615960" cy="1057320"/>
          </a:xfrm>
          <a:custGeom>
            <a:avLst/>
            <a:gdLst/>
            <a:ahLst/>
            <a:rect l="l" t="t" r="r" b="b"/>
            <a:pathLst>
              <a:path w="615635" h="1056238">
                <a:moveTo>
                  <a:pt x="78463" y="78464"/>
                </a:moveTo>
                <a:lnTo>
                  <a:pt x="147873" y="159945"/>
                </a:lnTo>
                <a:lnTo>
                  <a:pt x="150891" y="202194"/>
                </a:lnTo>
                <a:lnTo>
                  <a:pt x="93552" y="280658"/>
                </a:lnTo>
                <a:lnTo>
                  <a:pt x="27160" y="277816"/>
                </a:lnTo>
                <a:lnTo>
                  <a:pt x="54321" y="356103"/>
                </a:lnTo>
                <a:lnTo>
                  <a:pt x="0" y="431549"/>
                </a:lnTo>
                <a:lnTo>
                  <a:pt x="30178" y="620855"/>
                </a:lnTo>
                <a:lnTo>
                  <a:pt x="109918" y="648656"/>
                </a:lnTo>
                <a:lnTo>
                  <a:pt x="156926" y="739367"/>
                </a:lnTo>
                <a:lnTo>
                  <a:pt x="196158" y="727295"/>
                </a:lnTo>
                <a:lnTo>
                  <a:pt x="223319" y="760491"/>
                </a:lnTo>
                <a:lnTo>
                  <a:pt x="205212" y="793687"/>
                </a:lnTo>
                <a:lnTo>
                  <a:pt x="196330" y="814173"/>
                </a:lnTo>
                <a:lnTo>
                  <a:pt x="247461" y="902329"/>
                </a:lnTo>
                <a:lnTo>
                  <a:pt x="337996" y="944578"/>
                </a:lnTo>
                <a:lnTo>
                  <a:pt x="359292" y="1043351"/>
                </a:lnTo>
                <a:lnTo>
                  <a:pt x="431548" y="1056238"/>
                </a:lnTo>
                <a:lnTo>
                  <a:pt x="437584" y="1020024"/>
                </a:lnTo>
                <a:lnTo>
                  <a:pt x="478558" y="1036038"/>
                </a:lnTo>
                <a:lnTo>
                  <a:pt x="525101" y="1032095"/>
                </a:lnTo>
                <a:lnTo>
                  <a:pt x="534154" y="1017006"/>
                </a:lnTo>
                <a:lnTo>
                  <a:pt x="525101" y="983810"/>
                </a:lnTo>
                <a:lnTo>
                  <a:pt x="587665" y="967266"/>
                </a:lnTo>
                <a:lnTo>
                  <a:pt x="579422" y="920436"/>
                </a:lnTo>
                <a:lnTo>
                  <a:pt x="579422" y="893275"/>
                </a:lnTo>
                <a:lnTo>
                  <a:pt x="573386" y="866115"/>
                </a:lnTo>
                <a:lnTo>
                  <a:pt x="576404" y="826883"/>
                </a:lnTo>
                <a:lnTo>
                  <a:pt x="579422" y="802741"/>
                </a:lnTo>
                <a:lnTo>
                  <a:pt x="586390" y="787012"/>
                </a:lnTo>
                <a:lnTo>
                  <a:pt x="603564" y="748420"/>
                </a:lnTo>
                <a:lnTo>
                  <a:pt x="606582" y="715224"/>
                </a:lnTo>
                <a:lnTo>
                  <a:pt x="615635" y="703153"/>
                </a:lnTo>
                <a:lnTo>
                  <a:pt x="609600" y="672974"/>
                </a:lnTo>
                <a:lnTo>
                  <a:pt x="597528" y="624689"/>
                </a:lnTo>
                <a:lnTo>
                  <a:pt x="597528" y="582440"/>
                </a:lnTo>
                <a:lnTo>
                  <a:pt x="615635" y="519066"/>
                </a:lnTo>
                <a:lnTo>
                  <a:pt x="579422" y="334978"/>
                </a:lnTo>
                <a:lnTo>
                  <a:pt x="570368" y="307818"/>
                </a:lnTo>
                <a:lnTo>
                  <a:pt x="561315" y="250479"/>
                </a:lnTo>
                <a:lnTo>
                  <a:pt x="552261" y="202194"/>
                </a:lnTo>
                <a:lnTo>
                  <a:pt x="540190" y="141838"/>
                </a:lnTo>
                <a:lnTo>
                  <a:pt x="531136" y="126749"/>
                </a:lnTo>
                <a:lnTo>
                  <a:pt x="488887" y="63374"/>
                </a:lnTo>
                <a:lnTo>
                  <a:pt x="479833" y="21125"/>
                </a:lnTo>
                <a:lnTo>
                  <a:pt x="473798" y="0"/>
                </a:lnTo>
                <a:lnTo>
                  <a:pt x="78463" y="78464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24"/>
          <p:cNvSpPr/>
          <p:nvPr/>
        </p:nvSpPr>
        <p:spPr>
          <a:xfrm>
            <a:off x="6080040" y="4073400"/>
            <a:ext cx="595440" cy="974880"/>
          </a:xfrm>
          <a:custGeom>
            <a:avLst/>
            <a:gdLst/>
            <a:ahLst/>
            <a:rect l="l" t="t" r="r" b="b"/>
            <a:pathLst>
              <a:path w="594511" h="974757">
                <a:moveTo>
                  <a:pt x="0" y="84499"/>
                </a:moveTo>
                <a:lnTo>
                  <a:pt x="69410" y="962686"/>
                </a:lnTo>
                <a:lnTo>
                  <a:pt x="87517" y="962686"/>
                </a:lnTo>
                <a:lnTo>
                  <a:pt x="111659" y="962686"/>
                </a:lnTo>
                <a:lnTo>
                  <a:pt x="132784" y="941561"/>
                </a:lnTo>
                <a:lnTo>
                  <a:pt x="129766" y="902329"/>
                </a:lnTo>
                <a:lnTo>
                  <a:pt x="184087" y="974757"/>
                </a:lnTo>
                <a:lnTo>
                  <a:pt x="220301" y="959668"/>
                </a:lnTo>
                <a:lnTo>
                  <a:pt x="217283" y="908365"/>
                </a:lnTo>
                <a:lnTo>
                  <a:pt x="214265" y="878187"/>
                </a:lnTo>
                <a:lnTo>
                  <a:pt x="193140" y="851026"/>
                </a:lnTo>
                <a:lnTo>
                  <a:pt x="588475" y="751438"/>
                </a:lnTo>
                <a:lnTo>
                  <a:pt x="591493" y="685046"/>
                </a:lnTo>
                <a:lnTo>
                  <a:pt x="582439" y="633743"/>
                </a:lnTo>
                <a:lnTo>
                  <a:pt x="588475" y="585458"/>
                </a:lnTo>
                <a:lnTo>
                  <a:pt x="570368" y="528119"/>
                </a:lnTo>
                <a:lnTo>
                  <a:pt x="576404" y="510012"/>
                </a:lnTo>
                <a:lnTo>
                  <a:pt x="594511" y="488888"/>
                </a:lnTo>
                <a:lnTo>
                  <a:pt x="588475" y="467763"/>
                </a:lnTo>
                <a:lnTo>
                  <a:pt x="543208" y="425513"/>
                </a:lnTo>
                <a:lnTo>
                  <a:pt x="470780" y="162963"/>
                </a:lnTo>
                <a:lnTo>
                  <a:pt x="449655" y="111660"/>
                </a:lnTo>
                <a:lnTo>
                  <a:pt x="410424" y="0"/>
                </a:lnTo>
                <a:lnTo>
                  <a:pt x="202194" y="51303"/>
                </a:lnTo>
                <a:lnTo>
                  <a:pt x="114677" y="66392"/>
                </a:lnTo>
                <a:lnTo>
                  <a:pt x="96570" y="51303"/>
                </a:lnTo>
                <a:lnTo>
                  <a:pt x="0" y="84499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25"/>
          <p:cNvSpPr/>
          <p:nvPr/>
        </p:nvSpPr>
        <p:spPr>
          <a:xfrm>
            <a:off x="6485040" y="3986280"/>
            <a:ext cx="826920" cy="871560"/>
          </a:xfrm>
          <a:custGeom>
            <a:avLst/>
            <a:gdLst/>
            <a:ahLst/>
            <a:rect l="l" t="t" r="r" b="b"/>
            <a:pathLst>
              <a:path w="825779" h="872150">
                <a:moveTo>
                  <a:pt x="0" y="87516"/>
                </a:moveTo>
                <a:lnTo>
                  <a:pt x="69410" y="262550"/>
                </a:lnTo>
                <a:lnTo>
                  <a:pt x="141838" y="510011"/>
                </a:lnTo>
                <a:lnTo>
                  <a:pt x="187105" y="576404"/>
                </a:lnTo>
                <a:lnTo>
                  <a:pt x="165980" y="618653"/>
                </a:lnTo>
                <a:lnTo>
                  <a:pt x="175034" y="672974"/>
                </a:lnTo>
                <a:lnTo>
                  <a:pt x="184087" y="688063"/>
                </a:lnTo>
                <a:lnTo>
                  <a:pt x="178051" y="733330"/>
                </a:lnTo>
                <a:lnTo>
                  <a:pt x="187105" y="781615"/>
                </a:lnTo>
                <a:lnTo>
                  <a:pt x="172655" y="848965"/>
                </a:lnTo>
                <a:lnTo>
                  <a:pt x="259533" y="872150"/>
                </a:lnTo>
                <a:lnTo>
                  <a:pt x="383263" y="863097"/>
                </a:lnTo>
                <a:lnTo>
                  <a:pt x="652953" y="841180"/>
                </a:lnTo>
                <a:lnTo>
                  <a:pt x="700135" y="851025"/>
                </a:lnTo>
                <a:lnTo>
                  <a:pt x="706170" y="772562"/>
                </a:lnTo>
                <a:lnTo>
                  <a:pt x="724277" y="751437"/>
                </a:lnTo>
                <a:lnTo>
                  <a:pt x="764958" y="776057"/>
                </a:lnTo>
                <a:lnTo>
                  <a:pt x="805758" y="757473"/>
                </a:lnTo>
                <a:lnTo>
                  <a:pt x="784634" y="651849"/>
                </a:lnTo>
                <a:lnTo>
                  <a:pt x="796705" y="642796"/>
                </a:lnTo>
                <a:lnTo>
                  <a:pt x="796705" y="585457"/>
                </a:lnTo>
                <a:lnTo>
                  <a:pt x="817830" y="519065"/>
                </a:lnTo>
                <a:lnTo>
                  <a:pt x="825779" y="469510"/>
                </a:lnTo>
                <a:lnTo>
                  <a:pt x="805758" y="461726"/>
                </a:lnTo>
                <a:lnTo>
                  <a:pt x="793687" y="431548"/>
                </a:lnTo>
                <a:lnTo>
                  <a:pt x="724277" y="359120"/>
                </a:lnTo>
                <a:lnTo>
                  <a:pt x="712206" y="307817"/>
                </a:lnTo>
                <a:lnTo>
                  <a:pt x="636760" y="271604"/>
                </a:lnTo>
                <a:lnTo>
                  <a:pt x="564333" y="196158"/>
                </a:lnTo>
                <a:lnTo>
                  <a:pt x="531137" y="175033"/>
                </a:lnTo>
                <a:lnTo>
                  <a:pt x="488887" y="156926"/>
                </a:lnTo>
                <a:lnTo>
                  <a:pt x="470780" y="150891"/>
                </a:lnTo>
                <a:lnTo>
                  <a:pt x="434566" y="99588"/>
                </a:lnTo>
                <a:lnTo>
                  <a:pt x="377228" y="63374"/>
                </a:lnTo>
                <a:lnTo>
                  <a:pt x="371192" y="36213"/>
                </a:lnTo>
                <a:lnTo>
                  <a:pt x="371192" y="0"/>
                </a:lnTo>
                <a:lnTo>
                  <a:pt x="205212" y="45267"/>
                </a:lnTo>
                <a:lnTo>
                  <a:pt x="0" y="87516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26"/>
          <p:cNvSpPr/>
          <p:nvPr/>
        </p:nvSpPr>
        <p:spPr>
          <a:xfrm>
            <a:off x="6856560" y="3868560"/>
            <a:ext cx="760320" cy="584280"/>
          </a:xfrm>
          <a:custGeom>
            <a:avLst/>
            <a:gdLst/>
            <a:ahLst/>
            <a:rect l="l" t="t" r="r" b="b"/>
            <a:pathLst>
              <a:path w="760491" h="585457">
                <a:moveTo>
                  <a:pt x="0" y="111659"/>
                </a:moveTo>
                <a:cubicBezTo>
                  <a:pt x="636" y="135802"/>
                  <a:pt x="1273" y="159944"/>
                  <a:pt x="1909" y="184087"/>
                </a:cubicBezTo>
                <a:lnTo>
                  <a:pt x="57339" y="217283"/>
                </a:lnTo>
                <a:lnTo>
                  <a:pt x="99588" y="277639"/>
                </a:lnTo>
                <a:lnTo>
                  <a:pt x="190123" y="307817"/>
                </a:lnTo>
                <a:lnTo>
                  <a:pt x="262551" y="395334"/>
                </a:lnTo>
                <a:lnTo>
                  <a:pt x="344032" y="422495"/>
                </a:lnTo>
                <a:lnTo>
                  <a:pt x="359121" y="491904"/>
                </a:lnTo>
                <a:lnTo>
                  <a:pt x="434566" y="576403"/>
                </a:lnTo>
                <a:lnTo>
                  <a:pt x="455691" y="585457"/>
                </a:lnTo>
                <a:lnTo>
                  <a:pt x="473798" y="540190"/>
                </a:lnTo>
                <a:lnTo>
                  <a:pt x="470780" y="500958"/>
                </a:lnTo>
                <a:lnTo>
                  <a:pt x="500958" y="513029"/>
                </a:lnTo>
                <a:lnTo>
                  <a:pt x="510012" y="473798"/>
                </a:lnTo>
                <a:lnTo>
                  <a:pt x="546226" y="470780"/>
                </a:lnTo>
                <a:lnTo>
                  <a:pt x="594511" y="425512"/>
                </a:lnTo>
                <a:lnTo>
                  <a:pt x="609600" y="374209"/>
                </a:lnTo>
                <a:lnTo>
                  <a:pt x="639778" y="362138"/>
                </a:lnTo>
                <a:lnTo>
                  <a:pt x="651850" y="331960"/>
                </a:lnTo>
                <a:lnTo>
                  <a:pt x="672974" y="271603"/>
                </a:lnTo>
                <a:lnTo>
                  <a:pt x="709188" y="256514"/>
                </a:lnTo>
                <a:lnTo>
                  <a:pt x="733331" y="193140"/>
                </a:lnTo>
                <a:lnTo>
                  <a:pt x="760491" y="135801"/>
                </a:lnTo>
                <a:lnTo>
                  <a:pt x="564333" y="0"/>
                </a:lnTo>
                <a:lnTo>
                  <a:pt x="416459" y="45267"/>
                </a:lnTo>
                <a:lnTo>
                  <a:pt x="386281" y="51302"/>
                </a:lnTo>
                <a:lnTo>
                  <a:pt x="377228" y="48285"/>
                </a:lnTo>
                <a:lnTo>
                  <a:pt x="347050" y="24142"/>
                </a:lnTo>
                <a:lnTo>
                  <a:pt x="322907" y="12071"/>
                </a:lnTo>
                <a:lnTo>
                  <a:pt x="280657" y="18106"/>
                </a:lnTo>
                <a:lnTo>
                  <a:pt x="229354" y="27160"/>
                </a:lnTo>
                <a:lnTo>
                  <a:pt x="187105" y="27160"/>
                </a:lnTo>
                <a:lnTo>
                  <a:pt x="147873" y="45267"/>
                </a:lnTo>
                <a:lnTo>
                  <a:pt x="0" y="111659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27"/>
          <p:cNvSpPr/>
          <p:nvPr/>
        </p:nvSpPr>
        <p:spPr>
          <a:xfrm>
            <a:off x="5891040" y="3252960"/>
            <a:ext cx="1032120" cy="612720"/>
          </a:xfrm>
          <a:custGeom>
            <a:avLst/>
            <a:gdLst/>
            <a:ahLst/>
            <a:rect l="l" t="t" r="r" b="b"/>
            <a:pathLst>
              <a:path w="1032573" h="612618">
                <a:moveTo>
                  <a:pt x="132784" y="350067"/>
                </a:moveTo>
                <a:lnTo>
                  <a:pt x="141838" y="425513"/>
                </a:lnTo>
                <a:lnTo>
                  <a:pt x="93553" y="452673"/>
                </a:lnTo>
                <a:lnTo>
                  <a:pt x="90535" y="488887"/>
                </a:lnTo>
                <a:lnTo>
                  <a:pt x="90535" y="503976"/>
                </a:lnTo>
                <a:lnTo>
                  <a:pt x="0" y="482851"/>
                </a:lnTo>
                <a:lnTo>
                  <a:pt x="0" y="570368"/>
                </a:lnTo>
                <a:lnTo>
                  <a:pt x="15089" y="612618"/>
                </a:lnTo>
                <a:lnTo>
                  <a:pt x="75446" y="609600"/>
                </a:lnTo>
                <a:lnTo>
                  <a:pt x="135802" y="597529"/>
                </a:lnTo>
                <a:lnTo>
                  <a:pt x="208230" y="564333"/>
                </a:lnTo>
                <a:lnTo>
                  <a:pt x="310836" y="549243"/>
                </a:lnTo>
                <a:lnTo>
                  <a:pt x="449656" y="522083"/>
                </a:lnTo>
                <a:lnTo>
                  <a:pt x="624689" y="488887"/>
                </a:lnTo>
                <a:lnTo>
                  <a:pt x="781616" y="464744"/>
                </a:lnTo>
                <a:lnTo>
                  <a:pt x="841972" y="446637"/>
                </a:lnTo>
                <a:lnTo>
                  <a:pt x="919330" y="406769"/>
                </a:lnTo>
                <a:lnTo>
                  <a:pt x="951092" y="356103"/>
                </a:lnTo>
                <a:lnTo>
                  <a:pt x="969834" y="308924"/>
                </a:lnTo>
                <a:lnTo>
                  <a:pt x="999378" y="281763"/>
                </a:lnTo>
                <a:lnTo>
                  <a:pt x="1032573" y="255709"/>
                </a:lnTo>
                <a:lnTo>
                  <a:pt x="1018118" y="180601"/>
                </a:lnTo>
                <a:lnTo>
                  <a:pt x="959667" y="156927"/>
                </a:lnTo>
                <a:lnTo>
                  <a:pt x="932507" y="57338"/>
                </a:lnTo>
                <a:lnTo>
                  <a:pt x="917418" y="54321"/>
                </a:lnTo>
                <a:lnTo>
                  <a:pt x="899311" y="33196"/>
                </a:lnTo>
                <a:lnTo>
                  <a:pt x="878186" y="27160"/>
                </a:lnTo>
                <a:lnTo>
                  <a:pt x="860079" y="0"/>
                </a:lnTo>
                <a:lnTo>
                  <a:pt x="817830" y="21125"/>
                </a:lnTo>
                <a:lnTo>
                  <a:pt x="754456" y="30178"/>
                </a:lnTo>
                <a:lnTo>
                  <a:pt x="715224" y="30178"/>
                </a:lnTo>
                <a:lnTo>
                  <a:pt x="654867" y="36214"/>
                </a:lnTo>
                <a:lnTo>
                  <a:pt x="618654" y="18107"/>
                </a:lnTo>
                <a:lnTo>
                  <a:pt x="582440" y="6036"/>
                </a:lnTo>
                <a:lnTo>
                  <a:pt x="561315" y="27160"/>
                </a:lnTo>
                <a:lnTo>
                  <a:pt x="576561" y="60356"/>
                </a:lnTo>
                <a:lnTo>
                  <a:pt x="579579" y="79738"/>
                </a:lnTo>
                <a:lnTo>
                  <a:pt x="546226" y="96570"/>
                </a:lnTo>
                <a:lnTo>
                  <a:pt x="513030" y="108641"/>
                </a:lnTo>
                <a:lnTo>
                  <a:pt x="459502" y="112933"/>
                </a:lnTo>
                <a:lnTo>
                  <a:pt x="464267" y="181069"/>
                </a:lnTo>
                <a:lnTo>
                  <a:pt x="437584" y="214265"/>
                </a:lnTo>
                <a:lnTo>
                  <a:pt x="416459" y="247461"/>
                </a:lnTo>
                <a:lnTo>
                  <a:pt x="392317" y="259533"/>
                </a:lnTo>
                <a:lnTo>
                  <a:pt x="353242" y="223486"/>
                </a:lnTo>
                <a:lnTo>
                  <a:pt x="356103" y="298764"/>
                </a:lnTo>
                <a:lnTo>
                  <a:pt x="334978" y="286693"/>
                </a:lnTo>
                <a:lnTo>
                  <a:pt x="316871" y="283675"/>
                </a:lnTo>
                <a:lnTo>
                  <a:pt x="277640" y="302586"/>
                </a:lnTo>
                <a:lnTo>
                  <a:pt x="262551" y="317039"/>
                </a:lnTo>
                <a:lnTo>
                  <a:pt x="229355" y="334978"/>
                </a:lnTo>
                <a:lnTo>
                  <a:pt x="211248" y="316871"/>
                </a:lnTo>
                <a:lnTo>
                  <a:pt x="196158" y="310836"/>
                </a:lnTo>
                <a:lnTo>
                  <a:pt x="132784" y="350067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28"/>
          <p:cNvSpPr/>
          <p:nvPr/>
        </p:nvSpPr>
        <p:spPr>
          <a:xfrm>
            <a:off x="5756400" y="3594240"/>
            <a:ext cx="1307880" cy="612720"/>
          </a:xfrm>
          <a:custGeom>
            <a:avLst/>
            <a:gdLst/>
            <a:ahLst/>
            <a:rect l="l" t="t" r="r" b="b"/>
            <a:pathLst>
              <a:path w="1278631" h="599737">
                <a:moveTo>
                  <a:pt x="98837" y="262065"/>
                </a:moveTo>
                <a:lnTo>
                  <a:pt x="63374" y="346240"/>
                </a:lnTo>
                <a:lnTo>
                  <a:pt x="63374" y="382453"/>
                </a:lnTo>
                <a:lnTo>
                  <a:pt x="33196" y="466952"/>
                </a:lnTo>
                <a:lnTo>
                  <a:pt x="33196" y="503166"/>
                </a:lnTo>
                <a:lnTo>
                  <a:pt x="6036" y="539380"/>
                </a:lnTo>
                <a:lnTo>
                  <a:pt x="6036" y="569558"/>
                </a:lnTo>
                <a:lnTo>
                  <a:pt x="0" y="599737"/>
                </a:lnTo>
                <a:lnTo>
                  <a:pt x="283675" y="554469"/>
                </a:lnTo>
                <a:lnTo>
                  <a:pt x="328942" y="563523"/>
                </a:lnTo>
                <a:lnTo>
                  <a:pt x="334978" y="545416"/>
                </a:lnTo>
                <a:lnTo>
                  <a:pt x="365156" y="539380"/>
                </a:lnTo>
                <a:lnTo>
                  <a:pt x="414939" y="521164"/>
                </a:lnTo>
                <a:lnTo>
                  <a:pt x="443268" y="539549"/>
                </a:lnTo>
                <a:lnTo>
                  <a:pt x="932507" y="427721"/>
                </a:lnTo>
                <a:lnTo>
                  <a:pt x="905346" y="385471"/>
                </a:lnTo>
                <a:lnTo>
                  <a:pt x="941560" y="358311"/>
                </a:lnTo>
                <a:lnTo>
                  <a:pt x="956649" y="322097"/>
                </a:lnTo>
                <a:lnTo>
                  <a:pt x="1017006" y="264758"/>
                </a:lnTo>
                <a:lnTo>
                  <a:pt x="1068309" y="234580"/>
                </a:lnTo>
                <a:lnTo>
                  <a:pt x="1099176" y="173472"/>
                </a:lnTo>
                <a:lnTo>
                  <a:pt x="1141254" y="170765"/>
                </a:lnTo>
                <a:lnTo>
                  <a:pt x="1177209" y="135183"/>
                </a:lnTo>
                <a:lnTo>
                  <a:pt x="1192040" y="122921"/>
                </a:lnTo>
                <a:lnTo>
                  <a:pt x="1211785" y="123423"/>
                </a:lnTo>
                <a:lnTo>
                  <a:pt x="1240325" y="110849"/>
                </a:lnTo>
                <a:lnTo>
                  <a:pt x="1270503" y="71618"/>
                </a:lnTo>
                <a:lnTo>
                  <a:pt x="1278631" y="0"/>
                </a:lnTo>
                <a:lnTo>
                  <a:pt x="980792" y="92742"/>
                </a:lnTo>
                <a:lnTo>
                  <a:pt x="334978" y="213455"/>
                </a:lnTo>
                <a:lnTo>
                  <a:pt x="274622" y="249669"/>
                </a:lnTo>
                <a:lnTo>
                  <a:pt x="235390" y="252687"/>
                </a:lnTo>
                <a:lnTo>
                  <a:pt x="98837" y="262065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9"/>
          <p:cNvSpPr/>
          <p:nvPr/>
        </p:nvSpPr>
        <p:spPr>
          <a:xfrm>
            <a:off x="5985000" y="2760840"/>
            <a:ext cx="496800" cy="833400"/>
          </a:xfrm>
          <a:custGeom>
            <a:avLst/>
            <a:gdLst/>
            <a:ahLst/>
            <a:rect l="l" t="t" r="r" b="b"/>
            <a:pathLst>
              <a:path w="497940" h="832919">
                <a:moveTo>
                  <a:pt x="0" y="102606"/>
                </a:moveTo>
                <a:lnTo>
                  <a:pt x="84499" y="482851"/>
                </a:lnTo>
                <a:lnTo>
                  <a:pt x="78463" y="522083"/>
                </a:lnTo>
                <a:lnTo>
                  <a:pt x="66392" y="567350"/>
                </a:lnTo>
                <a:lnTo>
                  <a:pt x="77340" y="633742"/>
                </a:lnTo>
                <a:lnTo>
                  <a:pt x="87516" y="672974"/>
                </a:lnTo>
                <a:lnTo>
                  <a:pt x="80358" y="672974"/>
                </a:lnTo>
                <a:lnTo>
                  <a:pt x="63514" y="712845"/>
                </a:lnTo>
                <a:lnTo>
                  <a:pt x="42249" y="751438"/>
                </a:lnTo>
                <a:lnTo>
                  <a:pt x="46037" y="773028"/>
                </a:lnTo>
                <a:cubicBezTo>
                  <a:pt x="46786" y="792992"/>
                  <a:pt x="47536" y="812955"/>
                  <a:pt x="48285" y="832919"/>
                </a:cubicBezTo>
                <a:lnTo>
                  <a:pt x="108641" y="808776"/>
                </a:lnTo>
                <a:lnTo>
                  <a:pt x="135802" y="826883"/>
                </a:lnTo>
                <a:lnTo>
                  <a:pt x="214265" y="790669"/>
                </a:lnTo>
                <a:lnTo>
                  <a:pt x="229354" y="772562"/>
                </a:lnTo>
                <a:lnTo>
                  <a:pt x="262550" y="790669"/>
                </a:lnTo>
                <a:lnTo>
                  <a:pt x="262550" y="736348"/>
                </a:lnTo>
                <a:lnTo>
                  <a:pt x="265568" y="727295"/>
                </a:lnTo>
                <a:lnTo>
                  <a:pt x="298764" y="748420"/>
                </a:lnTo>
                <a:lnTo>
                  <a:pt x="310835" y="748420"/>
                </a:lnTo>
                <a:lnTo>
                  <a:pt x="322906" y="736348"/>
                </a:lnTo>
                <a:lnTo>
                  <a:pt x="368174" y="679010"/>
                </a:lnTo>
                <a:lnTo>
                  <a:pt x="377227" y="603564"/>
                </a:lnTo>
                <a:cubicBezTo>
                  <a:pt x="380345" y="603334"/>
                  <a:pt x="390620" y="619763"/>
                  <a:pt x="393738" y="619533"/>
                </a:cubicBezTo>
                <a:lnTo>
                  <a:pt x="497940" y="573386"/>
                </a:lnTo>
                <a:lnTo>
                  <a:pt x="476815" y="525101"/>
                </a:lnTo>
                <a:lnTo>
                  <a:pt x="494922" y="494923"/>
                </a:lnTo>
                <a:lnTo>
                  <a:pt x="380245" y="12071"/>
                </a:lnTo>
                <a:lnTo>
                  <a:pt x="368174" y="0"/>
                </a:lnTo>
                <a:lnTo>
                  <a:pt x="184087" y="45267"/>
                </a:lnTo>
                <a:lnTo>
                  <a:pt x="126748" y="54321"/>
                </a:lnTo>
                <a:lnTo>
                  <a:pt x="105623" y="51303"/>
                </a:lnTo>
                <a:lnTo>
                  <a:pt x="57338" y="87517"/>
                </a:lnTo>
                <a:lnTo>
                  <a:pt x="0" y="102606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0"/>
          <p:cNvSpPr/>
          <p:nvPr/>
        </p:nvSpPr>
        <p:spPr>
          <a:xfrm>
            <a:off x="3122640" y="4049640"/>
            <a:ext cx="2178000" cy="2040120"/>
          </a:xfrm>
          <a:custGeom>
            <a:avLst/>
            <a:gdLst/>
            <a:ahLst/>
            <a:rect l="l" t="t" r="r" b="b"/>
            <a:pathLst>
              <a:path w="2178135" h="2039827">
                <a:moveTo>
                  <a:pt x="608423" y="0"/>
                </a:moveTo>
                <a:cubicBezTo>
                  <a:pt x="606363" y="288324"/>
                  <a:pt x="592352" y="583789"/>
                  <a:pt x="590292" y="872113"/>
                </a:cubicBezTo>
                <a:lnTo>
                  <a:pt x="6178" y="841299"/>
                </a:lnTo>
                <a:lnTo>
                  <a:pt x="0" y="880734"/>
                </a:lnTo>
                <a:lnTo>
                  <a:pt x="58952" y="921540"/>
                </a:lnTo>
                <a:lnTo>
                  <a:pt x="114557" y="989503"/>
                </a:lnTo>
                <a:lnTo>
                  <a:pt x="163984" y="1063643"/>
                </a:lnTo>
                <a:lnTo>
                  <a:pt x="213411" y="1076000"/>
                </a:lnTo>
                <a:lnTo>
                  <a:pt x="250481" y="1125427"/>
                </a:lnTo>
                <a:lnTo>
                  <a:pt x="281373" y="1174854"/>
                </a:lnTo>
                <a:lnTo>
                  <a:pt x="306087" y="1230459"/>
                </a:lnTo>
                <a:lnTo>
                  <a:pt x="318444" y="1304600"/>
                </a:lnTo>
                <a:lnTo>
                  <a:pt x="336979" y="1329313"/>
                </a:lnTo>
                <a:lnTo>
                  <a:pt x="442011" y="1409632"/>
                </a:lnTo>
                <a:lnTo>
                  <a:pt x="448190" y="1384919"/>
                </a:lnTo>
                <a:lnTo>
                  <a:pt x="584114" y="1452881"/>
                </a:lnTo>
                <a:lnTo>
                  <a:pt x="584114" y="1452881"/>
                </a:lnTo>
                <a:lnTo>
                  <a:pt x="615006" y="1397276"/>
                </a:lnTo>
                <a:lnTo>
                  <a:pt x="670611" y="1329313"/>
                </a:lnTo>
                <a:lnTo>
                  <a:pt x="738573" y="1310778"/>
                </a:lnTo>
                <a:lnTo>
                  <a:pt x="831249" y="1323135"/>
                </a:lnTo>
                <a:lnTo>
                  <a:pt x="911568" y="1384919"/>
                </a:lnTo>
                <a:lnTo>
                  <a:pt x="967173" y="1465238"/>
                </a:lnTo>
                <a:lnTo>
                  <a:pt x="1022779" y="1545557"/>
                </a:lnTo>
                <a:lnTo>
                  <a:pt x="1072206" y="1632054"/>
                </a:lnTo>
                <a:lnTo>
                  <a:pt x="1127811" y="1700016"/>
                </a:lnTo>
                <a:lnTo>
                  <a:pt x="1177238" y="1737086"/>
                </a:lnTo>
                <a:lnTo>
                  <a:pt x="1208130" y="1817405"/>
                </a:lnTo>
                <a:lnTo>
                  <a:pt x="1232844" y="1879189"/>
                </a:lnTo>
                <a:lnTo>
                  <a:pt x="1257557" y="1940973"/>
                </a:lnTo>
                <a:lnTo>
                  <a:pt x="1288449" y="1984222"/>
                </a:lnTo>
                <a:lnTo>
                  <a:pt x="1350233" y="2008935"/>
                </a:lnTo>
                <a:lnTo>
                  <a:pt x="1449087" y="2027470"/>
                </a:lnTo>
                <a:lnTo>
                  <a:pt x="1523227" y="2039827"/>
                </a:lnTo>
                <a:lnTo>
                  <a:pt x="1615903" y="2039827"/>
                </a:lnTo>
                <a:lnTo>
                  <a:pt x="1597368" y="2027470"/>
                </a:lnTo>
                <a:lnTo>
                  <a:pt x="1597368" y="2027470"/>
                </a:lnTo>
                <a:lnTo>
                  <a:pt x="1585011" y="1959508"/>
                </a:lnTo>
                <a:lnTo>
                  <a:pt x="1560298" y="1928616"/>
                </a:lnTo>
                <a:lnTo>
                  <a:pt x="1554119" y="1891546"/>
                </a:lnTo>
                <a:lnTo>
                  <a:pt x="1535584" y="1848297"/>
                </a:lnTo>
                <a:lnTo>
                  <a:pt x="1547941" y="1817405"/>
                </a:lnTo>
                <a:lnTo>
                  <a:pt x="1541762" y="1798870"/>
                </a:lnTo>
                <a:lnTo>
                  <a:pt x="1498514" y="1774157"/>
                </a:lnTo>
                <a:lnTo>
                  <a:pt x="1547941" y="1743265"/>
                </a:lnTo>
                <a:lnTo>
                  <a:pt x="1554119" y="1730908"/>
                </a:lnTo>
                <a:lnTo>
                  <a:pt x="1560298" y="1700016"/>
                </a:lnTo>
                <a:lnTo>
                  <a:pt x="1535584" y="1669124"/>
                </a:lnTo>
                <a:lnTo>
                  <a:pt x="1560298" y="1669124"/>
                </a:lnTo>
                <a:lnTo>
                  <a:pt x="1585011" y="1650589"/>
                </a:lnTo>
                <a:lnTo>
                  <a:pt x="1560298" y="1594984"/>
                </a:lnTo>
                <a:lnTo>
                  <a:pt x="1560298" y="1594984"/>
                </a:lnTo>
                <a:lnTo>
                  <a:pt x="1628260" y="1594984"/>
                </a:lnTo>
                <a:lnTo>
                  <a:pt x="1640617" y="1582627"/>
                </a:lnTo>
                <a:lnTo>
                  <a:pt x="1659152" y="1533200"/>
                </a:lnTo>
                <a:lnTo>
                  <a:pt x="1696222" y="1533200"/>
                </a:lnTo>
                <a:lnTo>
                  <a:pt x="1714757" y="1533200"/>
                </a:lnTo>
                <a:lnTo>
                  <a:pt x="1714757" y="1502308"/>
                </a:lnTo>
                <a:lnTo>
                  <a:pt x="1708579" y="1483773"/>
                </a:lnTo>
                <a:lnTo>
                  <a:pt x="1708579" y="1483773"/>
                </a:lnTo>
                <a:lnTo>
                  <a:pt x="1782719" y="1489951"/>
                </a:lnTo>
                <a:lnTo>
                  <a:pt x="1844503" y="1477595"/>
                </a:lnTo>
                <a:lnTo>
                  <a:pt x="1906287" y="1421989"/>
                </a:lnTo>
                <a:lnTo>
                  <a:pt x="1906287" y="1378740"/>
                </a:lnTo>
                <a:lnTo>
                  <a:pt x="1955714" y="1347849"/>
                </a:lnTo>
                <a:lnTo>
                  <a:pt x="1949535" y="1286065"/>
                </a:lnTo>
                <a:lnTo>
                  <a:pt x="1992784" y="1267530"/>
                </a:lnTo>
                <a:lnTo>
                  <a:pt x="2017498" y="1329313"/>
                </a:lnTo>
                <a:lnTo>
                  <a:pt x="2153422" y="1255173"/>
                </a:lnTo>
                <a:lnTo>
                  <a:pt x="2165779" y="1168676"/>
                </a:lnTo>
                <a:lnTo>
                  <a:pt x="2153422" y="1131605"/>
                </a:lnTo>
                <a:lnTo>
                  <a:pt x="2147244" y="1094535"/>
                </a:lnTo>
                <a:lnTo>
                  <a:pt x="2159600" y="1051286"/>
                </a:lnTo>
                <a:lnTo>
                  <a:pt x="2178135" y="1014216"/>
                </a:lnTo>
                <a:lnTo>
                  <a:pt x="2141065" y="903005"/>
                </a:lnTo>
                <a:lnTo>
                  <a:pt x="2110173" y="872113"/>
                </a:lnTo>
                <a:lnTo>
                  <a:pt x="2085460" y="791795"/>
                </a:lnTo>
                <a:lnTo>
                  <a:pt x="2073103" y="618800"/>
                </a:lnTo>
                <a:lnTo>
                  <a:pt x="2060746" y="519946"/>
                </a:lnTo>
                <a:lnTo>
                  <a:pt x="2042211" y="501411"/>
                </a:lnTo>
                <a:lnTo>
                  <a:pt x="1992784" y="526124"/>
                </a:lnTo>
                <a:lnTo>
                  <a:pt x="1884028" y="453649"/>
                </a:lnTo>
                <a:lnTo>
                  <a:pt x="1844503" y="470519"/>
                </a:lnTo>
                <a:lnTo>
                  <a:pt x="1776541" y="464340"/>
                </a:lnTo>
                <a:lnTo>
                  <a:pt x="1702400" y="519946"/>
                </a:lnTo>
                <a:lnTo>
                  <a:pt x="1640617" y="489054"/>
                </a:lnTo>
                <a:lnTo>
                  <a:pt x="1603546" y="501411"/>
                </a:lnTo>
                <a:cubicBezTo>
                  <a:pt x="1603567" y="497370"/>
                  <a:pt x="1603587" y="493329"/>
                  <a:pt x="1603608" y="489288"/>
                </a:cubicBezTo>
                <a:lnTo>
                  <a:pt x="1529406" y="495232"/>
                </a:lnTo>
                <a:lnTo>
                  <a:pt x="1498514" y="470519"/>
                </a:lnTo>
                <a:lnTo>
                  <a:pt x="1451525" y="481697"/>
                </a:lnTo>
                <a:lnTo>
                  <a:pt x="1372168" y="433707"/>
                </a:lnTo>
                <a:lnTo>
                  <a:pt x="1300806" y="451984"/>
                </a:lnTo>
                <a:lnTo>
                  <a:pt x="1269914" y="439627"/>
                </a:lnTo>
                <a:lnTo>
                  <a:pt x="1250011" y="432292"/>
                </a:lnTo>
                <a:lnTo>
                  <a:pt x="1220487" y="396378"/>
                </a:lnTo>
                <a:lnTo>
                  <a:pt x="1153535" y="390478"/>
                </a:lnTo>
                <a:lnTo>
                  <a:pt x="1115454" y="371665"/>
                </a:lnTo>
                <a:lnTo>
                  <a:pt x="1096919" y="371665"/>
                </a:lnTo>
                <a:lnTo>
                  <a:pt x="1084562" y="359308"/>
                </a:lnTo>
                <a:lnTo>
                  <a:pt x="1072206" y="353130"/>
                </a:lnTo>
                <a:lnTo>
                  <a:pt x="1077975" y="10936"/>
                </a:lnTo>
                <a:lnTo>
                  <a:pt x="608423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1"/>
          <p:cNvSpPr/>
          <p:nvPr/>
        </p:nvSpPr>
        <p:spPr>
          <a:xfrm>
            <a:off x="611280" y="2478240"/>
            <a:ext cx="1333440" cy="2124000"/>
          </a:xfrm>
          <a:custGeom>
            <a:avLst/>
            <a:gdLst/>
            <a:ahLst/>
            <a:rect l="l" t="t" r="r" b="b"/>
            <a:pathLst>
              <a:path w="1333018" h="2124119">
                <a:moveTo>
                  <a:pt x="106896" y="0"/>
                </a:moveTo>
                <a:lnTo>
                  <a:pt x="83041" y="21908"/>
                </a:lnTo>
                <a:lnTo>
                  <a:pt x="99753" y="68104"/>
                </a:lnTo>
                <a:lnTo>
                  <a:pt x="94211" y="106897"/>
                </a:lnTo>
                <a:lnTo>
                  <a:pt x="72043" y="145689"/>
                </a:lnTo>
                <a:lnTo>
                  <a:pt x="83127" y="201108"/>
                </a:lnTo>
                <a:lnTo>
                  <a:pt x="0" y="262068"/>
                </a:lnTo>
                <a:lnTo>
                  <a:pt x="0" y="306402"/>
                </a:lnTo>
                <a:lnTo>
                  <a:pt x="38793" y="395071"/>
                </a:lnTo>
                <a:lnTo>
                  <a:pt x="38793" y="433864"/>
                </a:lnTo>
                <a:lnTo>
                  <a:pt x="22167" y="583493"/>
                </a:lnTo>
                <a:lnTo>
                  <a:pt x="49876" y="677704"/>
                </a:lnTo>
                <a:lnTo>
                  <a:pt x="77585" y="710955"/>
                </a:lnTo>
                <a:lnTo>
                  <a:pt x="83127" y="749748"/>
                </a:lnTo>
                <a:lnTo>
                  <a:pt x="72043" y="821791"/>
                </a:lnTo>
                <a:lnTo>
                  <a:pt x="121920" y="832875"/>
                </a:lnTo>
                <a:lnTo>
                  <a:pt x="144087" y="832875"/>
                </a:lnTo>
                <a:lnTo>
                  <a:pt x="166254" y="799624"/>
                </a:lnTo>
                <a:lnTo>
                  <a:pt x="182880" y="788540"/>
                </a:lnTo>
                <a:lnTo>
                  <a:pt x="193963" y="832875"/>
                </a:lnTo>
                <a:lnTo>
                  <a:pt x="188422" y="882751"/>
                </a:lnTo>
                <a:lnTo>
                  <a:pt x="182880" y="899377"/>
                </a:lnTo>
                <a:lnTo>
                  <a:pt x="149629" y="893835"/>
                </a:lnTo>
                <a:lnTo>
                  <a:pt x="133003" y="949253"/>
                </a:lnTo>
                <a:lnTo>
                  <a:pt x="144087" y="1004671"/>
                </a:lnTo>
                <a:lnTo>
                  <a:pt x="171796" y="1032380"/>
                </a:lnTo>
                <a:lnTo>
                  <a:pt x="205047" y="1071173"/>
                </a:lnTo>
                <a:lnTo>
                  <a:pt x="205047" y="1109966"/>
                </a:lnTo>
                <a:lnTo>
                  <a:pt x="182880" y="1126591"/>
                </a:lnTo>
                <a:lnTo>
                  <a:pt x="182880" y="1126591"/>
                </a:lnTo>
                <a:lnTo>
                  <a:pt x="238298" y="1237428"/>
                </a:lnTo>
                <a:lnTo>
                  <a:pt x="249382" y="1326097"/>
                </a:lnTo>
                <a:lnTo>
                  <a:pt x="282633" y="1348264"/>
                </a:lnTo>
                <a:lnTo>
                  <a:pt x="282633" y="1348264"/>
                </a:lnTo>
                <a:lnTo>
                  <a:pt x="304800" y="1398140"/>
                </a:lnTo>
                <a:lnTo>
                  <a:pt x="321425" y="1425849"/>
                </a:lnTo>
                <a:lnTo>
                  <a:pt x="326967" y="1470184"/>
                </a:lnTo>
                <a:lnTo>
                  <a:pt x="299258" y="1514519"/>
                </a:lnTo>
                <a:lnTo>
                  <a:pt x="315883" y="1553311"/>
                </a:lnTo>
                <a:lnTo>
                  <a:pt x="410094" y="1619813"/>
                </a:lnTo>
                <a:lnTo>
                  <a:pt x="459971" y="1630897"/>
                </a:lnTo>
                <a:lnTo>
                  <a:pt x="465513" y="1614271"/>
                </a:lnTo>
                <a:lnTo>
                  <a:pt x="465513" y="1614271"/>
                </a:lnTo>
                <a:lnTo>
                  <a:pt x="543098" y="1719566"/>
                </a:lnTo>
                <a:lnTo>
                  <a:pt x="604058" y="1741733"/>
                </a:lnTo>
                <a:lnTo>
                  <a:pt x="604058" y="1741733"/>
                </a:lnTo>
                <a:lnTo>
                  <a:pt x="642851" y="1802693"/>
                </a:lnTo>
                <a:lnTo>
                  <a:pt x="703811" y="1841486"/>
                </a:lnTo>
                <a:lnTo>
                  <a:pt x="775854" y="1930155"/>
                </a:lnTo>
                <a:lnTo>
                  <a:pt x="786938" y="2024366"/>
                </a:lnTo>
                <a:lnTo>
                  <a:pt x="803563" y="2057617"/>
                </a:lnTo>
                <a:lnTo>
                  <a:pt x="809105" y="2090868"/>
                </a:lnTo>
                <a:lnTo>
                  <a:pt x="1197033" y="2124119"/>
                </a:lnTo>
                <a:lnTo>
                  <a:pt x="1230283" y="2096409"/>
                </a:lnTo>
                <a:lnTo>
                  <a:pt x="1213658" y="2018824"/>
                </a:lnTo>
                <a:lnTo>
                  <a:pt x="1264062" y="1946907"/>
                </a:lnTo>
                <a:lnTo>
                  <a:pt x="1285702" y="1874737"/>
                </a:lnTo>
                <a:lnTo>
                  <a:pt x="1333018" y="1835246"/>
                </a:lnTo>
                <a:lnTo>
                  <a:pt x="1262504" y="1661801"/>
                </a:lnTo>
                <a:lnTo>
                  <a:pt x="576349" y="722039"/>
                </a:lnTo>
                <a:lnTo>
                  <a:pt x="696710" y="167813"/>
                </a:lnTo>
                <a:lnTo>
                  <a:pt x="256872" y="43339"/>
                </a:lnTo>
                <a:lnTo>
                  <a:pt x="106896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32"/>
          <p:cNvSpPr/>
          <p:nvPr/>
        </p:nvSpPr>
        <p:spPr>
          <a:xfrm>
            <a:off x="5191200" y="4608360"/>
            <a:ext cx="882720" cy="776520"/>
          </a:xfrm>
          <a:custGeom>
            <a:avLst/>
            <a:gdLst/>
            <a:ahLst/>
            <a:rect l="l" t="t" r="r" b="b"/>
            <a:pathLst>
              <a:path w="883066" h="774819">
                <a:moveTo>
                  <a:pt x="0" y="62670"/>
                </a:moveTo>
                <a:lnTo>
                  <a:pt x="14243" y="188008"/>
                </a:lnTo>
                <a:lnTo>
                  <a:pt x="17092" y="253526"/>
                </a:lnTo>
                <a:lnTo>
                  <a:pt x="39881" y="313346"/>
                </a:lnTo>
                <a:lnTo>
                  <a:pt x="76912" y="361772"/>
                </a:lnTo>
                <a:lnTo>
                  <a:pt x="108247" y="450079"/>
                </a:lnTo>
                <a:lnTo>
                  <a:pt x="79761" y="526991"/>
                </a:lnTo>
                <a:lnTo>
                  <a:pt x="82610" y="561174"/>
                </a:lnTo>
                <a:cubicBezTo>
                  <a:pt x="82904" y="579215"/>
                  <a:pt x="83197" y="597257"/>
                  <a:pt x="83491" y="615298"/>
                </a:cubicBezTo>
                <a:lnTo>
                  <a:pt x="84178" y="697179"/>
                </a:lnTo>
                <a:lnTo>
                  <a:pt x="136733" y="686513"/>
                </a:lnTo>
                <a:lnTo>
                  <a:pt x="182311" y="669421"/>
                </a:lnTo>
                <a:lnTo>
                  <a:pt x="236434" y="677967"/>
                </a:lnTo>
                <a:lnTo>
                  <a:pt x="296254" y="703604"/>
                </a:lnTo>
                <a:lnTo>
                  <a:pt x="358924" y="703604"/>
                </a:lnTo>
                <a:lnTo>
                  <a:pt x="361772" y="660875"/>
                </a:lnTo>
                <a:lnTo>
                  <a:pt x="387410" y="646632"/>
                </a:lnTo>
                <a:lnTo>
                  <a:pt x="424441" y="649481"/>
                </a:lnTo>
                <a:lnTo>
                  <a:pt x="447230" y="658027"/>
                </a:lnTo>
                <a:lnTo>
                  <a:pt x="492808" y="692210"/>
                </a:lnTo>
                <a:lnTo>
                  <a:pt x="501354" y="649481"/>
                </a:lnTo>
                <a:lnTo>
                  <a:pt x="467170" y="612449"/>
                </a:lnTo>
                <a:lnTo>
                  <a:pt x="458625" y="595357"/>
                </a:lnTo>
                <a:lnTo>
                  <a:pt x="472868" y="589660"/>
                </a:lnTo>
                <a:lnTo>
                  <a:pt x="492808" y="592509"/>
                </a:lnTo>
                <a:lnTo>
                  <a:pt x="535537" y="643784"/>
                </a:lnTo>
                <a:lnTo>
                  <a:pt x="524142" y="675118"/>
                </a:lnTo>
                <a:lnTo>
                  <a:pt x="529840" y="746333"/>
                </a:lnTo>
                <a:lnTo>
                  <a:pt x="589660" y="774819"/>
                </a:lnTo>
                <a:lnTo>
                  <a:pt x="620995" y="732090"/>
                </a:lnTo>
                <a:lnTo>
                  <a:pt x="683664" y="746333"/>
                </a:lnTo>
                <a:lnTo>
                  <a:pt x="709301" y="717847"/>
                </a:lnTo>
                <a:lnTo>
                  <a:pt x="700755" y="663724"/>
                </a:lnTo>
                <a:lnTo>
                  <a:pt x="680815" y="640935"/>
                </a:lnTo>
                <a:lnTo>
                  <a:pt x="683664" y="618146"/>
                </a:lnTo>
                <a:lnTo>
                  <a:pt x="734939" y="646632"/>
                </a:lnTo>
                <a:lnTo>
                  <a:pt x="757727" y="683664"/>
                </a:lnTo>
                <a:lnTo>
                  <a:pt x="803305" y="695058"/>
                </a:lnTo>
                <a:lnTo>
                  <a:pt x="848883" y="734939"/>
                </a:lnTo>
                <a:lnTo>
                  <a:pt x="883066" y="714999"/>
                </a:lnTo>
                <a:lnTo>
                  <a:pt x="883066" y="689361"/>
                </a:lnTo>
                <a:lnTo>
                  <a:pt x="846034" y="646632"/>
                </a:lnTo>
                <a:lnTo>
                  <a:pt x="817548" y="632389"/>
                </a:lnTo>
                <a:lnTo>
                  <a:pt x="791911" y="609600"/>
                </a:lnTo>
                <a:lnTo>
                  <a:pt x="803305" y="586812"/>
                </a:lnTo>
                <a:lnTo>
                  <a:pt x="817548" y="583963"/>
                </a:lnTo>
                <a:lnTo>
                  <a:pt x="837488" y="583963"/>
                </a:lnTo>
                <a:lnTo>
                  <a:pt x="848883" y="555477"/>
                </a:lnTo>
                <a:lnTo>
                  <a:pt x="846034" y="541234"/>
                </a:lnTo>
                <a:lnTo>
                  <a:pt x="806154" y="529840"/>
                </a:lnTo>
                <a:lnTo>
                  <a:pt x="771970" y="555477"/>
                </a:lnTo>
                <a:lnTo>
                  <a:pt x="752030" y="544083"/>
                </a:lnTo>
                <a:lnTo>
                  <a:pt x="740636" y="515597"/>
                </a:lnTo>
                <a:lnTo>
                  <a:pt x="709301" y="518445"/>
                </a:lnTo>
                <a:lnTo>
                  <a:pt x="712150" y="546931"/>
                </a:lnTo>
                <a:lnTo>
                  <a:pt x="675118" y="566872"/>
                </a:lnTo>
                <a:lnTo>
                  <a:pt x="655178" y="566872"/>
                </a:lnTo>
                <a:lnTo>
                  <a:pt x="632389" y="558326"/>
                </a:lnTo>
                <a:lnTo>
                  <a:pt x="635238" y="529840"/>
                </a:lnTo>
                <a:lnTo>
                  <a:pt x="603903" y="498505"/>
                </a:lnTo>
                <a:lnTo>
                  <a:pt x="620995" y="487111"/>
                </a:lnTo>
                <a:lnTo>
                  <a:pt x="660875" y="492808"/>
                </a:lnTo>
                <a:lnTo>
                  <a:pt x="683664" y="472868"/>
                </a:lnTo>
                <a:lnTo>
                  <a:pt x="729241" y="487111"/>
                </a:lnTo>
                <a:lnTo>
                  <a:pt x="729241" y="487111"/>
                </a:lnTo>
                <a:lnTo>
                  <a:pt x="766273" y="495657"/>
                </a:lnTo>
                <a:lnTo>
                  <a:pt x="766273" y="455776"/>
                </a:lnTo>
                <a:lnTo>
                  <a:pt x="734939" y="444382"/>
                </a:lnTo>
                <a:lnTo>
                  <a:pt x="734939" y="378864"/>
                </a:lnTo>
                <a:lnTo>
                  <a:pt x="723544" y="356075"/>
                </a:lnTo>
                <a:lnTo>
                  <a:pt x="438684" y="381713"/>
                </a:lnTo>
                <a:lnTo>
                  <a:pt x="444382" y="273466"/>
                </a:lnTo>
                <a:lnTo>
                  <a:pt x="492808" y="202251"/>
                </a:lnTo>
                <a:lnTo>
                  <a:pt x="481413" y="150976"/>
                </a:lnTo>
                <a:lnTo>
                  <a:pt x="495656" y="119642"/>
                </a:lnTo>
                <a:lnTo>
                  <a:pt x="475716" y="0"/>
                </a:lnTo>
                <a:lnTo>
                  <a:pt x="0" y="6267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33"/>
          <p:cNvSpPr/>
          <p:nvPr/>
        </p:nvSpPr>
        <p:spPr>
          <a:xfrm>
            <a:off x="6272280" y="4737240"/>
            <a:ext cx="1379520" cy="1073160"/>
          </a:xfrm>
          <a:custGeom>
            <a:avLst/>
            <a:gdLst/>
            <a:ahLst/>
            <a:rect l="l" t="t" r="r" b="b"/>
            <a:pathLst>
              <a:path w="1379716" h="1074786">
                <a:moveTo>
                  <a:pt x="0" y="184734"/>
                </a:moveTo>
                <a:lnTo>
                  <a:pt x="27054" y="303768"/>
                </a:lnTo>
                <a:lnTo>
                  <a:pt x="48696" y="295652"/>
                </a:lnTo>
                <a:lnTo>
                  <a:pt x="64928" y="279420"/>
                </a:lnTo>
                <a:lnTo>
                  <a:pt x="70339" y="246957"/>
                </a:lnTo>
                <a:lnTo>
                  <a:pt x="105508" y="246957"/>
                </a:lnTo>
                <a:lnTo>
                  <a:pt x="135267" y="265894"/>
                </a:lnTo>
                <a:lnTo>
                  <a:pt x="208310" y="238841"/>
                </a:lnTo>
                <a:lnTo>
                  <a:pt x="257006" y="257778"/>
                </a:lnTo>
                <a:lnTo>
                  <a:pt x="281354" y="257778"/>
                </a:lnTo>
                <a:lnTo>
                  <a:pt x="327345" y="244251"/>
                </a:lnTo>
                <a:lnTo>
                  <a:pt x="348987" y="268599"/>
                </a:lnTo>
                <a:lnTo>
                  <a:pt x="351693" y="292947"/>
                </a:lnTo>
                <a:lnTo>
                  <a:pt x="373335" y="298358"/>
                </a:lnTo>
                <a:lnTo>
                  <a:pt x="416621" y="338938"/>
                </a:lnTo>
                <a:lnTo>
                  <a:pt x="435558" y="320000"/>
                </a:lnTo>
                <a:lnTo>
                  <a:pt x="478843" y="322706"/>
                </a:lnTo>
                <a:lnTo>
                  <a:pt x="541065" y="279420"/>
                </a:lnTo>
                <a:lnTo>
                  <a:pt x="554592" y="246957"/>
                </a:lnTo>
                <a:lnTo>
                  <a:pt x="578940" y="228019"/>
                </a:lnTo>
                <a:lnTo>
                  <a:pt x="646573" y="238841"/>
                </a:lnTo>
                <a:lnTo>
                  <a:pt x="692564" y="265894"/>
                </a:lnTo>
                <a:lnTo>
                  <a:pt x="711501" y="325411"/>
                </a:lnTo>
                <a:lnTo>
                  <a:pt x="825125" y="376812"/>
                </a:lnTo>
                <a:lnTo>
                  <a:pt x="854883" y="436329"/>
                </a:lnTo>
                <a:lnTo>
                  <a:pt x="862999" y="568890"/>
                </a:lnTo>
                <a:lnTo>
                  <a:pt x="887347" y="612175"/>
                </a:lnTo>
                <a:lnTo>
                  <a:pt x="906284" y="593238"/>
                </a:lnTo>
                <a:lnTo>
                  <a:pt x="933338" y="625702"/>
                </a:lnTo>
                <a:lnTo>
                  <a:pt x="919811" y="663577"/>
                </a:lnTo>
                <a:lnTo>
                  <a:pt x="919811" y="685219"/>
                </a:lnTo>
                <a:lnTo>
                  <a:pt x="1009087" y="774495"/>
                </a:lnTo>
                <a:lnTo>
                  <a:pt x="1022613" y="755558"/>
                </a:lnTo>
                <a:lnTo>
                  <a:pt x="1030729" y="755558"/>
                </a:lnTo>
                <a:lnTo>
                  <a:pt x="1038845" y="788022"/>
                </a:lnTo>
                <a:lnTo>
                  <a:pt x="1068604" y="820486"/>
                </a:lnTo>
                <a:lnTo>
                  <a:pt x="1068604" y="844833"/>
                </a:lnTo>
                <a:lnTo>
                  <a:pt x="1106478" y="882708"/>
                </a:lnTo>
                <a:lnTo>
                  <a:pt x="1120005" y="923288"/>
                </a:lnTo>
                <a:lnTo>
                  <a:pt x="1152469" y="944930"/>
                </a:lnTo>
                <a:lnTo>
                  <a:pt x="1176817" y="942225"/>
                </a:lnTo>
                <a:lnTo>
                  <a:pt x="1211986" y="999037"/>
                </a:lnTo>
                <a:lnTo>
                  <a:pt x="1241745" y="1015269"/>
                </a:lnTo>
                <a:lnTo>
                  <a:pt x="1260682" y="1031501"/>
                </a:lnTo>
                <a:lnTo>
                  <a:pt x="1266093" y="1039617"/>
                </a:lnTo>
                <a:lnTo>
                  <a:pt x="1252566" y="1047733"/>
                </a:lnTo>
                <a:lnTo>
                  <a:pt x="1247155" y="1055849"/>
                </a:lnTo>
                <a:lnTo>
                  <a:pt x="1268798" y="1074786"/>
                </a:lnTo>
                <a:lnTo>
                  <a:pt x="1282325" y="1069375"/>
                </a:lnTo>
                <a:lnTo>
                  <a:pt x="1298557" y="1053143"/>
                </a:lnTo>
                <a:lnTo>
                  <a:pt x="1314789" y="1034206"/>
                </a:lnTo>
                <a:lnTo>
                  <a:pt x="1341842" y="1039617"/>
                </a:lnTo>
                <a:lnTo>
                  <a:pt x="1349958" y="1015269"/>
                </a:lnTo>
                <a:lnTo>
                  <a:pt x="1363484" y="980100"/>
                </a:lnTo>
                <a:lnTo>
                  <a:pt x="1355368" y="950341"/>
                </a:lnTo>
                <a:lnTo>
                  <a:pt x="1360779" y="925993"/>
                </a:lnTo>
                <a:lnTo>
                  <a:pt x="1368895" y="890824"/>
                </a:lnTo>
                <a:lnTo>
                  <a:pt x="1379716" y="831307"/>
                </a:lnTo>
                <a:cubicBezTo>
                  <a:pt x="1378814" y="805155"/>
                  <a:pt x="1377913" y="779004"/>
                  <a:pt x="1377011" y="752852"/>
                </a:cubicBezTo>
                <a:lnTo>
                  <a:pt x="1352663" y="674398"/>
                </a:lnTo>
                <a:lnTo>
                  <a:pt x="1325610" y="614881"/>
                </a:lnTo>
                <a:lnTo>
                  <a:pt x="1328315" y="604059"/>
                </a:lnTo>
                <a:lnTo>
                  <a:pt x="1306673" y="560774"/>
                </a:lnTo>
                <a:lnTo>
                  <a:pt x="1266093" y="509373"/>
                </a:lnTo>
                <a:lnTo>
                  <a:pt x="1195754" y="403865"/>
                </a:lnTo>
                <a:lnTo>
                  <a:pt x="1184933" y="379517"/>
                </a:lnTo>
                <a:lnTo>
                  <a:pt x="1203870" y="374107"/>
                </a:lnTo>
                <a:lnTo>
                  <a:pt x="1230923" y="393044"/>
                </a:lnTo>
                <a:lnTo>
                  <a:pt x="1257977" y="471499"/>
                </a:lnTo>
                <a:lnTo>
                  <a:pt x="1217397" y="363286"/>
                </a:lnTo>
                <a:lnTo>
                  <a:pt x="1138942" y="287536"/>
                </a:lnTo>
                <a:lnTo>
                  <a:pt x="1117300" y="225314"/>
                </a:lnTo>
                <a:lnTo>
                  <a:pt x="1076720" y="176618"/>
                </a:lnTo>
                <a:lnTo>
                  <a:pt x="1057783" y="130628"/>
                </a:lnTo>
                <a:lnTo>
                  <a:pt x="1028024" y="68405"/>
                </a:lnTo>
                <a:lnTo>
                  <a:pt x="1011792" y="81932"/>
                </a:lnTo>
                <a:lnTo>
                  <a:pt x="1017203" y="119806"/>
                </a:lnTo>
                <a:lnTo>
                  <a:pt x="1025319" y="149565"/>
                </a:lnTo>
                <a:lnTo>
                  <a:pt x="1025319" y="165797"/>
                </a:lnTo>
                <a:lnTo>
                  <a:pt x="995560" y="144154"/>
                </a:lnTo>
                <a:lnTo>
                  <a:pt x="990149" y="111690"/>
                </a:lnTo>
                <a:lnTo>
                  <a:pt x="987444" y="84637"/>
                </a:lnTo>
                <a:lnTo>
                  <a:pt x="1006381" y="54878"/>
                </a:lnTo>
                <a:lnTo>
                  <a:pt x="1022938" y="0"/>
                </a:lnTo>
                <a:lnTo>
                  <a:pt x="968507" y="14299"/>
                </a:lnTo>
                <a:lnTo>
                  <a:pt x="941454" y="772"/>
                </a:lnTo>
                <a:lnTo>
                  <a:pt x="917106" y="19709"/>
                </a:lnTo>
                <a:lnTo>
                  <a:pt x="911695" y="98164"/>
                </a:lnTo>
                <a:lnTo>
                  <a:pt x="862999" y="81932"/>
                </a:lnTo>
                <a:lnTo>
                  <a:pt x="465316" y="119806"/>
                </a:lnTo>
                <a:lnTo>
                  <a:pt x="392273" y="92753"/>
                </a:lnTo>
                <a:lnTo>
                  <a:pt x="0" y="184734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34"/>
          <p:cNvSpPr/>
          <p:nvPr/>
        </p:nvSpPr>
        <p:spPr>
          <a:xfrm>
            <a:off x="6659640" y="3328920"/>
            <a:ext cx="1322280" cy="698400"/>
          </a:xfrm>
          <a:custGeom>
            <a:avLst/>
            <a:gdLst/>
            <a:ahLst/>
            <a:rect l="l" t="t" r="r" b="b"/>
            <a:pathLst>
              <a:path w="1322973" h="698035">
                <a:moveTo>
                  <a:pt x="372512" y="279360"/>
                </a:moveTo>
                <a:lnTo>
                  <a:pt x="372512" y="355457"/>
                </a:lnTo>
                <a:lnTo>
                  <a:pt x="336451" y="381215"/>
                </a:lnTo>
                <a:lnTo>
                  <a:pt x="297815" y="381215"/>
                </a:lnTo>
                <a:lnTo>
                  <a:pt x="269481" y="435306"/>
                </a:lnTo>
                <a:lnTo>
                  <a:pt x="210238" y="435306"/>
                </a:lnTo>
                <a:lnTo>
                  <a:pt x="194784" y="489397"/>
                </a:lnTo>
                <a:lnTo>
                  <a:pt x="166450" y="515155"/>
                </a:lnTo>
                <a:lnTo>
                  <a:pt x="114935" y="543489"/>
                </a:lnTo>
                <a:lnTo>
                  <a:pt x="55692" y="592428"/>
                </a:lnTo>
                <a:lnTo>
                  <a:pt x="42813" y="638792"/>
                </a:lnTo>
                <a:lnTo>
                  <a:pt x="0" y="664550"/>
                </a:lnTo>
                <a:lnTo>
                  <a:pt x="27358" y="698035"/>
                </a:lnTo>
                <a:lnTo>
                  <a:pt x="197359" y="664550"/>
                </a:lnTo>
                <a:lnTo>
                  <a:pt x="382815" y="569246"/>
                </a:lnTo>
                <a:lnTo>
                  <a:pt x="516756" y="558943"/>
                </a:lnTo>
                <a:lnTo>
                  <a:pt x="601756" y="600156"/>
                </a:lnTo>
                <a:lnTo>
                  <a:pt x="761454" y="546064"/>
                </a:lnTo>
                <a:lnTo>
                  <a:pt x="957213" y="677429"/>
                </a:lnTo>
                <a:lnTo>
                  <a:pt x="988122" y="651671"/>
                </a:lnTo>
                <a:lnTo>
                  <a:pt x="1021607" y="631065"/>
                </a:lnTo>
                <a:lnTo>
                  <a:pt x="1062820" y="582125"/>
                </a:lnTo>
                <a:lnTo>
                  <a:pt x="1083426" y="530610"/>
                </a:lnTo>
                <a:lnTo>
                  <a:pt x="1127214" y="463640"/>
                </a:lnTo>
                <a:lnTo>
                  <a:pt x="1163275" y="422427"/>
                </a:lnTo>
                <a:lnTo>
                  <a:pt x="1201912" y="412124"/>
                </a:lnTo>
                <a:lnTo>
                  <a:pt x="1243124" y="381215"/>
                </a:lnTo>
                <a:lnTo>
                  <a:pt x="1250851" y="340002"/>
                </a:lnTo>
                <a:lnTo>
                  <a:pt x="1235397" y="337427"/>
                </a:lnTo>
                <a:lnTo>
                  <a:pt x="1209639" y="352881"/>
                </a:lnTo>
                <a:lnTo>
                  <a:pt x="1196760" y="370912"/>
                </a:lnTo>
                <a:lnTo>
                  <a:pt x="1171002" y="378639"/>
                </a:lnTo>
                <a:lnTo>
                  <a:pt x="1150396" y="370912"/>
                </a:lnTo>
                <a:lnTo>
                  <a:pt x="1145245" y="358033"/>
                </a:lnTo>
                <a:lnTo>
                  <a:pt x="1158123" y="350305"/>
                </a:lnTo>
                <a:lnTo>
                  <a:pt x="1176154" y="352881"/>
                </a:lnTo>
                <a:lnTo>
                  <a:pt x="1189033" y="352881"/>
                </a:lnTo>
                <a:lnTo>
                  <a:pt x="1196760" y="332275"/>
                </a:lnTo>
                <a:lnTo>
                  <a:pt x="1199336" y="306517"/>
                </a:lnTo>
                <a:lnTo>
                  <a:pt x="1181305" y="303941"/>
                </a:lnTo>
                <a:lnTo>
                  <a:pt x="1150396" y="301366"/>
                </a:lnTo>
                <a:lnTo>
                  <a:pt x="1134941" y="293638"/>
                </a:lnTo>
                <a:lnTo>
                  <a:pt x="1147820" y="273032"/>
                </a:lnTo>
                <a:lnTo>
                  <a:pt x="1168427" y="273032"/>
                </a:lnTo>
                <a:lnTo>
                  <a:pt x="1183881" y="260153"/>
                </a:lnTo>
                <a:lnTo>
                  <a:pt x="1207063" y="244699"/>
                </a:lnTo>
                <a:lnTo>
                  <a:pt x="1232821" y="262729"/>
                </a:lnTo>
                <a:lnTo>
                  <a:pt x="1263730" y="252426"/>
                </a:lnTo>
                <a:lnTo>
                  <a:pt x="1281761" y="226668"/>
                </a:lnTo>
                <a:lnTo>
                  <a:pt x="1304943" y="190607"/>
                </a:lnTo>
                <a:lnTo>
                  <a:pt x="1292064" y="136516"/>
                </a:lnTo>
                <a:lnTo>
                  <a:pt x="1268882" y="123637"/>
                </a:lnTo>
                <a:lnTo>
                  <a:pt x="1258579" y="149395"/>
                </a:lnTo>
                <a:lnTo>
                  <a:pt x="1253427" y="167425"/>
                </a:lnTo>
                <a:lnTo>
                  <a:pt x="1212215" y="154547"/>
                </a:lnTo>
                <a:lnTo>
                  <a:pt x="1173578" y="162274"/>
                </a:lnTo>
                <a:lnTo>
                  <a:pt x="1150396" y="177729"/>
                </a:lnTo>
                <a:lnTo>
                  <a:pt x="1140093" y="151971"/>
                </a:lnTo>
                <a:lnTo>
                  <a:pt x="1122063" y="123637"/>
                </a:lnTo>
                <a:lnTo>
                  <a:pt x="1142669" y="110758"/>
                </a:lnTo>
                <a:lnTo>
                  <a:pt x="1171002" y="131365"/>
                </a:lnTo>
                <a:lnTo>
                  <a:pt x="1191608" y="121061"/>
                </a:lnTo>
                <a:lnTo>
                  <a:pt x="1207063" y="118486"/>
                </a:lnTo>
                <a:lnTo>
                  <a:pt x="1232821" y="95304"/>
                </a:lnTo>
                <a:lnTo>
                  <a:pt x="1245700" y="95304"/>
                </a:lnTo>
                <a:lnTo>
                  <a:pt x="1243124" y="74698"/>
                </a:lnTo>
                <a:lnTo>
                  <a:pt x="1227669" y="28334"/>
                </a:lnTo>
                <a:lnTo>
                  <a:pt x="1235397" y="25758"/>
                </a:lnTo>
                <a:lnTo>
                  <a:pt x="1315246" y="121061"/>
                </a:lnTo>
                <a:lnTo>
                  <a:pt x="1322973" y="115910"/>
                </a:lnTo>
                <a:lnTo>
                  <a:pt x="1222518" y="0"/>
                </a:lnTo>
                <a:lnTo>
                  <a:pt x="947005" y="88218"/>
                </a:lnTo>
                <a:lnTo>
                  <a:pt x="372512" y="27936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35"/>
          <p:cNvSpPr/>
          <p:nvPr/>
        </p:nvSpPr>
        <p:spPr>
          <a:xfrm>
            <a:off x="8013600" y="1052640"/>
            <a:ext cx="550800" cy="855360"/>
          </a:xfrm>
          <a:custGeom>
            <a:avLst/>
            <a:gdLst/>
            <a:ahLst/>
            <a:rect l="l" t="t" r="r" b="b"/>
            <a:pathLst>
              <a:path w="550646" h="856781">
                <a:moveTo>
                  <a:pt x="67141" y="40084"/>
                </a:moveTo>
                <a:lnTo>
                  <a:pt x="54615" y="125261"/>
                </a:lnTo>
                <a:lnTo>
                  <a:pt x="34574" y="195406"/>
                </a:lnTo>
                <a:lnTo>
                  <a:pt x="42089" y="255531"/>
                </a:lnTo>
                <a:lnTo>
                  <a:pt x="44594" y="333193"/>
                </a:lnTo>
                <a:lnTo>
                  <a:pt x="47100" y="393318"/>
                </a:lnTo>
                <a:lnTo>
                  <a:pt x="24553" y="428391"/>
                </a:lnTo>
                <a:lnTo>
                  <a:pt x="37079" y="460958"/>
                </a:lnTo>
                <a:lnTo>
                  <a:pt x="0" y="510821"/>
                </a:lnTo>
                <a:lnTo>
                  <a:pt x="144803" y="809182"/>
                </a:lnTo>
                <a:lnTo>
                  <a:pt x="169855" y="844255"/>
                </a:lnTo>
                <a:lnTo>
                  <a:pt x="192401" y="856781"/>
                </a:lnTo>
                <a:lnTo>
                  <a:pt x="212443" y="794151"/>
                </a:lnTo>
                <a:lnTo>
                  <a:pt x="217454" y="761583"/>
                </a:lnTo>
                <a:lnTo>
                  <a:pt x="247516" y="721500"/>
                </a:lnTo>
                <a:lnTo>
                  <a:pt x="234990" y="701458"/>
                </a:lnTo>
                <a:lnTo>
                  <a:pt x="267558" y="673901"/>
                </a:lnTo>
                <a:lnTo>
                  <a:pt x="297620" y="666385"/>
                </a:lnTo>
                <a:lnTo>
                  <a:pt x="302631" y="628807"/>
                </a:lnTo>
                <a:lnTo>
                  <a:pt x="332693" y="606260"/>
                </a:lnTo>
                <a:lnTo>
                  <a:pt x="347724" y="563672"/>
                </a:lnTo>
                <a:lnTo>
                  <a:pt x="337703" y="513568"/>
                </a:lnTo>
                <a:lnTo>
                  <a:pt x="352735" y="498536"/>
                </a:lnTo>
                <a:lnTo>
                  <a:pt x="375281" y="528599"/>
                </a:lnTo>
                <a:lnTo>
                  <a:pt x="395323" y="543630"/>
                </a:lnTo>
                <a:lnTo>
                  <a:pt x="397828" y="493526"/>
                </a:lnTo>
                <a:lnTo>
                  <a:pt x="430396" y="468474"/>
                </a:lnTo>
                <a:lnTo>
                  <a:pt x="440417" y="465969"/>
                </a:lnTo>
                <a:lnTo>
                  <a:pt x="533109" y="368266"/>
                </a:lnTo>
                <a:lnTo>
                  <a:pt x="535615" y="348224"/>
                </a:lnTo>
                <a:lnTo>
                  <a:pt x="550646" y="330688"/>
                </a:lnTo>
                <a:lnTo>
                  <a:pt x="503047" y="285594"/>
                </a:lnTo>
                <a:lnTo>
                  <a:pt x="470479" y="278078"/>
                </a:lnTo>
                <a:lnTo>
                  <a:pt x="452943" y="275573"/>
                </a:lnTo>
                <a:lnTo>
                  <a:pt x="430396" y="265552"/>
                </a:lnTo>
                <a:lnTo>
                  <a:pt x="415365" y="237995"/>
                </a:lnTo>
                <a:lnTo>
                  <a:pt x="402839" y="230479"/>
                </a:lnTo>
                <a:lnTo>
                  <a:pt x="375281" y="237995"/>
                </a:lnTo>
                <a:lnTo>
                  <a:pt x="362755" y="222964"/>
                </a:lnTo>
                <a:lnTo>
                  <a:pt x="325177" y="117745"/>
                </a:lnTo>
                <a:lnTo>
                  <a:pt x="302631" y="87683"/>
                </a:lnTo>
                <a:lnTo>
                  <a:pt x="277578" y="35073"/>
                </a:lnTo>
                <a:lnTo>
                  <a:pt x="257537" y="2506"/>
                </a:lnTo>
                <a:lnTo>
                  <a:pt x="204928" y="0"/>
                </a:lnTo>
                <a:lnTo>
                  <a:pt x="174865" y="20042"/>
                </a:lnTo>
                <a:lnTo>
                  <a:pt x="157329" y="42589"/>
                </a:lnTo>
                <a:lnTo>
                  <a:pt x="129771" y="62631"/>
                </a:lnTo>
                <a:lnTo>
                  <a:pt x="117245" y="70146"/>
                </a:lnTo>
                <a:lnTo>
                  <a:pt x="67141" y="40084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36"/>
          <p:cNvSpPr/>
          <p:nvPr/>
        </p:nvSpPr>
        <p:spPr>
          <a:xfrm>
            <a:off x="7959600" y="1560600"/>
            <a:ext cx="247680" cy="512640"/>
          </a:xfrm>
          <a:custGeom>
            <a:avLst/>
            <a:gdLst/>
            <a:ahLst/>
            <a:rect l="l" t="t" r="r" b="b"/>
            <a:pathLst>
              <a:path w="247619" h="512826">
                <a:moveTo>
                  <a:pt x="52213" y="0"/>
                </a:moveTo>
                <a:lnTo>
                  <a:pt x="24656" y="25052"/>
                </a:lnTo>
                <a:lnTo>
                  <a:pt x="34677" y="95198"/>
                </a:lnTo>
                <a:lnTo>
                  <a:pt x="52213" y="120250"/>
                </a:lnTo>
                <a:lnTo>
                  <a:pt x="54719" y="130271"/>
                </a:lnTo>
                <a:lnTo>
                  <a:pt x="54719" y="142797"/>
                </a:lnTo>
                <a:lnTo>
                  <a:pt x="24656" y="187891"/>
                </a:lnTo>
                <a:lnTo>
                  <a:pt x="24656" y="200417"/>
                </a:lnTo>
                <a:lnTo>
                  <a:pt x="27161" y="217953"/>
                </a:lnTo>
                <a:lnTo>
                  <a:pt x="12130" y="255531"/>
                </a:lnTo>
                <a:lnTo>
                  <a:pt x="27161" y="280583"/>
                </a:lnTo>
                <a:lnTo>
                  <a:pt x="12130" y="308140"/>
                </a:lnTo>
                <a:lnTo>
                  <a:pt x="0" y="340585"/>
                </a:lnTo>
                <a:lnTo>
                  <a:pt x="25053" y="413359"/>
                </a:lnTo>
                <a:lnTo>
                  <a:pt x="37182" y="470979"/>
                </a:lnTo>
                <a:lnTo>
                  <a:pt x="54719" y="512826"/>
                </a:lnTo>
                <a:lnTo>
                  <a:pt x="182484" y="453442"/>
                </a:lnTo>
                <a:lnTo>
                  <a:pt x="217557" y="433401"/>
                </a:lnTo>
                <a:lnTo>
                  <a:pt x="247619" y="388307"/>
                </a:lnTo>
                <a:lnTo>
                  <a:pt x="240104" y="348224"/>
                </a:lnTo>
                <a:lnTo>
                  <a:pt x="205031" y="310646"/>
                </a:lnTo>
                <a:lnTo>
                  <a:pt x="195010" y="280583"/>
                </a:lnTo>
                <a:lnTo>
                  <a:pt x="52213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37"/>
          <p:cNvSpPr/>
          <p:nvPr/>
        </p:nvSpPr>
        <p:spPr>
          <a:xfrm>
            <a:off x="7743960" y="1603440"/>
            <a:ext cx="272880" cy="490320"/>
          </a:xfrm>
          <a:custGeom>
            <a:avLst/>
            <a:gdLst/>
            <a:ahLst/>
            <a:rect l="l" t="t" r="r" b="b"/>
            <a:pathLst>
              <a:path w="273068" h="491020">
                <a:moveTo>
                  <a:pt x="0" y="92692"/>
                </a:moveTo>
                <a:lnTo>
                  <a:pt x="50105" y="215447"/>
                </a:lnTo>
                <a:lnTo>
                  <a:pt x="65631" y="268177"/>
                </a:lnTo>
                <a:lnTo>
                  <a:pt x="102714" y="303130"/>
                </a:lnTo>
                <a:lnTo>
                  <a:pt x="127766" y="373275"/>
                </a:lnTo>
                <a:lnTo>
                  <a:pt x="157828" y="491020"/>
                </a:lnTo>
                <a:lnTo>
                  <a:pt x="270563" y="465968"/>
                </a:lnTo>
                <a:lnTo>
                  <a:pt x="255531" y="428390"/>
                </a:lnTo>
                <a:lnTo>
                  <a:pt x="248016" y="390812"/>
                </a:lnTo>
                <a:lnTo>
                  <a:pt x="217953" y="293109"/>
                </a:lnTo>
                <a:lnTo>
                  <a:pt x="245511" y="232984"/>
                </a:lnTo>
                <a:lnTo>
                  <a:pt x="230479" y="215447"/>
                </a:lnTo>
                <a:lnTo>
                  <a:pt x="245511" y="182880"/>
                </a:lnTo>
                <a:lnTo>
                  <a:pt x="245511" y="137786"/>
                </a:lnTo>
                <a:lnTo>
                  <a:pt x="273068" y="97703"/>
                </a:lnTo>
                <a:lnTo>
                  <a:pt x="255531" y="60125"/>
                </a:lnTo>
                <a:lnTo>
                  <a:pt x="245511" y="0"/>
                </a:lnTo>
                <a:lnTo>
                  <a:pt x="205427" y="17536"/>
                </a:lnTo>
                <a:lnTo>
                  <a:pt x="0" y="92692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38"/>
          <p:cNvSpPr/>
          <p:nvPr/>
        </p:nvSpPr>
        <p:spPr>
          <a:xfrm>
            <a:off x="7904160" y="1951200"/>
            <a:ext cx="522360" cy="290520"/>
          </a:xfrm>
          <a:custGeom>
            <a:avLst/>
            <a:gdLst/>
            <a:ahLst/>
            <a:rect l="l" t="t" r="r" b="b"/>
            <a:pathLst>
              <a:path w="523588" h="290604">
                <a:moveTo>
                  <a:pt x="0" y="137787"/>
                </a:moveTo>
                <a:lnTo>
                  <a:pt x="5010" y="217953"/>
                </a:lnTo>
                <a:lnTo>
                  <a:pt x="17536" y="250521"/>
                </a:lnTo>
                <a:lnTo>
                  <a:pt x="20041" y="290604"/>
                </a:lnTo>
                <a:lnTo>
                  <a:pt x="303129" y="170354"/>
                </a:lnTo>
                <a:lnTo>
                  <a:pt x="360749" y="237995"/>
                </a:lnTo>
                <a:lnTo>
                  <a:pt x="383296" y="253026"/>
                </a:lnTo>
                <a:lnTo>
                  <a:pt x="383296" y="253026"/>
                </a:lnTo>
                <a:lnTo>
                  <a:pt x="403338" y="210437"/>
                </a:lnTo>
                <a:lnTo>
                  <a:pt x="408348" y="190396"/>
                </a:lnTo>
                <a:lnTo>
                  <a:pt x="428390" y="195406"/>
                </a:lnTo>
                <a:lnTo>
                  <a:pt x="455947" y="202922"/>
                </a:lnTo>
                <a:lnTo>
                  <a:pt x="470978" y="190396"/>
                </a:lnTo>
                <a:lnTo>
                  <a:pt x="478494" y="177870"/>
                </a:lnTo>
                <a:lnTo>
                  <a:pt x="523588" y="140292"/>
                </a:lnTo>
                <a:lnTo>
                  <a:pt x="523588" y="115240"/>
                </a:lnTo>
                <a:lnTo>
                  <a:pt x="503546" y="97703"/>
                </a:lnTo>
                <a:lnTo>
                  <a:pt x="478494" y="87682"/>
                </a:lnTo>
                <a:lnTo>
                  <a:pt x="455947" y="87682"/>
                </a:lnTo>
                <a:lnTo>
                  <a:pt x="465968" y="102714"/>
                </a:lnTo>
                <a:lnTo>
                  <a:pt x="480999" y="120250"/>
                </a:lnTo>
                <a:lnTo>
                  <a:pt x="488515" y="130271"/>
                </a:lnTo>
                <a:lnTo>
                  <a:pt x="478494" y="162839"/>
                </a:lnTo>
                <a:lnTo>
                  <a:pt x="445926" y="170354"/>
                </a:lnTo>
                <a:lnTo>
                  <a:pt x="425885" y="160333"/>
                </a:lnTo>
                <a:lnTo>
                  <a:pt x="408348" y="137787"/>
                </a:lnTo>
                <a:lnTo>
                  <a:pt x="395822" y="117745"/>
                </a:lnTo>
                <a:lnTo>
                  <a:pt x="340708" y="75156"/>
                </a:lnTo>
                <a:lnTo>
                  <a:pt x="343213" y="45094"/>
                </a:lnTo>
                <a:lnTo>
                  <a:pt x="335697" y="22547"/>
                </a:lnTo>
                <a:lnTo>
                  <a:pt x="303129" y="0"/>
                </a:lnTo>
                <a:lnTo>
                  <a:pt x="270562" y="37578"/>
                </a:lnTo>
                <a:lnTo>
                  <a:pt x="115239" y="110229"/>
                </a:lnTo>
                <a:lnTo>
                  <a:pt x="98529" y="117990"/>
                </a:lnTo>
                <a:lnTo>
                  <a:pt x="0" y="137787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39"/>
          <p:cNvSpPr/>
          <p:nvPr/>
        </p:nvSpPr>
        <p:spPr>
          <a:xfrm>
            <a:off x="8153280" y="2120760"/>
            <a:ext cx="81000" cy="131760"/>
          </a:xfrm>
          <a:custGeom>
            <a:avLst/>
            <a:gdLst/>
            <a:ahLst/>
            <a:rect l="l" t="t" r="r" b="b"/>
            <a:pathLst>
              <a:path w="80962" h="130969">
                <a:moveTo>
                  <a:pt x="0" y="26194"/>
                </a:moveTo>
                <a:lnTo>
                  <a:pt x="35718" y="76200"/>
                </a:lnTo>
                <a:lnTo>
                  <a:pt x="33337" y="102394"/>
                </a:lnTo>
                <a:lnTo>
                  <a:pt x="52387" y="130969"/>
                </a:lnTo>
                <a:lnTo>
                  <a:pt x="76200" y="107157"/>
                </a:lnTo>
                <a:lnTo>
                  <a:pt x="80962" y="83344"/>
                </a:lnTo>
                <a:lnTo>
                  <a:pt x="76200" y="64294"/>
                </a:lnTo>
                <a:lnTo>
                  <a:pt x="80962" y="45244"/>
                </a:lnTo>
                <a:lnTo>
                  <a:pt x="52387" y="0"/>
                </a:lnTo>
                <a:lnTo>
                  <a:pt x="0" y="26194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40"/>
          <p:cNvSpPr/>
          <p:nvPr/>
        </p:nvSpPr>
        <p:spPr>
          <a:xfrm>
            <a:off x="7927920" y="2147760"/>
            <a:ext cx="274680" cy="241560"/>
          </a:xfrm>
          <a:custGeom>
            <a:avLst/>
            <a:gdLst/>
            <a:ahLst/>
            <a:rect l="l" t="t" r="r" b="b"/>
            <a:pathLst>
              <a:path w="273844" h="242911">
                <a:moveTo>
                  <a:pt x="0" y="92893"/>
                </a:moveTo>
                <a:lnTo>
                  <a:pt x="2409" y="150043"/>
                </a:lnTo>
                <a:lnTo>
                  <a:pt x="64294" y="242911"/>
                </a:lnTo>
                <a:lnTo>
                  <a:pt x="109538" y="221480"/>
                </a:lnTo>
                <a:lnTo>
                  <a:pt x="121444" y="200049"/>
                </a:lnTo>
                <a:lnTo>
                  <a:pt x="145256" y="171474"/>
                </a:lnTo>
                <a:lnTo>
                  <a:pt x="188119" y="169093"/>
                </a:lnTo>
                <a:lnTo>
                  <a:pt x="207169" y="159568"/>
                </a:lnTo>
                <a:lnTo>
                  <a:pt x="216694" y="133374"/>
                </a:lnTo>
                <a:lnTo>
                  <a:pt x="269081" y="119086"/>
                </a:lnTo>
                <a:lnTo>
                  <a:pt x="273844" y="109561"/>
                </a:lnTo>
                <a:lnTo>
                  <a:pt x="259556" y="76224"/>
                </a:lnTo>
                <a:lnTo>
                  <a:pt x="259556" y="38124"/>
                </a:lnTo>
                <a:lnTo>
                  <a:pt x="219089" y="0"/>
                </a:lnTo>
                <a:lnTo>
                  <a:pt x="0" y="92893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41"/>
          <p:cNvSpPr/>
          <p:nvPr/>
        </p:nvSpPr>
        <p:spPr>
          <a:xfrm>
            <a:off x="7756560" y="2416320"/>
            <a:ext cx="218880" cy="457200"/>
          </a:xfrm>
          <a:custGeom>
            <a:avLst/>
            <a:gdLst/>
            <a:ahLst/>
            <a:rect l="l" t="t" r="r" b="b"/>
            <a:pathLst>
              <a:path w="219075" h="457200">
                <a:moveTo>
                  <a:pt x="11906" y="0"/>
                </a:moveTo>
                <a:lnTo>
                  <a:pt x="7144" y="64294"/>
                </a:lnTo>
                <a:lnTo>
                  <a:pt x="0" y="97631"/>
                </a:lnTo>
                <a:lnTo>
                  <a:pt x="14288" y="138113"/>
                </a:lnTo>
                <a:lnTo>
                  <a:pt x="16669" y="176213"/>
                </a:lnTo>
                <a:lnTo>
                  <a:pt x="45244" y="185738"/>
                </a:lnTo>
                <a:lnTo>
                  <a:pt x="88106" y="200025"/>
                </a:lnTo>
                <a:lnTo>
                  <a:pt x="90488" y="242888"/>
                </a:lnTo>
                <a:lnTo>
                  <a:pt x="52388" y="302419"/>
                </a:lnTo>
                <a:lnTo>
                  <a:pt x="30956" y="350044"/>
                </a:lnTo>
                <a:lnTo>
                  <a:pt x="42863" y="383381"/>
                </a:lnTo>
                <a:lnTo>
                  <a:pt x="83344" y="400050"/>
                </a:lnTo>
                <a:lnTo>
                  <a:pt x="126206" y="407194"/>
                </a:lnTo>
                <a:lnTo>
                  <a:pt x="130969" y="435769"/>
                </a:lnTo>
                <a:lnTo>
                  <a:pt x="150019" y="457200"/>
                </a:lnTo>
                <a:lnTo>
                  <a:pt x="161925" y="438150"/>
                </a:lnTo>
                <a:lnTo>
                  <a:pt x="166688" y="397669"/>
                </a:lnTo>
                <a:lnTo>
                  <a:pt x="171450" y="383381"/>
                </a:lnTo>
                <a:lnTo>
                  <a:pt x="183356" y="354806"/>
                </a:lnTo>
                <a:lnTo>
                  <a:pt x="185738" y="311944"/>
                </a:lnTo>
                <a:lnTo>
                  <a:pt x="202406" y="283369"/>
                </a:lnTo>
                <a:lnTo>
                  <a:pt x="200025" y="264319"/>
                </a:lnTo>
                <a:lnTo>
                  <a:pt x="216694" y="207169"/>
                </a:lnTo>
                <a:lnTo>
                  <a:pt x="219075" y="169069"/>
                </a:lnTo>
                <a:lnTo>
                  <a:pt x="192881" y="145256"/>
                </a:lnTo>
                <a:lnTo>
                  <a:pt x="171450" y="147638"/>
                </a:lnTo>
                <a:lnTo>
                  <a:pt x="166688" y="138113"/>
                </a:lnTo>
                <a:lnTo>
                  <a:pt x="159544" y="119063"/>
                </a:lnTo>
                <a:lnTo>
                  <a:pt x="171450" y="73819"/>
                </a:lnTo>
                <a:lnTo>
                  <a:pt x="192881" y="38100"/>
                </a:lnTo>
                <a:lnTo>
                  <a:pt x="164306" y="16669"/>
                </a:lnTo>
                <a:lnTo>
                  <a:pt x="111919" y="21431"/>
                </a:lnTo>
                <a:lnTo>
                  <a:pt x="11906" y="0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42"/>
          <p:cNvSpPr/>
          <p:nvPr/>
        </p:nvSpPr>
        <p:spPr>
          <a:xfrm>
            <a:off x="7745400" y="2760840"/>
            <a:ext cx="154080" cy="250560"/>
          </a:xfrm>
          <a:custGeom>
            <a:avLst/>
            <a:gdLst/>
            <a:ahLst/>
            <a:rect l="l" t="t" r="r" b="b"/>
            <a:pathLst>
              <a:path w="154793" h="250032">
                <a:moveTo>
                  <a:pt x="0" y="14288"/>
                </a:moveTo>
                <a:lnTo>
                  <a:pt x="30956" y="80963"/>
                </a:lnTo>
                <a:lnTo>
                  <a:pt x="28575" y="100013"/>
                </a:lnTo>
                <a:lnTo>
                  <a:pt x="52387" y="140494"/>
                </a:lnTo>
                <a:lnTo>
                  <a:pt x="47625" y="157163"/>
                </a:lnTo>
                <a:lnTo>
                  <a:pt x="66675" y="197644"/>
                </a:lnTo>
                <a:lnTo>
                  <a:pt x="69056" y="221457"/>
                </a:lnTo>
                <a:lnTo>
                  <a:pt x="78581" y="250032"/>
                </a:lnTo>
                <a:lnTo>
                  <a:pt x="92869" y="235744"/>
                </a:lnTo>
                <a:lnTo>
                  <a:pt x="114300" y="228600"/>
                </a:lnTo>
                <a:lnTo>
                  <a:pt x="116694" y="242843"/>
                </a:lnTo>
                <a:lnTo>
                  <a:pt x="154793" y="230914"/>
                </a:lnTo>
                <a:cubicBezTo>
                  <a:pt x="154789" y="211887"/>
                  <a:pt x="154785" y="192859"/>
                  <a:pt x="154781" y="173832"/>
                </a:cubicBezTo>
                <a:lnTo>
                  <a:pt x="147637" y="150019"/>
                </a:lnTo>
                <a:lnTo>
                  <a:pt x="128587" y="133350"/>
                </a:lnTo>
                <a:lnTo>
                  <a:pt x="121444" y="140494"/>
                </a:lnTo>
                <a:lnTo>
                  <a:pt x="102394" y="130969"/>
                </a:lnTo>
                <a:lnTo>
                  <a:pt x="83344" y="109538"/>
                </a:lnTo>
                <a:lnTo>
                  <a:pt x="71437" y="90488"/>
                </a:lnTo>
                <a:lnTo>
                  <a:pt x="30957" y="0"/>
                </a:lnTo>
                <a:lnTo>
                  <a:pt x="0" y="14288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43"/>
          <p:cNvSpPr/>
          <p:nvPr/>
        </p:nvSpPr>
        <p:spPr>
          <a:xfrm>
            <a:off x="6823080" y="2805120"/>
            <a:ext cx="665280" cy="727200"/>
          </a:xfrm>
          <a:custGeom>
            <a:avLst/>
            <a:gdLst/>
            <a:ahLst/>
            <a:rect l="l" t="t" r="r" b="b"/>
            <a:pathLst>
              <a:path w="664369" h="728705">
                <a:moveTo>
                  <a:pt x="190500" y="4762"/>
                </a:moveTo>
                <a:lnTo>
                  <a:pt x="195263" y="78581"/>
                </a:lnTo>
                <a:lnTo>
                  <a:pt x="195263" y="183356"/>
                </a:lnTo>
                <a:lnTo>
                  <a:pt x="147638" y="269081"/>
                </a:lnTo>
                <a:lnTo>
                  <a:pt x="111919" y="290512"/>
                </a:lnTo>
                <a:lnTo>
                  <a:pt x="92869" y="302419"/>
                </a:lnTo>
                <a:lnTo>
                  <a:pt x="90488" y="330994"/>
                </a:lnTo>
                <a:lnTo>
                  <a:pt x="102394" y="335756"/>
                </a:lnTo>
                <a:lnTo>
                  <a:pt x="100013" y="359569"/>
                </a:lnTo>
                <a:lnTo>
                  <a:pt x="104775" y="373856"/>
                </a:lnTo>
                <a:lnTo>
                  <a:pt x="83344" y="392906"/>
                </a:lnTo>
                <a:lnTo>
                  <a:pt x="76191" y="366696"/>
                </a:lnTo>
                <a:lnTo>
                  <a:pt x="45244" y="385762"/>
                </a:lnTo>
                <a:lnTo>
                  <a:pt x="45244" y="426244"/>
                </a:lnTo>
                <a:lnTo>
                  <a:pt x="52388" y="442912"/>
                </a:lnTo>
                <a:lnTo>
                  <a:pt x="0" y="507206"/>
                </a:lnTo>
                <a:lnTo>
                  <a:pt x="33338" y="611981"/>
                </a:lnTo>
                <a:lnTo>
                  <a:pt x="88106" y="647700"/>
                </a:lnTo>
                <a:lnTo>
                  <a:pt x="104775" y="642937"/>
                </a:lnTo>
                <a:lnTo>
                  <a:pt x="152400" y="690562"/>
                </a:lnTo>
                <a:lnTo>
                  <a:pt x="214313" y="728705"/>
                </a:lnTo>
                <a:lnTo>
                  <a:pt x="230981" y="671512"/>
                </a:lnTo>
                <a:lnTo>
                  <a:pt x="285750" y="650081"/>
                </a:lnTo>
                <a:lnTo>
                  <a:pt x="354803" y="628692"/>
                </a:lnTo>
                <a:lnTo>
                  <a:pt x="369094" y="602456"/>
                </a:lnTo>
                <a:lnTo>
                  <a:pt x="366713" y="564356"/>
                </a:lnTo>
                <a:lnTo>
                  <a:pt x="369094" y="533400"/>
                </a:lnTo>
                <a:lnTo>
                  <a:pt x="373856" y="502444"/>
                </a:lnTo>
                <a:lnTo>
                  <a:pt x="381000" y="478631"/>
                </a:lnTo>
                <a:lnTo>
                  <a:pt x="407194" y="440531"/>
                </a:lnTo>
                <a:lnTo>
                  <a:pt x="428625" y="390525"/>
                </a:lnTo>
                <a:lnTo>
                  <a:pt x="428625" y="390525"/>
                </a:lnTo>
                <a:lnTo>
                  <a:pt x="476250" y="359569"/>
                </a:lnTo>
                <a:lnTo>
                  <a:pt x="502444" y="335756"/>
                </a:lnTo>
                <a:lnTo>
                  <a:pt x="507206" y="297656"/>
                </a:lnTo>
                <a:lnTo>
                  <a:pt x="573881" y="192881"/>
                </a:lnTo>
                <a:lnTo>
                  <a:pt x="571500" y="173831"/>
                </a:lnTo>
                <a:lnTo>
                  <a:pt x="573881" y="164306"/>
                </a:lnTo>
                <a:lnTo>
                  <a:pt x="614363" y="154781"/>
                </a:lnTo>
                <a:lnTo>
                  <a:pt x="628650" y="164306"/>
                </a:lnTo>
                <a:lnTo>
                  <a:pt x="647700" y="166687"/>
                </a:lnTo>
                <a:lnTo>
                  <a:pt x="659606" y="138112"/>
                </a:lnTo>
                <a:lnTo>
                  <a:pt x="664369" y="123825"/>
                </a:lnTo>
                <a:lnTo>
                  <a:pt x="645319" y="109537"/>
                </a:lnTo>
                <a:lnTo>
                  <a:pt x="642938" y="97631"/>
                </a:lnTo>
                <a:lnTo>
                  <a:pt x="621506" y="88106"/>
                </a:lnTo>
                <a:lnTo>
                  <a:pt x="590550" y="92869"/>
                </a:lnTo>
                <a:lnTo>
                  <a:pt x="573881" y="109537"/>
                </a:lnTo>
                <a:lnTo>
                  <a:pt x="564356" y="121444"/>
                </a:lnTo>
                <a:lnTo>
                  <a:pt x="547688" y="130969"/>
                </a:lnTo>
                <a:lnTo>
                  <a:pt x="528638" y="138112"/>
                </a:lnTo>
                <a:lnTo>
                  <a:pt x="516731" y="133350"/>
                </a:lnTo>
                <a:lnTo>
                  <a:pt x="502444" y="133350"/>
                </a:lnTo>
                <a:lnTo>
                  <a:pt x="495300" y="126206"/>
                </a:lnTo>
                <a:lnTo>
                  <a:pt x="478631" y="169069"/>
                </a:lnTo>
                <a:lnTo>
                  <a:pt x="469106" y="178594"/>
                </a:lnTo>
                <a:lnTo>
                  <a:pt x="459581" y="178594"/>
                </a:lnTo>
                <a:lnTo>
                  <a:pt x="459581" y="178594"/>
                </a:lnTo>
                <a:lnTo>
                  <a:pt x="445294" y="192881"/>
                </a:lnTo>
                <a:lnTo>
                  <a:pt x="431006" y="204787"/>
                </a:lnTo>
                <a:lnTo>
                  <a:pt x="421481" y="211931"/>
                </a:lnTo>
                <a:lnTo>
                  <a:pt x="411956" y="190500"/>
                </a:lnTo>
                <a:lnTo>
                  <a:pt x="397669" y="169069"/>
                </a:lnTo>
                <a:lnTo>
                  <a:pt x="385763" y="150019"/>
                </a:lnTo>
                <a:lnTo>
                  <a:pt x="247650" y="185737"/>
                </a:lnTo>
                <a:lnTo>
                  <a:pt x="202406" y="0"/>
                </a:lnTo>
                <a:lnTo>
                  <a:pt x="190500" y="4762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44"/>
          <p:cNvSpPr/>
          <p:nvPr/>
        </p:nvSpPr>
        <p:spPr>
          <a:xfrm>
            <a:off x="7209000" y="2776680"/>
            <a:ext cx="690480" cy="331560"/>
          </a:xfrm>
          <a:custGeom>
            <a:avLst/>
            <a:gdLst/>
            <a:ahLst/>
            <a:rect l="l" t="t" r="r" b="b"/>
            <a:pathLst>
              <a:path w="690562" h="333493">
                <a:moveTo>
                  <a:pt x="0" y="180975"/>
                </a:moveTo>
                <a:lnTo>
                  <a:pt x="40481" y="238125"/>
                </a:lnTo>
                <a:lnTo>
                  <a:pt x="76200" y="207169"/>
                </a:lnTo>
                <a:lnTo>
                  <a:pt x="92868" y="209550"/>
                </a:lnTo>
                <a:lnTo>
                  <a:pt x="104775" y="161925"/>
                </a:lnTo>
                <a:lnTo>
                  <a:pt x="145256" y="169069"/>
                </a:lnTo>
                <a:lnTo>
                  <a:pt x="171450" y="161925"/>
                </a:lnTo>
                <a:lnTo>
                  <a:pt x="192881" y="140494"/>
                </a:lnTo>
                <a:lnTo>
                  <a:pt x="216693" y="119062"/>
                </a:lnTo>
                <a:lnTo>
                  <a:pt x="238125" y="119062"/>
                </a:lnTo>
                <a:lnTo>
                  <a:pt x="259556" y="130969"/>
                </a:lnTo>
                <a:lnTo>
                  <a:pt x="264318" y="145256"/>
                </a:lnTo>
                <a:lnTo>
                  <a:pt x="283368" y="157162"/>
                </a:lnTo>
                <a:lnTo>
                  <a:pt x="304800" y="154817"/>
                </a:lnTo>
                <a:lnTo>
                  <a:pt x="361950" y="195297"/>
                </a:lnTo>
                <a:lnTo>
                  <a:pt x="397668" y="214312"/>
                </a:lnTo>
                <a:lnTo>
                  <a:pt x="402431" y="235744"/>
                </a:lnTo>
                <a:lnTo>
                  <a:pt x="400050" y="264319"/>
                </a:lnTo>
                <a:lnTo>
                  <a:pt x="388143" y="290512"/>
                </a:lnTo>
                <a:lnTo>
                  <a:pt x="409575" y="302419"/>
                </a:lnTo>
                <a:lnTo>
                  <a:pt x="419100" y="302419"/>
                </a:lnTo>
                <a:lnTo>
                  <a:pt x="438150" y="290512"/>
                </a:lnTo>
                <a:lnTo>
                  <a:pt x="473868" y="333493"/>
                </a:lnTo>
                <a:lnTo>
                  <a:pt x="523875" y="319087"/>
                </a:lnTo>
                <a:lnTo>
                  <a:pt x="526256" y="302419"/>
                </a:lnTo>
                <a:lnTo>
                  <a:pt x="535781" y="290512"/>
                </a:lnTo>
                <a:lnTo>
                  <a:pt x="528637" y="261937"/>
                </a:lnTo>
                <a:lnTo>
                  <a:pt x="509587" y="257175"/>
                </a:lnTo>
                <a:lnTo>
                  <a:pt x="490537" y="235744"/>
                </a:lnTo>
                <a:lnTo>
                  <a:pt x="481012" y="202406"/>
                </a:lnTo>
                <a:lnTo>
                  <a:pt x="461962" y="154781"/>
                </a:lnTo>
                <a:lnTo>
                  <a:pt x="457200" y="126206"/>
                </a:lnTo>
                <a:lnTo>
                  <a:pt x="457200" y="111919"/>
                </a:lnTo>
                <a:lnTo>
                  <a:pt x="469106" y="100012"/>
                </a:lnTo>
                <a:lnTo>
                  <a:pt x="476250" y="78581"/>
                </a:lnTo>
                <a:lnTo>
                  <a:pt x="497681" y="73819"/>
                </a:lnTo>
                <a:lnTo>
                  <a:pt x="500062" y="92869"/>
                </a:lnTo>
                <a:lnTo>
                  <a:pt x="495300" y="107156"/>
                </a:lnTo>
                <a:lnTo>
                  <a:pt x="509587" y="116681"/>
                </a:lnTo>
                <a:lnTo>
                  <a:pt x="509587" y="126206"/>
                </a:lnTo>
                <a:lnTo>
                  <a:pt x="504825" y="147637"/>
                </a:lnTo>
                <a:lnTo>
                  <a:pt x="502443" y="154781"/>
                </a:lnTo>
                <a:lnTo>
                  <a:pt x="523875" y="171450"/>
                </a:lnTo>
                <a:lnTo>
                  <a:pt x="531018" y="185737"/>
                </a:lnTo>
                <a:lnTo>
                  <a:pt x="545306" y="190500"/>
                </a:lnTo>
                <a:lnTo>
                  <a:pt x="531018" y="204787"/>
                </a:lnTo>
                <a:lnTo>
                  <a:pt x="528637" y="216694"/>
                </a:lnTo>
                <a:lnTo>
                  <a:pt x="547687" y="235744"/>
                </a:lnTo>
                <a:lnTo>
                  <a:pt x="547687" y="235744"/>
                </a:lnTo>
                <a:lnTo>
                  <a:pt x="581025" y="247650"/>
                </a:lnTo>
                <a:lnTo>
                  <a:pt x="595312" y="242887"/>
                </a:lnTo>
                <a:lnTo>
                  <a:pt x="602456" y="264319"/>
                </a:lnTo>
                <a:lnTo>
                  <a:pt x="602456" y="292894"/>
                </a:lnTo>
                <a:lnTo>
                  <a:pt x="611981" y="297656"/>
                </a:lnTo>
                <a:lnTo>
                  <a:pt x="631031" y="297656"/>
                </a:lnTo>
                <a:lnTo>
                  <a:pt x="650081" y="285750"/>
                </a:lnTo>
                <a:lnTo>
                  <a:pt x="669131" y="278606"/>
                </a:lnTo>
                <a:lnTo>
                  <a:pt x="681037" y="278606"/>
                </a:lnTo>
                <a:lnTo>
                  <a:pt x="690562" y="204787"/>
                </a:lnTo>
                <a:lnTo>
                  <a:pt x="614362" y="228600"/>
                </a:lnTo>
                <a:lnTo>
                  <a:pt x="600075" y="173831"/>
                </a:lnTo>
                <a:lnTo>
                  <a:pt x="583406" y="145256"/>
                </a:lnTo>
                <a:lnTo>
                  <a:pt x="585787" y="121444"/>
                </a:lnTo>
                <a:lnTo>
                  <a:pt x="566737" y="83344"/>
                </a:lnTo>
                <a:lnTo>
                  <a:pt x="561975" y="50006"/>
                </a:lnTo>
                <a:lnTo>
                  <a:pt x="533400" y="0"/>
                </a:lnTo>
                <a:lnTo>
                  <a:pt x="411956" y="42862"/>
                </a:lnTo>
                <a:lnTo>
                  <a:pt x="319087" y="71437"/>
                </a:lnTo>
                <a:lnTo>
                  <a:pt x="257175" y="92869"/>
                </a:lnTo>
                <a:lnTo>
                  <a:pt x="147637" y="126206"/>
                </a:lnTo>
                <a:lnTo>
                  <a:pt x="64293" y="157162"/>
                </a:lnTo>
                <a:lnTo>
                  <a:pt x="0" y="180975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45"/>
          <p:cNvSpPr/>
          <p:nvPr/>
        </p:nvSpPr>
        <p:spPr>
          <a:xfrm>
            <a:off x="6948360" y="2338560"/>
            <a:ext cx="901800" cy="657000"/>
          </a:xfrm>
          <a:custGeom>
            <a:avLst/>
            <a:gdLst/>
            <a:ahLst/>
            <a:rect l="l" t="t" r="r" b="b"/>
            <a:pathLst>
              <a:path w="902493" h="657225">
                <a:moveTo>
                  <a:pt x="0" y="245268"/>
                </a:moveTo>
                <a:lnTo>
                  <a:pt x="128586" y="657225"/>
                </a:lnTo>
                <a:lnTo>
                  <a:pt x="469105" y="554831"/>
                </a:lnTo>
                <a:lnTo>
                  <a:pt x="847724" y="426244"/>
                </a:lnTo>
                <a:lnTo>
                  <a:pt x="873918" y="366712"/>
                </a:lnTo>
                <a:lnTo>
                  <a:pt x="902493" y="321469"/>
                </a:lnTo>
                <a:lnTo>
                  <a:pt x="892968" y="273844"/>
                </a:lnTo>
                <a:lnTo>
                  <a:pt x="826293" y="257175"/>
                </a:lnTo>
                <a:lnTo>
                  <a:pt x="826293" y="223837"/>
                </a:lnTo>
                <a:lnTo>
                  <a:pt x="812005" y="188119"/>
                </a:lnTo>
                <a:lnTo>
                  <a:pt x="823912" y="80962"/>
                </a:lnTo>
                <a:lnTo>
                  <a:pt x="788193" y="40481"/>
                </a:lnTo>
                <a:lnTo>
                  <a:pt x="740568" y="9525"/>
                </a:lnTo>
                <a:lnTo>
                  <a:pt x="709612" y="0"/>
                </a:lnTo>
                <a:lnTo>
                  <a:pt x="404812" y="95250"/>
                </a:lnTo>
                <a:lnTo>
                  <a:pt x="71436" y="188118"/>
                </a:lnTo>
                <a:lnTo>
                  <a:pt x="47624" y="195262"/>
                </a:lnTo>
                <a:lnTo>
                  <a:pt x="0" y="245268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Group 46" descr=""/>
          <p:cNvPicPr/>
          <p:nvPr/>
        </p:nvPicPr>
        <p:blipFill>
          <a:blip r:embed="rId1"/>
          <a:stretch/>
        </p:blipFill>
        <p:spPr>
          <a:xfrm>
            <a:off x="4505400" y="1547640"/>
            <a:ext cx="1011240" cy="1152720"/>
          </a:xfrm>
          <a:prstGeom prst="rect">
            <a:avLst/>
          </a:prstGeom>
          <a:ln w="0">
            <a:noFill/>
          </a:ln>
        </p:spPr>
      </p:pic>
      <p:pic>
        <p:nvPicPr>
          <p:cNvPr id="175" name="Group 49" descr=""/>
          <p:cNvPicPr/>
          <p:nvPr/>
        </p:nvPicPr>
        <p:blipFill>
          <a:blip r:embed="rId2"/>
          <a:stretch/>
        </p:blipFill>
        <p:spPr>
          <a:xfrm>
            <a:off x="5467320" y="1798560"/>
            <a:ext cx="1189080" cy="1023840"/>
          </a:xfrm>
          <a:prstGeom prst="rect">
            <a:avLst/>
          </a:prstGeom>
          <a:ln w="0">
            <a:noFill/>
          </a:ln>
        </p:spPr>
      </p:pic>
      <p:pic>
        <p:nvPicPr>
          <p:cNvPr id="176" name="Group 52" descr=""/>
          <p:cNvPicPr/>
          <p:nvPr/>
        </p:nvPicPr>
        <p:blipFill>
          <a:blip r:embed="rId3"/>
          <a:stretch/>
        </p:blipFill>
        <p:spPr>
          <a:xfrm>
            <a:off x="7004160" y="1689120"/>
            <a:ext cx="1206360" cy="841320"/>
          </a:xfrm>
          <a:prstGeom prst="rect">
            <a:avLst/>
          </a:prstGeom>
          <a:ln w="0">
            <a:noFill/>
          </a:ln>
        </p:spPr>
      </p:pic>
      <p:pic>
        <p:nvPicPr>
          <p:cNvPr id="177" name="Group 55" descr=""/>
          <p:cNvPicPr/>
          <p:nvPr/>
        </p:nvPicPr>
        <p:blipFill>
          <a:blip r:embed="rId4"/>
          <a:stretch/>
        </p:blipFill>
        <p:spPr>
          <a:xfrm>
            <a:off x="6748560" y="2919240"/>
            <a:ext cx="1152360" cy="774720"/>
          </a:xfrm>
          <a:prstGeom prst="rect">
            <a:avLst/>
          </a:prstGeom>
          <a:ln w="0">
            <a:noFill/>
          </a:ln>
        </p:spPr>
      </p:pic>
      <p:sp>
        <p:nvSpPr>
          <p:cNvPr id="178" name="Freeform 58"/>
          <p:cNvSpPr/>
          <p:nvPr/>
        </p:nvSpPr>
        <p:spPr>
          <a:xfrm>
            <a:off x="6367320" y="2576520"/>
            <a:ext cx="654120" cy="735120"/>
          </a:xfrm>
          <a:custGeom>
            <a:avLst/>
            <a:gdLst/>
            <a:ahLst/>
            <a:rect l="l" t="t" r="r" b="b"/>
            <a:pathLst>
              <a:path w="652463" h="735806">
                <a:moveTo>
                  <a:pt x="0" y="202406"/>
                </a:moveTo>
                <a:lnTo>
                  <a:pt x="114300" y="683419"/>
                </a:lnTo>
                <a:lnTo>
                  <a:pt x="176213" y="711994"/>
                </a:lnTo>
                <a:lnTo>
                  <a:pt x="228600" y="711994"/>
                </a:lnTo>
                <a:lnTo>
                  <a:pt x="340519" y="700087"/>
                </a:lnTo>
                <a:lnTo>
                  <a:pt x="383382" y="681037"/>
                </a:lnTo>
                <a:lnTo>
                  <a:pt x="397669" y="702469"/>
                </a:lnTo>
                <a:lnTo>
                  <a:pt x="419100" y="704850"/>
                </a:lnTo>
                <a:lnTo>
                  <a:pt x="435769" y="731044"/>
                </a:lnTo>
                <a:lnTo>
                  <a:pt x="454819" y="735806"/>
                </a:lnTo>
                <a:lnTo>
                  <a:pt x="509588" y="669131"/>
                </a:lnTo>
                <a:lnTo>
                  <a:pt x="495300" y="650081"/>
                </a:lnTo>
                <a:lnTo>
                  <a:pt x="502444" y="611981"/>
                </a:lnTo>
                <a:lnTo>
                  <a:pt x="535782" y="600075"/>
                </a:lnTo>
                <a:lnTo>
                  <a:pt x="542925" y="623887"/>
                </a:lnTo>
                <a:lnTo>
                  <a:pt x="564357" y="597694"/>
                </a:lnTo>
                <a:lnTo>
                  <a:pt x="552450" y="566737"/>
                </a:lnTo>
                <a:lnTo>
                  <a:pt x="538163" y="545306"/>
                </a:lnTo>
                <a:lnTo>
                  <a:pt x="564357" y="526256"/>
                </a:lnTo>
                <a:lnTo>
                  <a:pt x="628633" y="492950"/>
                </a:lnTo>
                <a:cubicBezTo>
                  <a:pt x="638952" y="473106"/>
                  <a:pt x="642144" y="424656"/>
                  <a:pt x="652463" y="404812"/>
                </a:cubicBezTo>
                <a:cubicBezTo>
                  <a:pt x="651669" y="346075"/>
                  <a:pt x="650876" y="287337"/>
                  <a:pt x="650082" y="228600"/>
                </a:cubicBezTo>
                <a:lnTo>
                  <a:pt x="581025" y="0"/>
                </a:lnTo>
                <a:lnTo>
                  <a:pt x="385763" y="159544"/>
                </a:lnTo>
                <a:lnTo>
                  <a:pt x="330994" y="178594"/>
                </a:lnTo>
                <a:lnTo>
                  <a:pt x="304800" y="197644"/>
                </a:lnTo>
                <a:lnTo>
                  <a:pt x="278607" y="169069"/>
                </a:lnTo>
                <a:lnTo>
                  <a:pt x="245269" y="176212"/>
                </a:lnTo>
                <a:lnTo>
                  <a:pt x="192882" y="152400"/>
                </a:lnTo>
                <a:lnTo>
                  <a:pt x="0" y="202406"/>
                </a:lnTo>
                <a:close/>
              </a:path>
            </a:pathLst>
          </a:custGeom>
          <a:solidFill>
            <a:srgbClr val="006c86"/>
          </a:solidFill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3112"/>
          <p:cNvSpPr/>
          <p:nvPr/>
        </p:nvSpPr>
        <p:spPr>
          <a:xfrm>
            <a:off x="17640" y="4575240"/>
            <a:ext cx="2025360" cy="223848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74"/>
          <p:cNvSpPr/>
          <p:nvPr/>
        </p:nvSpPr>
        <p:spPr>
          <a:xfrm>
            <a:off x="2111400" y="5738760"/>
            <a:ext cx="1503360" cy="100332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-222120" y="4623840"/>
            <a:ext cx="1995840" cy="1906560"/>
            <a:chOff x="-222120" y="4623840"/>
            <a:chExt cx="1995840" cy="1906560"/>
          </a:xfrm>
        </p:grpSpPr>
        <p:grpSp>
          <p:nvGrpSpPr>
            <p:cNvPr id="182" name=""/>
            <p:cNvGrpSpPr/>
            <p:nvPr/>
          </p:nvGrpSpPr>
          <p:grpSpPr>
            <a:xfrm>
              <a:off x="-222120" y="4623840"/>
              <a:ext cx="1995840" cy="1906560"/>
              <a:chOff x="-222120" y="4623840"/>
              <a:chExt cx="1995840" cy="19065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-222120" y="4623840"/>
                <a:ext cx="1995840" cy="1906560"/>
                <a:chOff x="-222120" y="4623840"/>
                <a:chExt cx="1995840" cy="19065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-222120" y="4623840"/>
                  <a:ext cx="1995840" cy="1906560"/>
                  <a:chOff x="-222120" y="4623840"/>
                  <a:chExt cx="1995840" cy="190656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-222120" y="4623840"/>
                    <a:ext cx="1941120" cy="1906560"/>
                    <a:chOff x="-222120" y="4623840"/>
                    <a:chExt cx="1941120" cy="1906560"/>
                  </a:xfrm>
                </p:grpSpPr>
                <p:grpSp>
                  <p:nvGrpSpPr>
                    <p:cNvPr id="186" name=""/>
                    <p:cNvGrpSpPr/>
                    <p:nvPr/>
                  </p:nvGrpSpPr>
                  <p:grpSpPr>
                    <a:xfrm>
                      <a:off x="-222120" y="4623840"/>
                      <a:ext cx="1941120" cy="1906560"/>
                      <a:chOff x="-222120" y="4623840"/>
                      <a:chExt cx="1941120" cy="1906560"/>
                    </a:xfrm>
                  </p:grpSpPr>
                  <p:grpSp>
                    <p:nvGrpSpPr>
                      <p:cNvPr id="187" name=""/>
                      <p:cNvGrpSpPr/>
                      <p:nvPr/>
                    </p:nvGrpSpPr>
                    <p:grpSpPr>
                      <a:xfrm>
                        <a:off x="-222120" y="4623840"/>
                        <a:ext cx="1941120" cy="1906560"/>
                        <a:chOff x="-222120" y="4623840"/>
                        <a:chExt cx="1941120" cy="1906560"/>
                      </a:xfrm>
                    </p:grpSpPr>
                    <p:sp>
                      <p:nvSpPr>
                        <p:cNvPr id="188" name="Freeform 74"/>
                        <p:cNvSpPr/>
                        <p:nvPr/>
                      </p:nvSpPr>
                      <p:spPr>
                        <a:xfrm rot="19404600">
                          <a:off x="18720" y="4931280"/>
                          <a:ext cx="1459080" cy="1291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9282" h="1290181">
                              <a:moveTo>
                                <a:pt x="0" y="657617"/>
                              </a:moveTo>
                              <a:lnTo>
                                <a:pt x="28184" y="713984"/>
                              </a:lnTo>
                              <a:lnTo>
                                <a:pt x="68893" y="742167"/>
                              </a:lnTo>
                              <a:lnTo>
                                <a:pt x="97077" y="754693"/>
                              </a:lnTo>
                              <a:lnTo>
                                <a:pt x="140918" y="786008"/>
                              </a:lnTo>
                              <a:lnTo>
                                <a:pt x="140918" y="786008"/>
                              </a:lnTo>
                              <a:lnTo>
                                <a:pt x="228600" y="832981"/>
                              </a:lnTo>
                              <a:lnTo>
                                <a:pt x="237995" y="820455"/>
                              </a:lnTo>
                              <a:lnTo>
                                <a:pt x="263047" y="829849"/>
                              </a:lnTo>
                              <a:lnTo>
                                <a:pt x="278704" y="817323"/>
                              </a:lnTo>
                              <a:lnTo>
                                <a:pt x="316282" y="832981"/>
                              </a:lnTo>
                              <a:lnTo>
                                <a:pt x="347597" y="814192"/>
                              </a:lnTo>
                              <a:lnTo>
                                <a:pt x="388307" y="832981"/>
                              </a:lnTo>
                              <a:lnTo>
                                <a:pt x="429017" y="820455"/>
                              </a:lnTo>
                              <a:lnTo>
                                <a:pt x="457200" y="845507"/>
                              </a:lnTo>
                              <a:lnTo>
                                <a:pt x="485384" y="820455"/>
                              </a:lnTo>
                              <a:lnTo>
                                <a:pt x="516699" y="826718"/>
                              </a:lnTo>
                              <a:lnTo>
                                <a:pt x="526093" y="807929"/>
                              </a:lnTo>
                              <a:lnTo>
                                <a:pt x="513567" y="786008"/>
                              </a:lnTo>
                              <a:lnTo>
                                <a:pt x="554277" y="773482"/>
                              </a:lnTo>
                              <a:lnTo>
                                <a:pt x="579329" y="773482"/>
                              </a:lnTo>
                              <a:lnTo>
                                <a:pt x="610644" y="773482"/>
                              </a:lnTo>
                              <a:lnTo>
                                <a:pt x="610644" y="751562"/>
                              </a:lnTo>
                              <a:lnTo>
                                <a:pt x="641959" y="776614"/>
                              </a:lnTo>
                              <a:lnTo>
                                <a:pt x="654485" y="751562"/>
                              </a:lnTo>
                              <a:lnTo>
                                <a:pt x="682669" y="757825"/>
                              </a:lnTo>
                              <a:lnTo>
                                <a:pt x="701458" y="751562"/>
                              </a:lnTo>
                              <a:lnTo>
                                <a:pt x="735904" y="751562"/>
                              </a:lnTo>
                              <a:lnTo>
                                <a:pt x="760956" y="773482"/>
                              </a:lnTo>
                              <a:lnTo>
                                <a:pt x="786008" y="779745"/>
                              </a:lnTo>
                              <a:lnTo>
                                <a:pt x="754693" y="792271"/>
                              </a:lnTo>
                              <a:lnTo>
                                <a:pt x="757825" y="817323"/>
                              </a:lnTo>
                              <a:lnTo>
                                <a:pt x="739036" y="804797"/>
                              </a:lnTo>
                              <a:lnTo>
                                <a:pt x="720247" y="779745"/>
                              </a:lnTo>
                              <a:lnTo>
                                <a:pt x="660748" y="801666"/>
                              </a:lnTo>
                              <a:lnTo>
                                <a:pt x="613776" y="817323"/>
                              </a:lnTo>
                              <a:lnTo>
                                <a:pt x="641959" y="842376"/>
                              </a:lnTo>
                              <a:lnTo>
                                <a:pt x="623170" y="851770"/>
                              </a:lnTo>
                              <a:lnTo>
                                <a:pt x="598118" y="842376"/>
                              </a:lnTo>
                              <a:lnTo>
                                <a:pt x="620039" y="870559"/>
                              </a:lnTo>
                              <a:lnTo>
                                <a:pt x="657617" y="870559"/>
                              </a:lnTo>
                              <a:lnTo>
                                <a:pt x="698326" y="879954"/>
                              </a:lnTo>
                              <a:lnTo>
                                <a:pt x="735904" y="883085"/>
                              </a:lnTo>
                              <a:lnTo>
                                <a:pt x="754693" y="892480"/>
                              </a:lnTo>
                              <a:lnTo>
                                <a:pt x="754693" y="892480"/>
                              </a:lnTo>
                              <a:lnTo>
                                <a:pt x="779745" y="864296"/>
                              </a:lnTo>
                              <a:lnTo>
                                <a:pt x="789140" y="832981"/>
                              </a:lnTo>
                              <a:lnTo>
                                <a:pt x="804797" y="829849"/>
                              </a:lnTo>
                              <a:lnTo>
                                <a:pt x="814192" y="851770"/>
                              </a:lnTo>
                              <a:lnTo>
                                <a:pt x="851770" y="867428"/>
                              </a:lnTo>
                              <a:lnTo>
                                <a:pt x="845507" y="886217"/>
                              </a:lnTo>
                              <a:lnTo>
                                <a:pt x="845507" y="920663"/>
                              </a:lnTo>
                              <a:lnTo>
                                <a:pt x="851770" y="936321"/>
                              </a:lnTo>
                              <a:lnTo>
                                <a:pt x="889348" y="939452"/>
                              </a:lnTo>
                              <a:lnTo>
                                <a:pt x="883085" y="961373"/>
                              </a:lnTo>
                              <a:lnTo>
                                <a:pt x="883085" y="995819"/>
                              </a:lnTo>
                              <a:lnTo>
                                <a:pt x="901874" y="1011477"/>
                              </a:lnTo>
                              <a:lnTo>
                                <a:pt x="945715" y="1017740"/>
                              </a:lnTo>
                              <a:lnTo>
                                <a:pt x="955110" y="1058449"/>
                              </a:lnTo>
                              <a:lnTo>
                                <a:pt x="983293" y="1061581"/>
                              </a:lnTo>
                              <a:lnTo>
                                <a:pt x="977030" y="1086633"/>
                              </a:lnTo>
                              <a:lnTo>
                                <a:pt x="998951" y="1102291"/>
                              </a:lnTo>
                              <a:lnTo>
                                <a:pt x="1036529" y="1105422"/>
                              </a:lnTo>
                              <a:lnTo>
                                <a:pt x="1052187" y="1117948"/>
                              </a:lnTo>
                              <a:lnTo>
                                <a:pt x="1033397" y="1130474"/>
                              </a:lnTo>
                              <a:lnTo>
                                <a:pt x="1033397" y="1130474"/>
                              </a:lnTo>
                              <a:lnTo>
                                <a:pt x="1017740" y="1152395"/>
                              </a:lnTo>
                              <a:lnTo>
                                <a:pt x="1042792" y="1168052"/>
                              </a:lnTo>
                              <a:lnTo>
                                <a:pt x="1049055" y="1189973"/>
                              </a:lnTo>
                              <a:lnTo>
                                <a:pt x="1039661" y="1205630"/>
                              </a:lnTo>
                              <a:lnTo>
                                <a:pt x="1052187" y="1230682"/>
                              </a:lnTo>
                              <a:lnTo>
                                <a:pt x="1061581" y="1268260"/>
                              </a:lnTo>
                              <a:lnTo>
                                <a:pt x="1105422" y="1290181"/>
                              </a:lnTo>
                              <a:lnTo>
                                <a:pt x="1096028" y="1265129"/>
                              </a:lnTo>
                              <a:lnTo>
                                <a:pt x="1086633" y="1224419"/>
                              </a:lnTo>
                              <a:lnTo>
                                <a:pt x="1074107" y="1193104"/>
                              </a:lnTo>
                              <a:lnTo>
                                <a:pt x="1070976" y="1161789"/>
                              </a:lnTo>
                              <a:lnTo>
                                <a:pt x="1058450" y="1130474"/>
                              </a:lnTo>
                              <a:lnTo>
                                <a:pt x="1067844" y="1099159"/>
                              </a:lnTo>
                              <a:lnTo>
                                <a:pt x="1058450" y="1074107"/>
                              </a:lnTo>
                              <a:lnTo>
                                <a:pt x="1039661" y="1083502"/>
                              </a:lnTo>
                              <a:lnTo>
                                <a:pt x="1020871" y="1067844"/>
                              </a:lnTo>
                              <a:lnTo>
                                <a:pt x="1005214" y="1049055"/>
                              </a:lnTo>
                              <a:lnTo>
                                <a:pt x="1459282" y="432148"/>
                              </a:lnTo>
                              <a:lnTo>
                                <a:pt x="1434230" y="378913"/>
                              </a:lnTo>
                              <a:lnTo>
                                <a:pt x="1412310" y="344466"/>
                              </a:lnTo>
                              <a:lnTo>
                                <a:pt x="1390389" y="341334"/>
                              </a:lnTo>
                              <a:lnTo>
                                <a:pt x="1346548" y="303756"/>
                              </a:lnTo>
                              <a:lnTo>
                                <a:pt x="1327759" y="275573"/>
                              </a:lnTo>
                              <a:lnTo>
                                <a:pt x="1324628" y="231732"/>
                              </a:lnTo>
                              <a:lnTo>
                                <a:pt x="1287050" y="222337"/>
                              </a:lnTo>
                              <a:lnTo>
                                <a:pt x="1287050" y="222337"/>
                              </a:lnTo>
                              <a:lnTo>
                                <a:pt x="1261997" y="209811"/>
                              </a:lnTo>
                              <a:lnTo>
                                <a:pt x="1268261" y="191022"/>
                              </a:lnTo>
                              <a:lnTo>
                                <a:pt x="1265129" y="159707"/>
                              </a:lnTo>
                              <a:lnTo>
                                <a:pt x="1240077" y="137786"/>
                              </a:lnTo>
                              <a:lnTo>
                                <a:pt x="1230682" y="144049"/>
                              </a:lnTo>
                              <a:lnTo>
                                <a:pt x="1218156" y="137786"/>
                              </a:lnTo>
                              <a:lnTo>
                                <a:pt x="1233814" y="112734"/>
                              </a:lnTo>
                              <a:lnTo>
                                <a:pt x="1218156" y="106471"/>
                              </a:lnTo>
                              <a:lnTo>
                                <a:pt x="1205630" y="125260"/>
                              </a:lnTo>
                              <a:lnTo>
                                <a:pt x="1193104" y="112734"/>
                              </a:lnTo>
                              <a:lnTo>
                                <a:pt x="1205630" y="90814"/>
                              </a:lnTo>
                              <a:lnTo>
                                <a:pt x="1221288" y="87682"/>
                              </a:lnTo>
                              <a:lnTo>
                                <a:pt x="1221288" y="72025"/>
                              </a:lnTo>
                              <a:lnTo>
                                <a:pt x="1199367" y="68893"/>
                              </a:lnTo>
                              <a:lnTo>
                                <a:pt x="1177447" y="78288"/>
                              </a:lnTo>
                              <a:lnTo>
                                <a:pt x="1146132" y="56367"/>
                              </a:lnTo>
                              <a:lnTo>
                                <a:pt x="1143000" y="40710"/>
                              </a:lnTo>
                              <a:lnTo>
                                <a:pt x="1117948" y="40710"/>
                              </a:lnTo>
                              <a:lnTo>
                                <a:pt x="1102291" y="56367"/>
                              </a:lnTo>
                              <a:lnTo>
                                <a:pt x="1092896" y="59499"/>
                              </a:lnTo>
                              <a:lnTo>
                                <a:pt x="1083502" y="37578"/>
                              </a:lnTo>
                              <a:lnTo>
                                <a:pt x="1070976" y="25052"/>
                              </a:lnTo>
                              <a:lnTo>
                                <a:pt x="1030266" y="15658"/>
                              </a:lnTo>
                              <a:lnTo>
                                <a:pt x="977030" y="15658"/>
                              </a:lnTo>
                              <a:lnTo>
                                <a:pt x="942584" y="37578"/>
                              </a:lnTo>
                              <a:lnTo>
                                <a:pt x="920663" y="25052"/>
                              </a:lnTo>
                              <a:lnTo>
                                <a:pt x="889348" y="6263"/>
                              </a:lnTo>
                              <a:lnTo>
                                <a:pt x="858033" y="0"/>
                              </a:lnTo>
                              <a:lnTo>
                                <a:pt x="820455" y="9395"/>
                              </a:lnTo>
                              <a:lnTo>
                                <a:pt x="814192" y="81419"/>
                              </a:lnTo>
                              <a:lnTo>
                                <a:pt x="811061" y="106471"/>
                              </a:lnTo>
                              <a:lnTo>
                                <a:pt x="786008" y="118997"/>
                              </a:lnTo>
                              <a:lnTo>
                                <a:pt x="792271" y="150313"/>
                              </a:lnTo>
                              <a:lnTo>
                                <a:pt x="817324" y="181628"/>
                              </a:lnTo>
                              <a:lnTo>
                                <a:pt x="804797" y="178496"/>
                              </a:lnTo>
                              <a:lnTo>
                                <a:pt x="804797" y="197285"/>
                              </a:lnTo>
                              <a:lnTo>
                                <a:pt x="826718" y="219206"/>
                              </a:lnTo>
                              <a:lnTo>
                                <a:pt x="836113" y="237995"/>
                              </a:lnTo>
                              <a:lnTo>
                                <a:pt x="829850" y="250521"/>
                              </a:lnTo>
                              <a:lnTo>
                                <a:pt x="795403" y="228600"/>
                              </a:lnTo>
                              <a:lnTo>
                                <a:pt x="779745" y="216074"/>
                              </a:lnTo>
                              <a:lnTo>
                                <a:pt x="757825" y="219206"/>
                              </a:lnTo>
                              <a:lnTo>
                                <a:pt x="748430" y="200417"/>
                              </a:lnTo>
                              <a:lnTo>
                                <a:pt x="723378" y="165970"/>
                              </a:lnTo>
                              <a:lnTo>
                                <a:pt x="723378" y="147181"/>
                              </a:lnTo>
                              <a:lnTo>
                                <a:pt x="742167" y="134655"/>
                              </a:lnTo>
                              <a:lnTo>
                                <a:pt x="698326" y="97077"/>
                              </a:lnTo>
                              <a:lnTo>
                                <a:pt x="682669" y="112734"/>
                              </a:lnTo>
                              <a:lnTo>
                                <a:pt x="604381" y="68893"/>
                              </a:lnTo>
                              <a:lnTo>
                                <a:pt x="594987" y="90814"/>
                              </a:lnTo>
                              <a:lnTo>
                                <a:pt x="604381" y="125260"/>
                              </a:lnTo>
                              <a:lnTo>
                                <a:pt x="604381" y="144049"/>
                              </a:lnTo>
                              <a:lnTo>
                                <a:pt x="582461" y="115866"/>
                              </a:lnTo>
                              <a:lnTo>
                                <a:pt x="560540" y="165970"/>
                              </a:lnTo>
                              <a:lnTo>
                                <a:pt x="579329" y="209811"/>
                              </a:lnTo>
                              <a:lnTo>
                                <a:pt x="604381" y="219206"/>
                              </a:lnTo>
                              <a:lnTo>
                                <a:pt x="616907" y="241126"/>
                              </a:lnTo>
                              <a:lnTo>
                                <a:pt x="626302" y="275573"/>
                              </a:lnTo>
                              <a:lnTo>
                                <a:pt x="641959" y="256784"/>
                              </a:lnTo>
                              <a:lnTo>
                                <a:pt x="660748" y="275573"/>
                              </a:lnTo>
                              <a:lnTo>
                                <a:pt x="679537" y="278704"/>
                              </a:lnTo>
                              <a:lnTo>
                                <a:pt x="679537" y="278704"/>
                              </a:lnTo>
                              <a:lnTo>
                                <a:pt x="670143" y="303756"/>
                              </a:lnTo>
                              <a:lnTo>
                                <a:pt x="654485" y="300625"/>
                              </a:lnTo>
                              <a:lnTo>
                                <a:pt x="645091" y="319414"/>
                              </a:lnTo>
                              <a:lnTo>
                                <a:pt x="629433" y="335071"/>
                              </a:lnTo>
                              <a:lnTo>
                                <a:pt x="629433" y="335071"/>
                              </a:lnTo>
                              <a:lnTo>
                                <a:pt x="579329" y="344466"/>
                              </a:lnTo>
                              <a:lnTo>
                                <a:pt x="566803" y="335071"/>
                              </a:lnTo>
                              <a:lnTo>
                                <a:pt x="566803" y="335071"/>
                              </a:lnTo>
                              <a:lnTo>
                                <a:pt x="551145" y="316282"/>
                              </a:lnTo>
                              <a:lnTo>
                                <a:pt x="532356" y="322545"/>
                              </a:lnTo>
                              <a:lnTo>
                                <a:pt x="497910" y="300625"/>
                              </a:lnTo>
                              <a:lnTo>
                                <a:pt x="510436" y="288099"/>
                              </a:lnTo>
                              <a:lnTo>
                                <a:pt x="491647" y="272441"/>
                              </a:lnTo>
                              <a:lnTo>
                                <a:pt x="466595" y="278704"/>
                              </a:lnTo>
                              <a:lnTo>
                                <a:pt x="444674" y="291230"/>
                              </a:lnTo>
                              <a:lnTo>
                                <a:pt x="413359" y="272441"/>
                              </a:lnTo>
                              <a:lnTo>
                                <a:pt x="375781" y="297493"/>
                              </a:lnTo>
                              <a:lnTo>
                                <a:pt x="344466" y="278704"/>
                              </a:lnTo>
                              <a:lnTo>
                                <a:pt x="341334" y="335071"/>
                              </a:lnTo>
                              <a:lnTo>
                                <a:pt x="338203" y="369518"/>
                              </a:lnTo>
                              <a:lnTo>
                                <a:pt x="353861" y="403965"/>
                              </a:lnTo>
                              <a:lnTo>
                                <a:pt x="344466" y="413359"/>
                              </a:lnTo>
                              <a:lnTo>
                                <a:pt x="338203" y="385176"/>
                              </a:lnTo>
                              <a:lnTo>
                                <a:pt x="338203" y="385176"/>
                              </a:lnTo>
                              <a:lnTo>
                                <a:pt x="303756" y="375781"/>
                              </a:lnTo>
                              <a:lnTo>
                                <a:pt x="288099" y="422754"/>
                              </a:lnTo>
                              <a:lnTo>
                                <a:pt x="288099" y="441543"/>
                              </a:lnTo>
                              <a:lnTo>
                                <a:pt x="319414" y="469726"/>
                              </a:lnTo>
                              <a:lnTo>
                                <a:pt x="319414" y="469726"/>
                              </a:lnTo>
                              <a:lnTo>
                                <a:pt x="356992" y="454069"/>
                              </a:lnTo>
                              <a:lnTo>
                                <a:pt x="366387" y="469726"/>
                              </a:lnTo>
                              <a:lnTo>
                                <a:pt x="335071" y="501041"/>
                              </a:lnTo>
                              <a:lnTo>
                                <a:pt x="316282" y="522962"/>
                              </a:lnTo>
                              <a:lnTo>
                                <a:pt x="306888" y="535488"/>
                              </a:lnTo>
                              <a:lnTo>
                                <a:pt x="294362" y="538619"/>
                              </a:lnTo>
                              <a:lnTo>
                                <a:pt x="269310" y="566803"/>
                              </a:lnTo>
                              <a:lnTo>
                                <a:pt x="284967" y="579329"/>
                              </a:lnTo>
                              <a:lnTo>
                                <a:pt x="319414" y="576197"/>
                              </a:lnTo>
                              <a:lnTo>
                                <a:pt x="325677" y="591855"/>
                              </a:lnTo>
                              <a:lnTo>
                                <a:pt x="331940" y="623170"/>
                              </a:lnTo>
                              <a:lnTo>
                                <a:pt x="344466" y="645091"/>
                              </a:lnTo>
                              <a:lnTo>
                                <a:pt x="331940" y="682669"/>
                              </a:lnTo>
                              <a:lnTo>
                                <a:pt x="369518" y="657617"/>
                              </a:lnTo>
                              <a:lnTo>
                                <a:pt x="388307" y="657617"/>
                              </a:lnTo>
                              <a:lnTo>
                                <a:pt x="375781" y="682669"/>
                              </a:lnTo>
                              <a:lnTo>
                                <a:pt x="410228" y="713984"/>
                              </a:lnTo>
                              <a:lnTo>
                                <a:pt x="375781" y="723378"/>
                              </a:lnTo>
                              <a:lnTo>
                                <a:pt x="363255" y="726510"/>
                              </a:lnTo>
                              <a:lnTo>
                                <a:pt x="341334" y="745299"/>
                              </a:lnTo>
                              <a:lnTo>
                                <a:pt x="316282" y="770351"/>
                              </a:lnTo>
                              <a:lnTo>
                                <a:pt x="281836" y="751562"/>
                              </a:lnTo>
                              <a:lnTo>
                                <a:pt x="256784" y="770351"/>
                              </a:lnTo>
                              <a:lnTo>
                                <a:pt x="222337" y="754693"/>
                              </a:lnTo>
                              <a:lnTo>
                                <a:pt x="184759" y="739036"/>
                              </a:lnTo>
                              <a:lnTo>
                                <a:pt x="137787" y="754693"/>
                              </a:lnTo>
                              <a:lnTo>
                                <a:pt x="122129" y="735904"/>
                              </a:lnTo>
                              <a:lnTo>
                                <a:pt x="112734" y="713984"/>
                              </a:lnTo>
                              <a:lnTo>
                                <a:pt x="100208" y="710852"/>
                              </a:lnTo>
                              <a:lnTo>
                                <a:pt x="68893" y="720247"/>
                              </a:lnTo>
                              <a:lnTo>
                                <a:pt x="0" y="65761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6c86"/>
                        </a:solidFill>
                        <a:ln w="12600">
                          <a:solidFill>
                            <a:srgbClr val="00b0f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189" name="Freeform 75"/>
                        <p:cNvSpPr/>
                        <p:nvPr/>
                      </p:nvSpPr>
                      <p:spPr>
                        <a:xfrm rot="19404600">
                          <a:off x="116280" y="5269680"/>
                          <a:ext cx="39600" cy="109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481" h="109538">
                              <a:moveTo>
                                <a:pt x="19050" y="0"/>
                              </a:moveTo>
                              <a:lnTo>
                                <a:pt x="0" y="21431"/>
                              </a:lnTo>
                              <a:lnTo>
                                <a:pt x="11906" y="52388"/>
                              </a:lnTo>
                              <a:lnTo>
                                <a:pt x="4763" y="95250"/>
                              </a:lnTo>
                              <a:lnTo>
                                <a:pt x="33338" y="109538"/>
                              </a:lnTo>
                              <a:lnTo>
                                <a:pt x="35719" y="85725"/>
                              </a:lnTo>
                              <a:lnTo>
                                <a:pt x="28575" y="71438"/>
                              </a:lnTo>
                              <a:lnTo>
                                <a:pt x="40481" y="47625"/>
                              </a:lnTo>
                              <a:lnTo>
                                <a:pt x="1905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6c86"/>
                        </a:solidFill>
                        <a:ln w="12600">
                          <a:solidFill>
                            <a:srgbClr val="00b0f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190" name="Freeform 73"/>
                      <p:cNvSpPr/>
                      <p:nvPr/>
                    </p:nvSpPr>
                    <p:spPr>
                      <a:xfrm rot="19404600">
                        <a:off x="161640" y="5576400"/>
                        <a:ext cx="3492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718" h="73819">
                            <a:moveTo>
                              <a:pt x="0" y="0"/>
                            </a:moveTo>
                            <a:cubicBezTo>
                              <a:pt x="794" y="22225"/>
                              <a:pt x="1587" y="44450"/>
                              <a:pt x="2381" y="66675"/>
                            </a:cubicBezTo>
                            <a:lnTo>
                              <a:pt x="28575" y="73819"/>
                            </a:lnTo>
                            <a:lnTo>
                              <a:pt x="35718" y="40482"/>
                            </a:lnTo>
                            <a:lnTo>
                              <a:pt x="16668" y="952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6c86"/>
                      </a:solidFill>
                      <a:ln w="12600">
                        <a:solidFill>
                          <a:srgbClr val="00b0f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91" name="Freeform 71"/>
                    <p:cNvSpPr/>
                    <p:nvPr/>
                  </p:nvSpPr>
                  <p:spPr>
                    <a:xfrm rot="19404600">
                      <a:off x="619200" y="5900400"/>
                      <a:ext cx="12996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969" h="71438">
                          <a:moveTo>
                            <a:pt x="0" y="7144"/>
                          </a:moveTo>
                          <a:cubicBezTo>
                            <a:pt x="794" y="26988"/>
                            <a:pt x="1587" y="46831"/>
                            <a:pt x="2381" y="66675"/>
                          </a:cubicBezTo>
                          <a:lnTo>
                            <a:pt x="19050" y="71438"/>
                          </a:lnTo>
                          <a:lnTo>
                            <a:pt x="33338" y="61913"/>
                          </a:lnTo>
                          <a:lnTo>
                            <a:pt x="54769" y="71438"/>
                          </a:lnTo>
                          <a:lnTo>
                            <a:pt x="69056" y="69056"/>
                          </a:lnTo>
                          <a:lnTo>
                            <a:pt x="88106" y="61913"/>
                          </a:lnTo>
                          <a:lnTo>
                            <a:pt x="92869" y="42863"/>
                          </a:lnTo>
                          <a:lnTo>
                            <a:pt x="76200" y="30956"/>
                          </a:lnTo>
                          <a:lnTo>
                            <a:pt x="107156" y="16669"/>
                          </a:lnTo>
                          <a:lnTo>
                            <a:pt x="128588" y="45244"/>
                          </a:lnTo>
                          <a:lnTo>
                            <a:pt x="130969" y="30956"/>
                          </a:lnTo>
                          <a:lnTo>
                            <a:pt x="116681" y="7144"/>
                          </a:lnTo>
                          <a:lnTo>
                            <a:pt x="88106" y="0"/>
                          </a:lnTo>
                          <a:lnTo>
                            <a:pt x="66675" y="21431"/>
                          </a:lnTo>
                          <a:lnTo>
                            <a:pt x="52388" y="16669"/>
                          </a:lnTo>
                          <a:lnTo>
                            <a:pt x="28575" y="14288"/>
                          </a:lnTo>
                          <a:lnTo>
                            <a:pt x="0" y="7144"/>
                          </a:lnTo>
                          <a:close/>
                        </a:path>
                      </a:pathLst>
                    </a:custGeom>
                    <a:solidFill>
                      <a:srgbClr val="006c86"/>
                    </a:solidFill>
                    <a:ln w="12600">
                      <a:solidFill>
                        <a:srgbClr val="00b0f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92" name="Freeform 3121"/>
                  <p:cNvSpPr/>
                  <p:nvPr/>
                </p:nvSpPr>
                <p:spPr>
                  <a:xfrm rot="19404600">
                    <a:off x="1506960" y="5717880"/>
                    <a:ext cx="142920" cy="46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875" h="461963">
                        <a:moveTo>
                          <a:pt x="0" y="9525"/>
                        </a:moveTo>
                        <a:lnTo>
                          <a:pt x="21431" y="14288"/>
                        </a:lnTo>
                        <a:lnTo>
                          <a:pt x="61913" y="0"/>
                        </a:lnTo>
                        <a:lnTo>
                          <a:pt x="78581" y="35719"/>
                        </a:lnTo>
                        <a:lnTo>
                          <a:pt x="83344" y="73819"/>
                        </a:lnTo>
                        <a:lnTo>
                          <a:pt x="92869" y="252413"/>
                        </a:lnTo>
                        <a:lnTo>
                          <a:pt x="92869" y="273844"/>
                        </a:lnTo>
                        <a:lnTo>
                          <a:pt x="92869" y="302419"/>
                        </a:lnTo>
                        <a:lnTo>
                          <a:pt x="142875" y="385763"/>
                        </a:lnTo>
                        <a:lnTo>
                          <a:pt x="111919" y="438150"/>
                        </a:lnTo>
                        <a:lnTo>
                          <a:pt x="61913" y="461963"/>
                        </a:lnTo>
                        <a:lnTo>
                          <a:pt x="88106" y="419100"/>
                        </a:lnTo>
                        <a:lnTo>
                          <a:pt x="104775" y="352425"/>
                        </a:lnTo>
                        <a:lnTo>
                          <a:pt x="83344" y="335757"/>
                        </a:lnTo>
                        <a:lnTo>
                          <a:pt x="76200" y="297657"/>
                        </a:lnTo>
                        <a:lnTo>
                          <a:pt x="80963" y="271463"/>
                        </a:lnTo>
                        <a:lnTo>
                          <a:pt x="69056" y="261938"/>
                        </a:lnTo>
                        <a:lnTo>
                          <a:pt x="73819" y="230982"/>
                        </a:lnTo>
                        <a:lnTo>
                          <a:pt x="64294" y="230982"/>
                        </a:lnTo>
                        <a:lnTo>
                          <a:pt x="69056" y="200025"/>
                        </a:lnTo>
                        <a:lnTo>
                          <a:pt x="76200" y="190500"/>
                        </a:lnTo>
                        <a:lnTo>
                          <a:pt x="61913" y="145257"/>
                        </a:lnTo>
                        <a:lnTo>
                          <a:pt x="54769" y="97632"/>
                        </a:lnTo>
                        <a:lnTo>
                          <a:pt x="59531" y="61913"/>
                        </a:lnTo>
                        <a:lnTo>
                          <a:pt x="50006" y="26194"/>
                        </a:lnTo>
                        <a:lnTo>
                          <a:pt x="0" y="9525"/>
                        </a:lnTo>
                        <a:close/>
                      </a:path>
                    </a:pathLst>
                  </a:custGeom>
                  <a:solidFill>
                    <a:srgbClr val="006c86"/>
                  </a:solidFill>
                  <a:ln w="12600">
                    <a:solidFill>
                      <a:srgbClr val="00b0f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3" name="Freeform 3123"/>
                <p:cNvSpPr/>
                <p:nvPr/>
              </p:nvSpPr>
              <p:spPr>
                <a:xfrm rot="19404600">
                  <a:off x="1411200" y="5800320"/>
                  <a:ext cx="99720" cy="190440"/>
                </a:xfrm>
                <a:custGeom>
                  <a:avLst/>
                  <a:gdLst/>
                  <a:ahLst/>
                  <a:rect l="l" t="t" r="r" b="b"/>
                  <a:pathLst>
                    <a:path w="100012" h="190500">
                      <a:moveTo>
                        <a:pt x="38100" y="0"/>
                      </a:moveTo>
                      <a:lnTo>
                        <a:pt x="52387" y="80962"/>
                      </a:lnTo>
                      <a:lnTo>
                        <a:pt x="33337" y="78581"/>
                      </a:lnTo>
                      <a:lnTo>
                        <a:pt x="7144" y="78581"/>
                      </a:lnTo>
                      <a:lnTo>
                        <a:pt x="0" y="109537"/>
                      </a:lnTo>
                      <a:lnTo>
                        <a:pt x="0" y="145256"/>
                      </a:lnTo>
                      <a:lnTo>
                        <a:pt x="21431" y="142875"/>
                      </a:lnTo>
                      <a:lnTo>
                        <a:pt x="38100" y="119062"/>
                      </a:lnTo>
                      <a:lnTo>
                        <a:pt x="54769" y="107156"/>
                      </a:lnTo>
                      <a:lnTo>
                        <a:pt x="73819" y="145256"/>
                      </a:lnTo>
                      <a:lnTo>
                        <a:pt x="50006" y="190500"/>
                      </a:lnTo>
                      <a:lnTo>
                        <a:pt x="88106" y="169069"/>
                      </a:lnTo>
                      <a:lnTo>
                        <a:pt x="100012" y="147637"/>
                      </a:lnTo>
                      <a:lnTo>
                        <a:pt x="88106" y="95250"/>
                      </a:lnTo>
                      <a:lnTo>
                        <a:pt x="76200" y="59531"/>
                      </a:lnTo>
                      <a:lnTo>
                        <a:pt x="38100" y="0"/>
                      </a:lnTo>
                      <a:close/>
                    </a:path>
                  </a:pathLst>
                </a:custGeom>
                <a:solidFill>
                  <a:srgbClr val="006c86"/>
                </a:solidFill>
                <a:ln w="12600">
                  <a:solidFill>
                    <a:srgbClr val="00b0f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94" name="Freeform 3125"/>
              <p:cNvSpPr/>
              <p:nvPr/>
            </p:nvSpPr>
            <p:spPr>
              <a:xfrm rot="19404600">
                <a:off x="1462320" y="5952960"/>
                <a:ext cx="45720" cy="85680"/>
              </a:xfrm>
              <a:custGeom>
                <a:avLst/>
                <a:gdLst/>
                <a:ahLst/>
                <a:rect l="l" t="t" r="r" b="b"/>
                <a:pathLst>
                  <a:path w="45244" h="85725">
                    <a:moveTo>
                      <a:pt x="23813" y="0"/>
                    </a:moveTo>
                    <a:lnTo>
                      <a:pt x="0" y="52387"/>
                    </a:lnTo>
                    <a:lnTo>
                      <a:pt x="26194" y="85725"/>
                    </a:lnTo>
                    <a:lnTo>
                      <a:pt x="45244" y="61912"/>
                    </a:lnTo>
                    <a:lnTo>
                      <a:pt x="23813" y="0"/>
                    </a:lnTo>
                    <a:close/>
                  </a:path>
                </a:pathLst>
              </a:custGeom>
              <a:solidFill>
                <a:srgbClr val="006c86"/>
              </a:solidFill>
              <a:ln w="1260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Freeform 3128"/>
            <p:cNvSpPr/>
            <p:nvPr/>
          </p:nvSpPr>
          <p:spPr>
            <a:xfrm rot="19404600">
              <a:off x="1595880" y="6033960"/>
              <a:ext cx="41040" cy="129960"/>
            </a:xfrm>
            <a:custGeom>
              <a:avLst/>
              <a:gdLst/>
              <a:ahLst/>
              <a:rect l="l" t="t" r="r" b="b"/>
              <a:pathLst>
                <a:path w="41339" h="131036">
                  <a:moveTo>
                    <a:pt x="25638" y="0"/>
                  </a:moveTo>
                  <a:lnTo>
                    <a:pt x="0" y="62670"/>
                  </a:lnTo>
                  <a:lnTo>
                    <a:pt x="8546" y="94004"/>
                  </a:lnTo>
                  <a:lnTo>
                    <a:pt x="8546" y="125339"/>
                  </a:lnTo>
                  <a:lnTo>
                    <a:pt x="25638" y="131036"/>
                  </a:lnTo>
                  <a:lnTo>
                    <a:pt x="34184" y="102550"/>
                  </a:lnTo>
                  <a:lnTo>
                    <a:pt x="25638" y="94004"/>
                  </a:lnTo>
                  <a:lnTo>
                    <a:pt x="34184" y="71215"/>
                  </a:lnTo>
                  <a:lnTo>
                    <a:pt x="25638" y="54124"/>
                  </a:lnTo>
                  <a:cubicBezTo>
                    <a:pt x="25638" y="48427"/>
                    <a:pt x="51275" y="17091"/>
                    <a:pt x="37032" y="37032"/>
                  </a:cubicBezTo>
                  <a:lnTo>
                    <a:pt x="25638" y="0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Title 1"/>
          <p:cNvSpPr/>
          <p:nvPr/>
        </p:nvSpPr>
        <p:spPr>
          <a:xfrm>
            <a:off x="0" y="6291360"/>
            <a:ext cx="1898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alibri"/>
              </a:rPr>
              <a:t>Al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1995480" y="6291360"/>
            <a:ext cx="1898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alibri"/>
              </a:rPr>
              <a:t>Hawa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17600" y="5875200"/>
            <a:ext cx="1374840" cy="793800"/>
            <a:chOff x="2217600" y="5875200"/>
            <a:chExt cx="1374840" cy="793800"/>
          </a:xfrm>
        </p:grpSpPr>
        <p:sp>
          <p:nvSpPr>
            <p:cNvPr id="199" name="Freeform 79"/>
            <p:cNvSpPr/>
            <p:nvPr/>
          </p:nvSpPr>
          <p:spPr>
            <a:xfrm>
              <a:off x="3282840" y="6302160"/>
              <a:ext cx="309600" cy="366840"/>
            </a:xfrm>
            <a:custGeom>
              <a:avLst/>
              <a:gdLst/>
              <a:ahLst/>
              <a:rect l="l" t="t" r="r" b="b"/>
              <a:pathLst>
                <a:path w="309562" h="366712">
                  <a:moveTo>
                    <a:pt x="23812" y="0"/>
                  </a:moveTo>
                  <a:lnTo>
                    <a:pt x="50006" y="73819"/>
                  </a:lnTo>
                  <a:lnTo>
                    <a:pt x="14287" y="126206"/>
                  </a:lnTo>
                  <a:lnTo>
                    <a:pt x="0" y="152400"/>
                  </a:lnTo>
                  <a:lnTo>
                    <a:pt x="30956" y="195262"/>
                  </a:lnTo>
                  <a:lnTo>
                    <a:pt x="47625" y="233362"/>
                  </a:lnTo>
                  <a:lnTo>
                    <a:pt x="61912" y="273844"/>
                  </a:lnTo>
                  <a:lnTo>
                    <a:pt x="57150" y="333375"/>
                  </a:lnTo>
                  <a:lnTo>
                    <a:pt x="133350" y="366712"/>
                  </a:lnTo>
                  <a:lnTo>
                    <a:pt x="147637" y="326231"/>
                  </a:lnTo>
                  <a:lnTo>
                    <a:pt x="147637" y="309562"/>
                  </a:lnTo>
                  <a:lnTo>
                    <a:pt x="190500" y="276225"/>
                  </a:lnTo>
                  <a:lnTo>
                    <a:pt x="209550" y="252412"/>
                  </a:lnTo>
                  <a:lnTo>
                    <a:pt x="238125" y="261937"/>
                  </a:lnTo>
                  <a:lnTo>
                    <a:pt x="292894" y="204787"/>
                  </a:lnTo>
                  <a:lnTo>
                    <a:pt x="309562" y="188119"/>
                  </a:lnTo>
                  <a:lnTo>
                    <a:pt x="309562" y="173831"/>
                  </a:lnTo>
                  <a:lnTo>
                    <a:pt x="276225" y="147637"/>
                  </a:lnTo>
                  <a:lnTo>
                    <a:pt x="257175" y="121444"/>
                  </a:lnTo>
                  <a:lnTo>
                    <a:pt x="242887" y="123825"/>
                  </a:lnTo>
                  <a:lnTo>
                    <a:pt x="226219" y="73819"/>
                  </a:lnTo>
                  <a:lnTo>
                    <a:pt x="173831" y="47625"/>
                  </a:lnTo>
                  <a:lnTo>
                    <a:pt x="126206" y="35719"/>
                  </a:lnTo>
                  <a:lnTo>
                    <a:pt x="100012" y="30956"/>
                  </a:lnTo>
                  <a:lnTo>
                    <a:pt x="23812" y="0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80"/>
            <p:cNvSpPr/>
            <p:nvPr/>
          </p:nvSpPr>
          <p:spPr>
            <a:xfrm>
              <a:off x="3097080" y="6127560"/>
              <a:ext cx="169560" cy="120600"/>
            </a:xfrm>
            <a:custGeom>
              <a:avLst/>
              <a:gdLst/>
              <a:ahLst/>
              <a:rect l="l" t="t" r="r" b="b"/>
              <a:pathLst>
                <a:path w="169069" h="121444">
                  <a:moveTo>
                    <a:pt x="78582" y="121444"/>
                  </a:moveTo>
                  <a:lnTo>
                    <a:pt x="54769" y="61913"/>
                  </a:lnTo>
                  <a:lnTo>
                    <a:pt x="23813" y="61913"/>
                  </a:lnTo>
                  <a:lnTo>
                    <a:pt x="0" y="21432"/>
                  </a:lnTo>
                  <a:lnTo>
                    <a:pt x="16669" y="0"/>
                  </a:lnTo>
                  <a:lnTo>
                    <a:pt x="57150" y="23813"/>
                  </a:lnTo>
                  <a:lnTo>
                    <a:pt x="102394" y="14288"/>
                  </a:lnTo>
                  <a:lnTo>
                    <a:pt x="123825" y="28575"/>
                  </a:lnTo>
                  <a:lnTo>
                    <a:pt x="169069" y="47625"/>
                  </a:lnTo>
                  <a:lnTo>
                    <a:pt x="169069" y="71438"/>
                  </a:lnTo>
                  <a:lnTo>
                    <a:pt x="142875" y="95250"/>
                  </a:lnTo>
                  <a:lnTo>
                    <a:pt x="78582" y="121444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81"/>
            <p:cNvSpPr/>
            <p:nvPr/>
          </p:nvSpPr>
          <p:spPr>
            <a:xfrm>
              <a:off x="2705040" y="5981400"/>
              <a:ext cx="139680" cy="126720"/>
            </a:xfrm>
            <a:custGeom>
              <a:avLst/>
              <a:gdLst/>
              <a:ahLst/>
              <a:rect l="l" t="t" r="r" b="b"/>
              <a:pathLst>
                <a:path w="140495" h="126206">
                  <a:moveTo>
                    <a:pt x="0" y="40482"/>
                  </a:moveTo>
                  <a:lnTo>
                    <a:pt x="42864" y="119063"/>
                  </a:lnTo>
                  <a:lnTo>
                    <a:pt x="83345" y="126206"/>
                  </a:lnTo>
                  <a:lnTo>
                    <a:pt x="128589" y="111919"/>
                  </a:lnTo>
                  <a:lnTo>
                    <a:pt x="138114" y="104775"/>
                  </a:lnTo>
                  <a:lnTo>
                    <a:pt x="140495" y="88106"/>
                  </a:lnTo>
                  <a:lnTo>
                    <a:pt x="107157" y="66675"/>
                  </a:lnTo>
                  <a:lnTo>
                    <a:pt x="90489" y="33338"/>
                  </a:lnTo>
                  <a:lnTo>
                    <a:pt x="57151" y="0"/>
                  </a:lnTo>
                  <a:lnTo>
                    <a:pt x="40482" y="47625"/>
                  </a:lnTo>
                  <a:lnTo>
                    <a:pt x="0" y="40482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82"/>
            <p:cNvSpPr/>
            <p:nvPr/>
          </p:nvSpPr>
          <p:spPr>
            <a:xfrm>
              <a:off x="2325240" y="5875200"/>
              <a:ext cx="107640" cy="99720"/>
            </a:xfrm>
            <a:custGeom>
              <a:avLst/>
              <a:gdLst/>
              <a:ahLst/>
              <a:rect l="l" t="t" r="r" b="b"/>
              <a:pathLst>
                <a:path w="107157" h="100012">
                  <a:moveTo>
                    <a:pt x="0" y="73819"/>
                  </a:moveTo>
                  <a:lnTo>
                    <a:pt x="64294" y="100012"/>
                  </a:lnTo>
                  <a:lnTo>
                    <a:pt x="102394" y="88106"/>
                  </a:lnTo>
                  <a:lnTo>
                    <a:pt x="107157" y="57150"/>
                  </a:lnTo>
                  <a:lnTo>
                    <a:pt x="107157" y="28575"/>
                  </a:lnTo>
                  <a:lnTo>
                    <a:pt x="92869" y="2381"/>
                  </a:lnTo>
                  <a:lnTo>
                    <a:pt x="78582" y="4762"/>
                  </a:lnTo>
                  <a:lnTo>
                    <a:pt x="57150" y="11906"/>
                  </a:lnTo>
                  <a:lnTo>
                    <a:pt x="52388" y="0"/>
                  </a:lnTo>
                  <a:lnTo>
                    <a:pt x="16669" y="23812"/>
                  </a:lnTo>
                  <a:lnTo>
                    <a:pt x="0" y="73819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83"/>
            <p:cNvSpPr/>
            <p:nvPr/>
          </p:nvSpPr>
          <p:spPr>
            <a:xfrm>
              <a:off x="2217600" y="5956200"/>
              <a:ext cx="44280" cy="72720"/>
            </a:xfrm>
            <a:custGeom>
              <a:avLst/>
              <a:gdLst/>
              <a:ahLst/>
              <a:rect l="l" t="t" r="r" b="b"/>
              <a:pathLst>
                <a:path w="44448" h="74017">
                  <a:moveTo>
                    <a:pt x="1361" y="26261"/>
                  </a:moveTo>
                  <a:cubicBezTo>
                    <a:pt x="6520" y="13958"/>
                    <a:pt x="41446" y="-1124"/>
                    <a:pt x="44224" y="67"/>
                  </a:cubicBezTo>
                  <a:cubicBezTo>
                    <a:pt x="47002" y="1258"/>
                    <a:pt x="23189" y="21102"/>
                    <a:pt x="18030" y="33405"/>
                  </a:cubicBezTo>
                  <a:cubicBezTo>
                    <a:pt x="12871" y="45708"/>
                    <a:pt x="18029" y="76267"/>
                    <a:pt x="13267" y="73886"/>
                  </a:cubicBezTo>
                  <a:cubicBezTo>
                    <a:pt x="6917" y="66742"/>
                    <a:pt x="-3798" y="38564"/>
                    <a:pt x="1361" y="26261"/>
                  </a:cubicBez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84"/>
            <p:cNvSpPr/>
            <p:nvPr/>
          </p:nvSpPr>
          <p:spPr>
            <a:xfrm>
              <a:off x="2933640" y="6076800"/>
              <a:ext cx="149040" cy="50760"/>
            </a:xfrm>
            <a:custGeom>
              <a:avLst/>
              <a:gdLst/>
              <a:ahLst/>
              <a:rect l="l" t="t" r="r" b="b"/>
              <a:pathLst>
                <a:path w="150019" h="50006">
                  <a:moveTo>
                    <a:pt x="16669" y="9525"/>
                  </a:moveTo>
                  <a:lnTo>
                    <a:pt x="0" y="50006"/>
                  </a:lnTo>
                  <a:lnTo>
                    <a:pt x="54769" y="47625"/>
                  </a:lnTo>
                  <a:lnTo>
                    <a:pt x="76200" y="40481"/>
                  </a:lnTo>
                  <a:lnTo>
                    <a:pt x="90488" y="47625"/>
                  </a:lnTo>
                  <a:lnTo>
                    <a:pt x="116681" y="45244"/>
                  </a:lnTo>
                  <a:lnTo>
                    <a:pt x="150019" y="26194"/>
                  </a:lnTo>
                  <a:lnTo>
                    <a:pt x="135731" y="14288"/>
                  </a:lnTo>
                  <a:lnTo>
                    <a:pt x="100013" y="21431"/>
                  </a:lnTo>
                  <a:lnTo>
                    <a:pt x="80963" y="0"/>
                  </a:lnTo>
                  <a:lnTo>
                    <a:pt x="73819" y="19050"/>
                  </a:lnTo>
                  <a:lnTo>
                    <a:pt x="16669" y="9525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85"/>
            <p:cNvSpPr/>
            <p:nvPr/>
          </p:nvSpPr>
          <p:spPr>
            <a:xfrm>
              <a:off x="3006720" y="6161040"/>
              <a:ext cx="64800" cy="56880"/>
            </a:xfrm>
            <a:custGeom>
              <a:avLst/>
              <a:gdLst/>
              <a:ahLst/>
              <a:rect l="l" t="t" r="r" b="b"/>
              <a:pathLst>
                <a:path w="64294" h="57150">
                  <a:moveTo>
                    <a:pt x="0" y="4762"/>
                  </a:moveTo>
                  <a:lnTo>
                    <a:pt x="21431" y="57150"/>
                  </a:lnTo>
                  <a:lnTo>
                    <a:pt x="42862" y="54769"/>
                  </a:lnTo>
                  <a:lnTo>
                    <a:pt x="64294" y="33337"/>
                  </a:lnTo>
                  <a:lnTo>
                    <a:pt x="28576" y="0"/>
                  </a:lnTo>
                  <a:lnTo>
                    <a:pt x="0" y="4762"/>
                  </a:ln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86"/>
            <p:cNvSpPr/>
            <p:nvPr/>
          </p:nvSpPr>
          <p:spPr>
            <a:xfrm>
              <a:off x="3106800" y="6235560"/>
              <a:ext cx="37800" cy="31680"/>
            </a:xfrm>
            <a:custGeom>
              <a:avLst/>
              <a:gdLst/>
              <a:ahLst/>
              <a:rect l="l" t="t" r="r" b="b"/>
              <a:pathLst>
                <a:path w="8508" h="6867">
                  <a:moveTo>
                    <a:pt x="4640" y="0"/>
                  </a:moveTo>
                  <a:cubicBezTo>
                    <a:pt x="6029" y="0"/>
                    <a:pt x="9154" y="4861"/>
                    <a:pt x="8390" y="5833"/>
                  </a:cubicBezTo>
                  <a:cubicBezTo>
                    <a:pt x="7626" y="6805"/>
                    <a:pt x="2139" y="7569"/>
                    <a:pt x="56" y="5833"/>
                  </a:cubicBezTo>
                  <a:cubicBezTo>
                    <a:pt x="-499" y="2500"/>
                    <a:pt x="3251" y="0"/>
                    <a:pt x="4640" y="0"/>
                  </a:cubicBezTo>
                  <a:close/>
                </a:path>
              </a:pathLst>
            </a:custGeom>
            <a:solidFill>
              <a:srgbClr val="006c86"/>
            </a:solidFill>
            <a:ln w="1260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Rectangle 3"/>
          <p:cNvSpPr/>
          <p:nvPr/>
        </p:nvSpPr>
        <p:spPr>
          <a:xfrm>
            <a:off x="279360" y="162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p of</a:t>
            </a:r>
            <a:br>
              <a:rPr sz="1800"/>
            </a:b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THE UNITED STA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b6de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Owner</cp:lastModifiedBy>
  <dcterms:modified xsi:type="dcterms:W3CDTF">2015-01-08T08:40:4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