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7F7-A166-40E3-8A7F-B4AF292F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6C8-F3F0-4636-82C2-33A276D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649-6738-4915-B95D-B7B776FF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518-454C-4780-95B5-E0D758E2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D651-FEEE-4B4A-804E-8A844BF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967D-650E-49DA-AEDD-5D4A8D1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F5A-457A-4BE1-B632-DE72427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F254-48D2-4D7E-8AE9-725EAEF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8209-520C-4FE8-8A8C-3F13C890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6285-D905-49A0-85A8-1270FBD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4157-0F42-46EB-A960-4E0FEF6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6D6-AFDF-40C9-9389-40354C4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4D00-4F36-4AEB-9046-B273699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3A86-0BB3-4DC6-8D8C-7F2D544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C13-CB5B-4AD8-8A06-7C77FAF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C8F3-36C8-4053-913C-A0946464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2F1-641E-4565-B55D-4FF07AA9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6CE-EB56-4DD4-B418-475FC58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D8B-2D76-4230-A344-8EA3945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37D-12CB-4D7D-A7FD-CC6C045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D7F-B7E7-41C0-9D0A-22FBDBBE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DD8-95C5-45B2-A1A9-A25A5B8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1FD-8C47-4F1E-99F2-4614228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ABD-9903-4663-A763-C3EEAA5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4AC3-16F1-4CC1-8386-F2D0DE76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131-23E1-4CD3-ABF2-1B6F1455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987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</a:rPr>
              <a:t>梦幻气球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5080" y="3357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微软雅黑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使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03:39Z</dcterms:created>
  <dc:creator/>
  <dc:description/>
  <dc:language>en-US</dc:language>
  <cp:lastModifiedBy/>
  <dcterms:modified xsi:type="dcterms:W3CDTF">2015-01-08T08:22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