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67B9-B9BC-42F0-816B-6D904402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9F50-D867-4F70-8090-97917F51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3703-2A69-4975-9F89-8E5E5A5E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A170-B0E9-416B-BC5F-AAC760FC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7D40-60F1-479C-896A-5641C503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A294-D760-4993-8B35-ABE3B59B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96E3-58A2-4D9C-BCB0-5F0764A0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E4C9-2639-4E42-A88C-4D63B144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AF70-3A93-4D75-BCFA-C187A479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C295-69BD-4067-965F-42153761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1C69-AD8D-4F86-9424-CF899F63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1F9B-B211-47E7-B01A-F1D42274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280A-C692-4EDE-B109-800E861A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39BD-6DE6-4419-867B-69CB23D9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D220-DF18-448D-A10E-D7127AC3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6946-1859-49EE-B7A6-610EEB7E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7731-5075-42B5-A4C9-3F0AD8F4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081-14F3-4330-974E-57735572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C1F-646C-4B03-A554-4E3E0325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11B-827F-44CC-A413-E64FD641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88B-87A2-4929-B8BF-DFD7DF92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D36-812A-4AB8-8C7C-BCA91AAD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B43-C2B6-48F5-AAE6-4DEDAAD9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1DC-E6FE-49CE-9A42-81C7C2F9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cb1">
                <a:alpha val="0"/>
              </a:srgbClr>
            </a:gs>
            <a:gs pos="100000">
              <a:srgbClr val="ffeb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4427640"/>
            <a:ext cx="9144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" name="Picture 2" descr="C:\Users\Administrator\Desktop\enterdesk_com-64864CDED7A98DDE8AA10EC22B26686E.jpg"/>
          <p:cNvPicPr/>
          <p:nvPr/>
        </p:nvPicPr>
        <p:blipFill>
          <a:blip r:embed="rId2"/>
          <a:stretch/>
        </p:blipFill>
        <p:spPr>
          <a:xfrm>
            <a:off x="-3240" y="4570560"/>
            <a:ext cx="9147240" cy="228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F3C0-8F07-493F-AC5D-A3D3AE657577}" type="slidenum">
              <a:rPr b="0" lang="zh-CN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cb1">
                <a:alpha val="0"/>
              </a:srgbClr>
            </a:gs>
            <a:gs pos="100000">
              <a:srgbClr val="ffeb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dministrator\Desktop\enterdesk_com-64864CDED7A98DDE8AA10EC22B26686E.jpg"/>
          <p:cNvPicPr/>
          <p:nvPr/>
        </p:nvPicPr>
        <p:blipFill>
          <a:blip r:embed="rId2"/>
          <a:stretch/>
        </p:blipFill>
        <p:spPr>
          <a:xfrm>
            <a:off x="5235480" y="0"/>
            <a:ext cx="3917880" cy="97956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0" y="0"/>
            <a:ext cx="8028000" cy="979560"/>
          </a:xfrm>
          <a:prstGeom prst="rect">
            <a:avLst/>
          </a:prstGeom>
          <a:gradFill rotWithShape="0">
            <a:gsLst>
              <a:gs pos="0">
                <a:srgbClr val="ffe5dc"/>
              </a:gs>
              <a:gs pos="100000">
                <a:srgbClr val="fe863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0" y="9795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AA9C-2DAD-429C-A57D-6486DADE10CF}" type="slidenum">
              <a:rPr b="0" lang="zh-CN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cb1">
                <a:alpha val="0"/>
              </a:srgbClr>
            </a:gs>
            <a:gs pos="100000">
              <a:srgbClr val="ffeb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米黄色简约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mbria"/>
            </a:endParaRPr>
          </a:p>
        </p:txBody>
      </p:sp>
      <p:sp>
        <p:nvSpPr>
          <p:cNvPr id="89" name=""/>
          <p:cNvSpPr/>
          <p:nvPr/>
        </p:nvSpPr>
        <p:spPr>
          <a:xfrm>
            <a:off x="80640" y="638172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mbria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cb1">
                <a:alpha val="0"/>
              </a:srgbClr>
            </a:gs>
            <a:gs pos="100000">
              <a:srgbClr val="ffeb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mbria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mbria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mbria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mbri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mbria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d2611c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d2611c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d2611c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d2611c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d2611c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d2611c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d2611c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d2611c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mbri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8:33:45Z</dcterms:created>
  <dc:creator/>
  <dc:description/>
  <dc:language>en-US</dc:language>
  <cp:lastModifiedBy>zouendong</cp:lastModifiedBy>
  <dcterms:modified xsi:type="dcterms:W3CDTF">2015-01-08T12:36:4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