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E78-E473-4DFD-B9A6-98403178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2720" y="396432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2EC-ACAD-4C01-B919-3B5BBBB1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29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8D4-AE66-4B77-A87D-8FEDA381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624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976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272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624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976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5D5-08AD-4968-A871-DC85D02C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37E1-A601-4A6B-95E9-850180D5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2720" y="1600200"/>
            <a:ext cx="663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1FB6-5DD3-4F8B-98B0-E1A533D5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66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481E-3ED0-48F8-9AE0-531AF1D7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BD4A-B059-4B7F-9F01-7E4E39A8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4452-0DE5-45C5-8CBB-E220D41E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052720" y="274320"/>
            <a:ext cx="6634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B721-4648-4F6D-BF29-81CBB364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3768-42E1-43E9-AFAF-5569C575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2720" y="1600200"/>
            <a:ext cx="663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B53-402F-45C3-8D9D-7EB5033F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9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F436-7BA0-483A-ABBE-85A7003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4AD7-903F-4665-AD44-B6FC36FD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2720" y="396432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2DE3-A0E2-4BDA-8507-E861AB6A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9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D861-4708-4052-9D15-CD65AE7E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624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3976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272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624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3976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C45C-F0CA-4341-84B7-BF5CD196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66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293-587C-45D0-B2FC-D6306D35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C50-02B7-439E-8B49-2454377E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596-2824-4999-9652-F6D84696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2720" y="274320"/>
            <a:ext cx="6634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C6F-C81E-43D5-B1B6-4A367FBB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28C-E6AF-44BF-B80D-726D81C1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29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ADB-4136-4B93-AFE4-0ADF990C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D88-9CBE-4ACB-A2B6-9D5B15C4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8418" t="276" r="43755" b="0"/>
          <a:stretch/>
        </p:blipFill>
        <p:spPr>
          <a:xfrm>
            <a:off x="-27000" y="-9360"/>
            <a:ext cx="1682640" cy="690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52720" y="1600200"/>
            <a:ext cx="66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9665-C4F9-49E8-8A67-4596A9C7E1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292720" y="148608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720" indent="-1530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72080" indent="-1530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8440" indent="-1530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8440" indent="-1530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8440" indent="-1530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DBDB-BA57-424D-90C5-9FC73903EF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160" y="3646440"/>
            <a:ext cx="910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40" y="4076640"/>
            <a:ext cx="9142560" cy="1989000"/>
            <a:chOff x="1440" y="4076640"/>
            <a:chExt cx="9142560" cy="1989000"/>
          </a:xfrm>
        </p:grpSpPr>
        <p:sp>
          <p:nvSpPr>
            <p:cNvPr id="49" name=""/>
            <p:cNvSpPr/>
            <p:nvPr/>
          </p:nvSpPr>
          <p:spPr>
            <a:xfrm>
              <a:off x="1440" y="4076640"/>
              <a:ext cx="9142560" cy="1989000"/>
            </a:xfrm>
            <a:prstGeom prst="rect">
              <a:avLst/>
            </a:prstGeom>
            <a:solidFill>
              <a:srgbClr val="bdb6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0" y="4076640"/>
              <a:ext cx="9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0" y="6065640"/>
              <a:ext cx="9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0" y="4076640"/>
              <a:ext cx="0" cy="19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0" y="4076640"/>
              <a:ext cx="0" cy="19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149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360" y="5373360"/>
            <a:ext cx="777528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160" y="63817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Impact"/>
              </a:rPr>
              <a:t>使用规范说明</a:t>
            </a: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55:43Z</dcterms:created>
  <dc:creator>zouendong</dc:creator>
  <dc:description/>
  <dc:language>en-US</dc:language>
  <cp:lastModifiedBy>zouendong</cp:lastModifiedBy>
  <dcterms:modified xsi:type="dcterms:W3CDTF">2015-01-09T03:42:4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