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724A-5E4B-4443-BB90-F9C66F239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2219-5AEA-4C8C-8792-760D4FBFB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8EF0-C32C-4034-A398-8D6F28D1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C14E-C163-4467-9B03-05052E246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C754-D455-4E5B-B282-B23160BA6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500F-11C8-41A6-9CBD-E7D96F86B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6428-58C8-4428-A0E1-58C301065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9CBC-47BD-4EEE-B0A7-B177ADE53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462E-12DC-4F60-ABA6-EAB0A82C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29BB-8297-4252-83B8-92E1BC91A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A05A-174D-4285-A94C-94E1ED0B1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D394-7E8F-4ECA-BB59-495BEA428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2C5D36F-6D7C-454F-9A70-AA8E65A77BA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097760" y="333360"/>
            <a:ext cx="15778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80600" y="529236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44240" y="6424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7D1F-6862-4953-B1F7-81C2AD0ED7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468360" y="31640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32360" y="6516720"/>
            <a:ext cx="43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2B20-05F1-41DF-8C19-45B6400D7A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75FD-E707-4D55-B0E2-EA2A9B4981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14:21:14Z</dcterms:modified>
  <cp:revision>1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