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1EE2-D1C0-4F33-A0A7-85283D9A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2A4F-FA25-4420-ADF6-AF103C74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9F1F-81C6-44C7-8EDA-B46FAA30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D935-BC49-4D64-A332-7955430EC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3199-104B-46D5-A361-96B47D7E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1EDB-52F8-4770-8AF8-69A86D37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A565-A1A7-4720-92B4-B5673A31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6323-C5B9-4D7E-A5E1-A77239F0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C722-ECED-4001-AFCC-95A2F941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5F6B-88D8-4B72-AE10-84DE1971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274B-02BC-438B-92ED-554DE299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5A56-C2E9-4C03-9ED6-A055E5B9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2EDF-BE2B-44F5-8783-CCBA5C54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5996-9EF7-4596-96AD-5145EECB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13DC-2108-4B04-84F4-41FEA333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817A-5B3C-43BD-89EE-C5FC86A47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3C4A-1049-489D-A993-49A8C3B79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0661-5849-433E-9BC5-3BDE4CFC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BA74-4D24-4BC8-80CD-50A2E642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C304-C9FD-4974-AB58-A0E65BC1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F1F7-4FC1-4DCF-B305-7E64EA86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5637-3EA4-459B-989E-AC9CA2B5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8002-F596-4E1F-9E53-9B769DA2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337E-E2B3-46B5-92AB-04ECE523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F064-FBE6-42F9-8D3A-CF153B0DDAA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c5b5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33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F2D3-F6D9-4FE3-9814-B581E6613582}" type="slidenum">
              <a:rPr b="0" lang="zh-CN" sz="1400" spc="-1" strike="noStrike">
                <a:solidFill>
                  <a:srgbClr val="6633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42840" y="26665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c5b5"/>
                </a:solidFill>
                <a:latin typeface="Verdana"/>
                <a:ea typeface="宋体"/>
              </a:rPr>
              <a:t>摩天大楼商务</a:t>
            </a:r>
            <a:r>
              <a:rPr b="0" lang="zh-CN" sz="4000" spc="-1" strike="noStrike">
                <a:solidFill>
                  <a:srgbClr val="d7c5b5"/>
                </a:solidFill>
                <a:latin typeface="Verdana"/>
                <a:ea typeface="宋体"/>
              </a:rPr>
              <a:t>PPT</a:t>
            </a:r>
            <a:r>
              <a:rPr b="0" lang="en-US" sz="4000" spc="-1" strike="noStrike">
                <a:solidFill>
                  <a:srgbClr val="d7c5b5"/>
                </a:solidFill>
                <a:latin typeface="Verdana"/>
                <a:ea typeface="宋体"/>
              </a:rPr>
              <a:t>模板</a:t>
            </a: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42840" y="42667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  <a:ea typeface="宋体"/>
            </a:endParaRPr>
          </a:p>
        </p:txBody>
      </p:sp>
      <p:sp>
        <p:nvSpPr>
          <p:cNvPr id="84" name=""/>
          <p:cNvSpPr/>
          <p:nvPr/>
        </p:nvSpPr>
        <p:spPr>
          <a:xfrm>
            <a:off x="6784200" y="632448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2021040" y="617220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92929"/>
                </a:solidFill>
                <a:latin typeface="Verdana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71584d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71584d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71584d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71584d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71584d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71584d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71584d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71584d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92929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9T23:58:01Z</dcterms:created>
  <dc:creator/>
  <dc:description/>
  <dc:language>en-US</dc:language>
  <cp:lastModifiedBy>秋叶</cp:lastModifiedBy>
  <dcterms:modified xsi:type="dcterms:W3CDTF">2015-01-09T03:46:09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_TemplateID">
    <vt:lpwstr>TC011408322052</vt:lpwstr>
  </property>
</Properties>
</file>