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6288-44E0-4ED0-A49E-0A551E72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64ED-C3BA-4371-A30F-FC4DA964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3907-8CC3-48FA-8792-C050EBAC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D2AE-DC88-469C-A3C3-74E2EDEF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7504-9078-4E55-AC9F-E7D5BD11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CBD1-5909-457A-8A4B-A9318C89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AE66-CAC1-4FB3-97DC-01C7CE2D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2EB6-985B-48DB-8F29-9B90CAF0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D5F1-3E43-4CE4-AEB2-6321059C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BC2E-418D-41AC-8DB4-4DC581DD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6872-33CD-4091-89B7-C45C2BFF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2B17-C370-4FFD-AD7F-806075F1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8326-A4CE-4292-98C0-3F437A1A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1B78-874F-495A-ACB2-755B762E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792F-13EA-4B69-B6CA-D45D5AE7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0EF6-9437-4CBF-B439-D14FD763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FAA5-DD97-4BAD-BAE0-6677C0E0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F8A3-A8CD-4C35-925A-2B310647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1F80-822D-4899-8253-B5314576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7A88-88B4-43ED-A9B8-B6A9914F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E9E2-6949-43EF-96D0-DC7D2970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D2A-C2C4-41FE-8BFB-6771846C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AD46-6BD5-4BC3-B4E1-EE830689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76A8-3A8B-46B7-954C-0A9C92AF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8398" r="0" b="13816"/>
          <a:stretch/>
        </p:blipFill>
        <p:spPr>
          <a:xfrm>
            <a:off x="0" y="324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8347-4378-4BD0-A4FD-AF1312B12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37D3-4C70-4846-BCFF-C0883736F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8398" r="-107" b="83754"/>
          <a:stretch/>
        </p:blipFill>
        <p:spPr>
          <a:xfrm>
            <a:off x="0" y="0"/>
            <a:ext cx="9153360" cy="14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977160" y="6292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6:26:38Z</dcterms:created>
  <dc:creator>Administrator</dc:creator>
  <dc:description/>
  <dc:language>en-US</dc:language>
  <cp:lastModifiedBy/>
  <dcterms:modified xsi:type="dcterms:W3CDTF">2015-01-08T12:41:0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