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C65C-3DBA-429D-99E5-35F00AD9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1FAE-FD0B-4BBC-BF2B-B51C1871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AA01-09FD-414C-B244-ED0EB208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96D1-08DB-44A7-8613-43D3F6C0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F108-CAA2-4C48-B766-9A4E12E0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85C6-AB17-401B-B90D-9FEE4247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03FC-19EE-433C-8E22-32BFFC88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1BB1-2A1A-4B0D-A757-BF25D1EE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1FDA-039A-4A5B-A4AE-B96D132A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F3AF-4E7A-4595-93AE-FD0D6D83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2681-385C-45A7-A311-835D570B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4BF5-9B35-4079-980B-F2B1386A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E9B1-0A16-4D73-BF4E-82E1C5C2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7B84-370A-4A09-8B5D-41E84357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7EEA-7062-4CA9-8D82-A95FC8AB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1AD9-1C72-48DF-8B79-2EA21981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A8B2-0618-4633-A02F-D3CF38A0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D22A-F806-4CC7-AC5F-FD8A6C55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B097-A5D8-4045-AB05-E5CAFE5F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565A-8791-423B-9F82-DC867927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CEB3-4DA5-4815-964D-96A06301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BF9F-2BAB-4B5C-8BD2-A5CDDE31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EA34-FEC0-402F-B3A8-155399FF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BE40-FBB2-4363-A302-08E8D621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EAF0-2F01-47D5-B0F6-CDD3F02B5275}" type="slidenum">
              <a:rPr b="0" lang="en-US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431B-16C7-4D04-A4CE-5CEF6035D37B}" type="slidenum">
              <a:rPr b="0" lang="en-US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b.chinabroadcast.cn/chinaabc/chapter17/chapter170201.htm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:\&#30683;&#19982;&#30462;&#65288;&#32456;&#31295;&#65289;\myd_qj.exe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34000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北师大  十二册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453360"/>
            <a:ext cx="1476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0812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26920" y="1009800"/>
            <a:ext cx="777564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</a:t>
            </a:r>
            <a:r>
              <a:rPr b="1" lang="zh-CN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楚人有鬻盾与矛者，誉之曰：“吾盾之坚，物</a:t>
            </a:r>
            <a:r>
              <a:rPr b="1" lang="zh-CN" sz="5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莫能陷</a:t>
            </a:r>
            <a:r>
              <a:rPr b="1" lang="zh-CN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也。”</a:t>
            </a:r>
            <a:endParaRPr b="0" lang="en-US" sz="5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</a:t>
            </a:r>
            <a:r>
              <a:rPr b="1" lang="zh-CN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又誉其矛曰：“吾矛之利，于物</a:t>
            </a:r>
            <a:r>
              <a:rPr b="1" lang="zh-CN" sz="5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不陷</a:t>
            </a:r>
            <a:r>
              <a:rPr b="1" lang="zh-CN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也。”</a:t>
            </a:r>
            <a:endParaRPr b="0" lang="en-US" sz="5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492360" y="549360"/>
            <a:ext cx="207972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979640" y="836640"/>
            <a:ext cx="5327640" cy="3294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87280" y="4149720"/>
            <a:ext cx="756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楚人有鬻盾与矛者，誉之曰：“吾盾之坚，物莫能陷也。”又誉其矛曰：“吾矛之利，于物无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不陷也。”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908000" y="836640"/>
            <a:ext cx="5472360" cy="3778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71640" y="4221000"/>
            <a:ext cx="756108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或曰：“以子之矛，陷子之盾，何如？”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588000" y="260280"/>
            <a:ext cx="2079720" cy="560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908000" y="836640"/>
            <a:ext cx="5472360" cy="3778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71640" y="4076640"/>
            <a:ext cx="756108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或曰：“以子之矛，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陷</a:t>
            </a:r>
            <a:r>
              <a:rPr b="1" lang="zh-CN" sz="5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子之盾，何如？”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588000" y="26028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124000" y="58770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陷——刺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58920" y="1916280"/>
            <a:ext cx="50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</a:t>
            </a:r>
            <a:r>
              <a:rPr b="1" lang="zh-CN" sz="9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其人弗能应也。 </a:t>
            </a:r>
            <a:endParaRPr b="0" lang="en-US" sz="9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16000" y="1212840"/>
            <a:ext cx="207972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148360" y="1125360"/>
            <a:ext cx="25081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3889080" cy="2671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211640" y="3573360"/>
            <a:ext cx="3960720" cy="2735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211640" y="620640"/>
            <a:ext cx="38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  楚人有鬻盾与矛者，誉之曰：“吾盾之坚，物莫能陷也。”又誉其矛曰：“吾矛之利，于物无不陷也。”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3789360"/>
            <a:ext cx="28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或曰：“以子之矛，陷子之盾，何如？”其人弗能应也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8172360" y="573408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386038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116000" y="836640"/>
            <a:ext cx="2079720" cy="571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13560" y="833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  <a:ea typeface="楷体_GB2312"/>
              </a:rPr>
              <a:t>读读背背演演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1341360"/>
            <a:ext cx="813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观察书上插图中各个人物的表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情、动作，展开合理的想象演一演。表演要求： 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组合作，分配角色；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揣摩人物心理、动作、语言变化，进行合理、大胆的想象；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文言文、白话文的形式自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主选择。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3889080" cy="2671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211640" y="3573360"/>
            <a:ext cx="3960720" cy="2735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211640" y="620640"/>
            <a:ext cx="38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  楚人有鬻盾与矛者，誉之曰：“吾盾之坚，物莫能陷也。”又誉其矛曰：“吾矛之利，于物无不陷也。”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3789360"/>
            <a:ext cx="28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或曰：“以子之矛，陷子之盾，何如？”其人弗能应也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360" y="1599840"/>
            <a:ext cx="8059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班长说：同学们已经基本上把学生的知识全部掌握了。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陈放说“这一期墙报上的文章都是同学们自己写的，只有一篇是李老师写的。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座山非常陡峭，从来就没有人爬上去过，爬上去的人从来就没有下来的。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916360" y="692280"/>
            <a:ext cx="3311280" cy="801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4360" y="1599840"/>
            <a:ext cx="8059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班长说：同学们已经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基本上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把学生的知识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全部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掌握了。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陈放说“这一期墙报上的文章都是同学们自己写的，只有一篇是李老师写的。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座山非常陡峭，从来就没有人爬上去过，爬上去的人从来就没有下来的。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916360" y="692280"/>
            <a:ext cx="33112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835280" y="1484280"/>
            <a:ext cx="5717880" cy="4064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76720" y="5516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矛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51640" y="5516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盾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4360" y="1599840"/>
            <a:ext cx="8059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班长说：同学们已经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基本上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把学生的知识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全部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掌握了。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陈放说“这一期墙报上的文章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都是同学们自己写的，只有一篇是李老师写的。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座山非常陡峭，从来就没有人爬上去过，爬上去的人从来就没有下来的。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916360" y="692280"/>
            <a:ext cx="3311280" cy="801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00812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4360" y="1599840"/>
            <a:ext cx="8059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班长说：同学们已经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基本上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把学生的知识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全部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掌握了。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陈放说“这一期墙报上的文章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都是同学们自己写的，只有一篇是李老师写的。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座山非常陡峭，从来就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没有人爬上去过，爬上去的人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从来就没有下来的。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916360" y="692280"/>
            <a:ext cx="33112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451640" y="3573360"/>
            <a:ext cx="1392480" cy="2527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484360" y="981000"/>
            <a:ext cx="29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金钥匙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2205000"/>
            <a:ext cx="7236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读准字音，读通句子；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2.</a:t>
            </a:r>
            <a:r>
              <a:rPr b="1" lang="zh-CN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结合译文，读懂全文；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3.</a:t>
            </a:r>
            <a:r>
              <a:rPr b="1" lang="zh-CN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揭示寓意，熟读成诵。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580000" y="907920"/>
            <a:ext cx="1258920" cy="1295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16000" y="1628640"/>
            <a:ext cx="2664000" cy="32594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47640" y="5013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韩 非 子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907920"/>
            <a:ext cx="45370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</a:t>
            </a:r>
            <a:r>
              <a:rPr b="1" lang="zh-CN" sz="2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《韩 非 子》是收录战国时期哲学家韩非及起弟子的作品集。其中记载了大量的脍炙人口的寓言故事，</a:t>
            </a:r>
            <a:r>
              <a:rPr b="1" lang="zh-CN" sz="2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最著名的有“自相矛盾”、“守株待兔”、“滥竽充数”、“老马识途”等等。这些生动的寓言故事，蕴含着深刻的哲理，</a:t>
            </a:r>
            <a:r>
              <a:rPr b="1" lang="zh-CN" sz="2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启迪了人们的智慧，具有较高的文学价值。</a:t>
            </a:r>
            <a:endParaRPr b="0" lang="en-US" sz="22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572000" y="39337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68360" y="549360"/>
            <a:ext cx="8424720" cy="36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买椟还珠 </a:t>
            </a:r>
            <a:endParaRPr b="0" lang="en-US" sz="3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                           </a:t>
            </a:r>
            <a:r>
              <a:rPr b="1" lang="zh-CN" sz="25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《韩非子》 </a:t>
            </a:r>
            <a:br>
              <a:rPr sz="2500"/>
            </a:br>
            <a:r>
              <a:rPr b="1" lang="en-US" sz="2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楚人有卖其珠於郑者，为木兰之柜，薰川桂椒，缀川珠玉，饰川玫瑰，缉川翡翠。郑人买其椟而还其珠。</a:t>
            </a:r>
            <a:endParaRPr b="0" lang="en-US" sz="25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</a:t>
            </a:r>
            <a:r>
              <a:rPr b="1" lang="zh-CN" sz="2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此可谓善卖椟矣，未可谓善鬻珠也。 </a:t>
            </a:r>
            <a:endParaRPr b="0" lang="en-US" sz="25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</a:t>
            </a:r>
            <a:r>
              <a:rPr b="1" lang="zh-CN" sz="25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译文</a:t>
            </a:r>
            <a:r>
              <a:rPr b="1" lang="en-US" sz="2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br>
              <a:rPr sz="2500"/>
            </a:br>
            <a:r>
              <a:rPr b="1" lang="en-US" sz="2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春秋时代，楚国有一个专门卖珠宝的商人，有一次他到郑国去兜售珠宝，为了使珠宝畅销，他用名贵的木兰做了一个盒子，用桂、椒薰烤，用珠玉镶嵌，用玫瑰石装饰，用翡翠衬托。结果一个郑国人买了他的这个盒子，</a:t>
            </a:r>
            <a:endParaRPr b="0" lang="en-US" sz="25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却把宝珠还给了他。 </a:t>
            </a:r>
            <a:br>
              <a:rPr sz="2500"/>
            </a:br>
            <a:r>
              <a:rPr b="1" lang="en-US" sz="2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这个楚国人可以说是会卖盒子，但不能说是会卖宝</a:t>
            </a:r>
            <a:endParaRPr b="0" lang="en-US" sz="25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</a:t>
            </a:r>
            <a:r>
              <a:rPr b="1" lang="zh-CN" sz="2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珠啊。</a:t>
            </a:r>
            <a:endParaRPr b="0" lang="en-US" sz="25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19280" y="537372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这则寓言比喻有些人只注重事物外表，不看中其内涵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16000" y="1557360"/>
            <a:ext cx="763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</a:t>
            </a:r>
            <a:r>
              <a:rPr b="1" lang="en-US" sz="4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1.</a:t>
            </a:r>
            <a:r>
              <a:rPr b="1" lang="zh-CN" sz="4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向亲友复述《矛与盾》，聆听他们的体会。</a:t>
            </a:r>
            <a:endParaRPr b="0" lang="en-US" sz="45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</a:t>
            </a:r>
            <a:r>
              <a:rPr b="1" lang="en-US" sz="4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2.</a:t>
            </a:r>
            <a:r>
              <a:rPr b="1" lang="zh-CN" sz="4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用今天学习寓言的方法去学习《韩非子》中的《买椟还珠》，领悟其中蕴含的深刻寓意。</a:t>
            </a:r>
            <a:endParaRPr b="0" lang="en-US" sz="45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651800" y="3860640"/>
            <a:ext cx="1492200" cy="2708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435640" y="765000"/>
            <a:ext cx="666720" cy="484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59280" y="549360"/>
            <a:ext cx="2736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作业超市</a:t>
            </a:r>
            <a:endParaRPr b="0" lang="en-US" sz="45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med">
    <p:wheel spokes="3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34000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北师大  十二册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453360"/>
            <a:ext cx="1476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38840" y="6308640"/>
            <a:ext cx="502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80008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80008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80008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80008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pic>
          <p:nvPicPr>
            <p:cNvPr id="16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3333cc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3333cc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3333cc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916360" y="1628640"/>
            <a:ext cx="38145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鬻</a:t>
            </a:r>
            <a:endParaRPr b="0" lang="en-US" sz="25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32000" y="69228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en-US" sz="9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yù</a:t>
            </a:r>
            <a:endParaRPr b="0" lang="en-US" sz="9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32000" y="5445000"/>
            <a:ext cx="31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鬻——卖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771640" y="1484280"/>
            <a:ext cx="33847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弗</a:t>
            </a:r>
            <a:endParaRPr b="0" lang="en-US" sz="25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5445000"/>
            <a:ext cx="31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弗——不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19640" y="692280"/>
            <a:ext cx="23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fú</a:t>
            </a:r>
            <a:endParaRPr b="0" lang="en-US" sz="96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64000" y="62064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32000" y="126828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4360" y="1700280"/>
            <a:ext cx="79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</a:t>
            </a:r>
            <a:r>
              <a:rPr b="1" lang="en-US" sz="4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1.</a:t>
            </a:r>
            <a:r>
              <a:rPr b="1" lang="zh-CN" sz="4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古文译文相对照，用序号标注解词。</a:t>
            </a:r>
            <a:endParaRPr b="0" lang="en-US" sz="45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</a:t>
            </a:r>
            <a:r>
              <a:rPr b="1" lang="en-US" sz="4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2.</a:t>
            </a:r>
            <a:r>
              <a:rPr b="1" lang="zh-CN" sz="4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借助字典和工具书理解词义。    </a:t>
            </a:r>
            <a:endParaRPr b="0" lang="en-US" sz="45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</a:t>
            </a:r>
            <a:r>
              <a:rPr b="1" lang="en-US" sz="4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3.</a:t>
            </a:r>
            <a:r>
              <a:rPr b="1" lang="zh-CN" sz="4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图文对照，想象画面。</a:t>
            </a:r>
            <a:endParaRPr b="0" lang="en-US" sz="45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</a:t>
            </a:r>
            <a:r>
              <a:rPr b="1" lang="en-US" sz="4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4.</a:t>
            </a:r>
            <a:r>
              <a:rPr b="1" lang="zh-CN" sz="45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联系上下文，大胆猜读。</a:t>
            </a:r>
            <a:r>
              <a:rPr b="1" lang="en-US" sz="4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00360" y="6922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金钥匙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219640" y="620640"/>
            <a:ext cx="1117800" cy="1149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885080" y="4292640"/>
            <a:ext cx="1235160" cy="2241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00812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26920" y="1009800"/>
            <a:ext cx="777564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</a:t>
            </a:r>
            <a:r>
              <a:rPr b="1" lang="zh-CN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楚人有鬻盾与矛者，誉之曰：“吾盾之坚，物莫能陷也。”</a:t>
            </a:r>
            <a:endParaRPr b="0" lang="en-US" sz="5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</a:t>
            </a:r>
            <a:r>
              <a:rPr b="1" lang="zh-CN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又誉其矛曰：“吾矛之利，于物无不陷也。”</a:t>
            </a:r>
            <a:endParaRPr b="0" lang="en-US" sz="5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492360" y="549360"/>
            <a:ext cx="2079720" cy="5601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26920" y="1009800"/>
            <a:ext cx="777564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</a:t>
            </a:r>
            <a:r>
              <a:rPr b="1" lang="zh-CN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楚人有鬻盾与矛者，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誉</a:t>
            </a:r>
            <a:r>
              <a:rPr b="1" lang="zh-CN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之曰：“吾盾之坚，物莫能陷也。”</a:t>
            </a:r>
            <a:endParaRPr b="0" lang="en-US" sz="5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</a:t>
            </a:r>
            <a:r>
              <a:rPr b="1" lang="zh-CN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又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誉</a:t>
            </a:r>
            <a:r>
              <a:rPr b="1" lang="zh-CN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其矛曰：“吾矛之利，于物无不陷也。”</a:t>
            </a:r>
            <a:endParaRPr b="0" lang="en-US" sz="5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92360" y="54936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203640" y="54450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誉——夸耀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26920" y="1009800"/>
            <a:ext cx="777564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</a:t>
            </a:r>
            <a:r>
              <a:rPr b="1" lang="zh-CN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楚人有鬻盾与矛者，誉之曰：“吾盾之坚，物莫能</a:t>
            </a:r>
            <a:r>
              <a:rPr b="1" lang="zh-CN" sz="5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陷</a:t>
            </a:r>
            <a:r>
              <a:rPr b="1" lang="zh-CN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也。”</a:t>
            </a:r>
            <a:endParaRPr b="0" lang="en-US" sz="5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</a:t>
            </a:r>
            <a:r>
              <a:rPr b="1" lang="zh-CN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又誉其矛曰：“吾矛之利，于物无不</a:t>
            </a:r>
            <a:r>
              <a:rPr b="1" lang="zh-CN" sz="5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陷</a:t>
            </a:r>
            <a:r>
              <a:rPr b="1" lang="zh-CN" sz="5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也。”</a:t>
            </a:r>
            <a:endParaRPr b="0" lang="en-US" sz="5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492360" y="54936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03640" y="54450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陷——穿透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2:55:00Z</dcterms:created>
  <dc:creator>fqun</dc:creator>
  <dc:description/>
  <dc:language>en-US</dc:language>
  <cp:lastModifiedBy>aoxin</cp:lastModifiedBy>
  <cp:lastPrinted>1899-12-30T00:00:00Z</cp:lastPrinted>
  <dcterms:modified xsi:type="dcterms:W3CDTF">2014-05-14T14:46:23Z</dcterms:modified>
  <cp:revision>10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