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84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564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6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84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564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142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284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8564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6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284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8564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142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284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564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716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284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564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142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2848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5640" y="157176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16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2848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5640" y="393588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142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98640" y="393588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8640" y="157176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393588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71400" y="3285720"/>
            <a:ext cx="6357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贸易中心商务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oday’s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792972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News and Bad New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SI — Blueprint for Suc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Can 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e of Ur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Different About Connect 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ive 20-county economic and community development strategy — measurable, transforming and sustain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</a:rPr>
              <a:t>Positions SI to compete globally against </a:t>
            </a:r>
            <a:r>
              <a:rPr b="1" lang="en-US" sz="2200" spc="-1" strike="noStrike">
                <a:solidFill>
                  <a:srgbClr val="006699"/>
                </a:solidFill>
                <a:latin typeface="Calibri"/>
              </a:rPr>
              <a:t>country</a:t>
            </a:r>
            <a:r>
              <a:rPr b="0" lang="en-US" sz="2200" spc="-1" strike="noStrike">
                <a:solidFill>
                  <a:srgbClr val="006699"/>
                </a:solidFill>
                <a:latin typeface="Calibri"/>
              </a:rPr>
              <a:t> strate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ews neighbors as resource partners rather than competi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</a:rPr>
              <a:t>Understands that knowledge based, small, &amp; innovative firms are the growth engines of our future…not industries of our p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oadband strategy focus enables all 20 counties to bene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</a:rPr>
              <a:t>Sees economic development as the job of every citiz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llaboratively funded rather than grant depend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</a:rPr>
              <a:t>Business plan based, action driven, results orien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ttom up — grass-roots driv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Disconnect: Youth Brain Drain vs. Real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is losing its most employable youth due to the perception &amp; reality that there are not sufficient job opportunities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t, the Bureau of Labor Statistics say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re will be a shortfall of 10 million workers by 2010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demographic crunch is coming and will be exacerbated by a talent crunch that threatens to stall the very engines of economic growth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 can become a thriving global-hub if 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reversing the brain-dra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s its base of skilled manpow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rages its strategic mid-country location &amp; unique quality of life environment to grow KBE wo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71400" y="3285720"/>
            <a:ext cx="6357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60920" y="6453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5:49:47Z</dcterms:created>
  <dc:creator/>
  <dc:description/>
  <dc:language>en-US</dc:language>
  <cp:lastModifiedBy>YlmF</cp:lastModifiedBy>
  <dcterms:modified xsi:type="dcterms:W3CDTF">2015-01-09T04:03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