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213-955B-4094-BBB3-370D2171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045-A75F-4E35-9290-941CDE2F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72F-5B2C-4B2E-8387-FAE15301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F19-066B-49EB-8072-BC5BF95F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1FF-7DB4-4309-92B2-2C34FF8A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96D-459D-4E46-8827-7EDEBB53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AF9-5EF9-404D-8041-2A561785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D73-E8D5-4DF0-8305-0B637A48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9EE-9644-4286-9E77-DCF7FA68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8A0-C426-4395-9743-C3C664DD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274-E547-4115-8132-5CF72F5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E20-B1F7-4642-9757-D3670A34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1C00-DFD2-4E33-B3D4-C4A45A3E4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760" y="62373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6846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9:35:01Z</dcterms:created>
  <dc:creator>111</dc:creator>
  <dc:description/>
  <dc:language>en-US</dc:language>
  <cp:lastModifiedBy/>
  <dcterms:modified xsi:type="dcterms:W3CDTF">2015-01-08T12:32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