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5144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2856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2856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5144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5144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5144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5144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5144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2856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2856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5144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5144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5144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5144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9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2856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5144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315200" cy="7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77f0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315200" cy="7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77f0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4908600"/>
            <a:ext cx="46479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77f0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160" y="6019560"/>
            <a:ext cx="46479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77f07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77f0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2971440"/>
            <a:ext cx="670572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661320"/>
            <a:ext cx="69343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7f07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324480"/>
            <a:ext cx="50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77f0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8bd06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微软中国</cp:lastModifiedBy>
  <dcterms:modified xsi:type="dcterms:W3CDTF">2015-01-08T08:28:42Z</dcterms:modified>
  <cp:revision>12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